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正音" id="0">
      <p:sldLst>
        <p:sld r:id="rId5"/>
      </p:sldLst>
    </p:custShow>
    <p:custShow name="活用" id="1">
      <p:sldLst>
        <p:sld r:id="rId6"/>
      </p:sldLst>
    </p:custShow>
    <p:custShow name="辨析" id="2">
      <p:sldLst>
        <p:sld r:id="rId7"/>
      </p:sldLst>
    </p:custShow>
    <p:custShow name="通假" id="3">
      <p:sldLst>
        <p:sld r:id="rId8"/>
      </p:sldLst>
    </p:custShow>
    <p:custShow name="解释" id="4">
      <p:sldLst>
        <p:sld r:id="rId9"/>
      </p:sldLst>
    </p:custShow>
    <p:custShow name="句式" id="5">
      <p:sldLst>
        <p:sld r:id="rId10"/>
      </p:sldLst>
    </p:custShow>
    <p:custShow name="来源" id="6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F3D-B473-4E3B-A08A-8C7F57F5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9CA-4CA0-4A63-8CC9-528B051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221-A917-4B39-902A-80A0E12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303-019C-47B0-AA20-A53D3F32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C4B-0CED-428E-B7E0-9CC181FF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CB6-4643-431D-8845-37B214BC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11E-B347-42F1-BE3B-B06CBF4B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471-44CC-4B03-963D-789CA23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DCE-9D48-4509-A4D3-1476A94F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3EE-1A64-40BC-B73F-FDE696F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6A6-2990-4E08-97F9-78C1533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D1D-9138-48AF-B29C-E094D6B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D5C-4870-4036-99B6-06B8B2814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5040" y="1401840"/>
            <a:ext cx="280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秋  水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73392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《庄子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680" y="4724280"/>
            <a:ext cx="92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黑龙江齐齐哈尔车辆厂第一中学语文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姜国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144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课堂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则寓言故事包含哪些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人贵有自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谦受益，满招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91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自大由于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76320" cy="2666880"/>
          </a:xfrm>
          <a:custGeom>
            <a:avLst/>
            <a:gdLst>
              <a:gd name="textAreaLeft" fmla="*/ 22320 w 76320"/>
              <a:gd name="textAreaRight" fmla="*/ 76320 w 76320"/>
              <a:gd name="textAreaTop" fmla="*/ 110880 h 2666880"/>
              <a:gd name="textAreaBottom" fmla="*/ 25560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知耻近于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0481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克服主观主义，防止片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有比较才有鉴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1773360"/>
            <a:ext cx="7543800" cy="2361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焉河伯欣然自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焉用亡郑以陪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吾子又死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寒暑易节，始一反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2205000"/>
            <a:ext cx="381240" cy="15238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2050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中语气助词，表停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56536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疑问代词，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924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词，于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284640"/>
            <a:ext cx="245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末语气助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19720"/>
            <a:ext cx="75438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天下之美尽在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其无礼于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越国以鄙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舍郑以为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吾一日长乎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6880" y="53546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5280" y="45720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，认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5280" y="497376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334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词，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56386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7560" y="59641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词，因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73320" y="907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整理归纳词语意义和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77120" y="266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57200"/>
            <a:ext cx="82296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与“莫己若”的句式完全相同的一项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吾知也。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赵氏求救于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是寡人之过也。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何后之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给下列句式附上例句，并译成现代汉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762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70680" y="534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本文的写作技巧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828800"/>
            <a:ext cx="780408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对比手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寓言与比喻说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9756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9600" spc="-1" strike="noStrike" u="sng">
              <a:solidFill>
                <a:srgbClr val="ff0000"/>
              </a:solidFill>
              <a:uFillTx/>
              <a:latin typeface="Times New Roman"/>
              <a:ea typeface="宋体-方正超大字符集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黑龙江齐齐齐哈尔车辆厂第一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姜国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836640"/>
            <a:ext cx="4752720" cy="266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家作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143000"/>
            <a:ext cx="792468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，名周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战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蒙人，他继承并发展了老子的思想，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道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派的重要代表人物，世称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老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庄子思想属于主观唯心主义体系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认识论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走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对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庄子对待生活的态度是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顺应自然。在政治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他主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为而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庄子》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想象奇幻，构思巧妙，善用寓言和比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具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浪漫主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艺术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8640" y="1828800"/>
            <a:ext cx="47617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泾：同“径”，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jì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涘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渚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殆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à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77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76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9480" y="141912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按时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9480" y="2514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状语，向东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09480" y="3657600"/>
            <a:ext cx="37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名词用作动词，面对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4848120"/>
            <a:ext cx="80773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意动用法，以……为少，以……为轻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6130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仲尼之闻，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轻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伯夷之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3171960"/>
            <a:ext cx="4383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而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0440" y="2057400"/>
            <a:ext cx="23252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顺流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9080" y="914400"/>
            <a:ext cx="2081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秋水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35520" y="5410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以天下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尽在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800" y="5867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形容词用作名词，美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095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表示达到某种程度，或表示另提一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修养很高、明白道理的人，或专通某种学     问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819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吝啬；</a:t>
            </a:r>
            <a:r>
              <a:rPr b="1" lang="zh-CN" sz="2800" spc="-1" strike="noStrike">
                <a:solidFill>
                  <a:srgbClr val="0000ff"/>
                </a:solidFill>
                <a:latin typeface="Monotype Sorts"/>
                <a:ea typeface="Monotype Sorts"/>
              </a:rPr>
              <a:t>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自然，不拘束；不俗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276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特指黄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9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然的或人工的大水道，泛指河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3120" y="272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古今词义辨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7840" y="1066680"/>
            <a:ext cx="1982880" cy="1054080"/>
            <a:chOff x="357840" y="1066680"/>
            <a:chExt cx="1982880" cy="1054080"/>
          </a:xfrm>
        </p:grpSpPr>
        <p:sp>
          <p:nvSpPr>
            <p:cNvPr id="67" name=""/>
            <p:cNvSpPr/>
            <p:nvPr/>
          </p:nvSpPr>
          <p:spPr>
            <a:xfrm>
              <a:off x="1031760" y="129528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7840" y="1333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至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9920" y="1066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古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9920" y="1600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今义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9080" y="2209680"/>
            <a:ext cx="1860840" cy="992880"/>
            <a:chOff x="469080" y="2209680"/>
            <a:chExt cx="1860840" cy="992880"/>
          </a:xfrm>
        </p:grpSpPr>
        <p:sp>
          <p:nvSpPr>
            <p:cNvPr id="72" name=""/>
            <p:cNvSpPr/>
            <p:nvPr/>
          </p:nvSpPr>
          <p:spPr>
            <a:xfrm>
              <a:off x="1143000" y="23857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080" y="2423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大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560" y="2209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0560" y="2742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2840" y="3276720"/>
            <a:ext cx="1982160" cy="992880"/>
            <a:chOff x="42840" y="3276720"/>
            <a:chExt cx="1982160" cy="992880"/>
          </a:xfrm>
        </p:grpSpPr>
        <p:sp>
          <p:nvSpPr>
            <p:cNvPr id="77" name=""/>
            <p:cNvSpPr/>
            <p:nvPr/>
          </p:nvSpPr>
          <p:spPr>
            <a:xfrm>
              <a:off x="838080" y="345276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0" y="3500280"/>
              <a:ext cx="7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640" y="327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古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64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今义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9640" y="882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37492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流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930480"/>
            <a:ext cx="281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牛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7080" y="24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泾同“径”，径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3933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辩同“辨”，分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1068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9160" y="1623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泛指众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2587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水边，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5514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视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61400" y="4514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见闻，学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54320" y="5478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危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30080" y="1386000"/>
            <a:ext cx="25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闻道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1068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0" y="5197320"/>
            <a:ext cx="34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吾长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笑于大方之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1280" y="39387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谓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3800" y="269388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为莫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己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3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定语后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711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3946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宾语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5197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被动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0720" y="1843200"/>
            <a:ext cx="2519280" cy="520560"/>
            <a:chOff x="1980720" y="1843200"/>
            <a:chExt cx="2519280" cy="520560"/>
          </a:xfrm>
        </p:grpSpPr>
        <p:grpSp>
          <p:nvGrpSpPr>
            <p:cNvPr id="102" name=""/>
            <p:cNvGrpSpPr/>
            <p:nvPr/>
          </p:nvGrpSpPr>
          <p:grpSpPr>
            <a:xfrm>
              <a:off x="1980720" y="1980720"/>
              <a:ext cx="746640" cy="305280"/>
              <a:chOff x="1980720" y="1980720"/>
              <a:chExt cx="746640" cy="305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727360" y="19810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980720" y="2286000"/>
                <a:ext cx="74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81080" y="1980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634120" y="1843200"/>
              <a:ext cx="186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定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23720" y="3138480"/>
            <a:ext cx="2600280" cy="520560"/>
            <a:chOff x="3123720" y="3138480"/>
            <a:chExt cx="2600280" cy="520560"/>
          </a:xfrm>
        </p:grpSpPr>
        <p:grpSp>
          <p:nvGrpSpPr>
            <p:cNvPr id="108" name=""/>
            <p:cNvGrpSpPr/>
            <p:nvPr/>
          </p:nvGrpSpPr>
          <p:grpSpPr>
            <a:xfrm>
              <a:off x="3123720" y="3290400"/>
              <a:ext cx="896400" cy="305280"/>
              <a:chOff x="3123720" y="3290400"/>
              <a:chExt cx="896400" cy="30528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0120" y="329076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3123720" y="3595680"/>
                <a:ext cx="89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124080" y="3290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930840" y="3138480"/>
              <a:ext cx="179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52480" y="4419720"/>
            <a:ext cx="3106440" cy="520560"/>
            <a:chOff x="1752480" y="4419720"/>
            <a:chExt cx="3106440" cy="520560"/>
          </a:xfrm>
        </p:grpSpPr>
        <p:grpSp>
          <p:nvGrpSpPr>
            <p:cNvPr id="114" name=""/>
            <p:cNvGrpSpPr/>
            <p:nvPr/>
          </p:nvGrpSpPr>
          <p:grpSpPr>
            <a:xfrm>
              <a:off x="1752480" y="4495680"/>
              <a:ext cx="1370160" cy="290880"/>
              <a:chOff x="1752480" y="4495680"/>
              <a:chExt cx="1370160" cy="29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3122640" y="449604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752480" y="4786560"/>
                <a:ext cx="137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752480" y="4495680"/>
                <a:ext cx="0" cy="29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031920" y="4419720"/>
              <a:ext cx="182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宾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314440" y="586728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在动词前，表被动，相当于“被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61560" y="1612800"/>
            <a:ext cx="963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于是河伯始旋其面目，望洋向若而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吾长见笑于大方之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0080" y="3124080"/>
            <a:ext cx="757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望洋兴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仰望海神若而兴叹。本义指在伟大的事物面前感叹自己的藐小，今多比喻要做一件而力量不够，感到无可奈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5003640"/>
            <a:ext cx="7635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见笑大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（贻笑大方，大方之家，方家）大方，行家，泛指有专长的人。指让内行见笑。多用作谦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列语句含有两个成语，请找出来并加以解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2:31:05Z</dcterms:created>
  <dc:creator>ctdn</dc:creator>
  <dc:description/>
  <dc:language>en-US</dc:language>
  <cp:lastModifiedBy>y</cp:lastModifiedBy>
  <dcterms:modified xsi:type="dcterms:W3CDTF">2008-02-20T06:29:29Z</dcterms:modified>
  <cp:revision>53</cp:revision>
  <dc:subject/>
  <dc:title>PowerPoint 演示文稿</dc:title>
</cp:coreProperties>
</file>