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4.wmf" ContentType="image/x-wmf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image7.gif" ContentType="image/gi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8EA-E2CC-4DAF-8311-4946CFDC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61C-3C04-4135-A9F9-0D8EB8CD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DC0-8808-4DD0-BC08-5CDC78CC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8BD-FFB7-4C9D-BD02-B3967565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874-5A39-4005-8638-99757729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D6D-41E5-4393-8654-92E5ECA0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3F1-E636-4EA7-B80A-07372791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A3C-B05A-4BC2-A855-117B6ACF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4B7-7033-43CD-ABCF-FFEA7AE0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134-93B3-4BE0-9035-E93587A6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B2E-07E8-41F5-8B93-F401177A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6EF-915F-4607-BACB-97105210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70F7-8DBC-49EB-9366-4BF3B49B7B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slide" Target=""/><Relationship Id="rId6" Type="http://schemas.openxmlformats.org/officeDocument/2006/relationships/image" Target="../media/image8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slide" Target="slide8.xml"/><Relationship Id="rId6" Type="http://schemas.openxmlformats.org/officeDocument/2006/relationships/image" Target="../media/image8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38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走一步，再走一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2004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国  莫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亨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32000" y="350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积跬步无以至千里，不积小溪无以成江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 txBox="1"/>
          <p:nvPr/>
        </p:nvSpPr>
        <p:spPr>
          <a:xfrm>
            <a:off x="320364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课文主旨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的危险和困难，只要把它分解开来，分解为一小步一小步，困难就不大了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263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敢问路在何方？路在脚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77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一口吃不了个胖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04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人在人生的道路上不可能一帆风顺。遇到困难，感受挫折都是很正常的。只要我们不失自信，牢记“不要想着距离有多远，你只要想着你是在走一小步，你能办得到的”，那什么样的艰难险阻都将被你踩在脚下。别忘了，把你的这种感受传给那些正在遭受困难的人们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657600"/>
            <a:ext cx="6019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走一步，再走一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天地就将不一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81080" y="2590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581280"/>
            <a:ext cx="5943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溪流走一步是江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江河再走一步是海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204880" y="914400"/>
            <a:ext cx="2643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深秋走一步是寒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寒冬再走一步便是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88480" y="228600"/>
            <a:ext cx="171684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挫折走一步或许还是失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失败再走一步可能就是成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04920"/>
            <a:ext cx="5333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咫尺天涯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步往往很难迈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449568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就没有了下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就没有了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68580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路尽天绝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妨尝试着再走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3124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万水千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9625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只源于最初的那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6d3e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5400000">
            <a:off x="-1218960" y="2666880"/>
            <a:ext cx="464796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读一读  写一写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609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训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600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耸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657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4724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5715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纳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瘦骨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嶙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1600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心惊肉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5909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头晕目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657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小心翼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2362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3200" y="1828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幼圆"/>
                <a:ea typeface="幼圆"/>
              </a:rPr>
              <a:t>2  </a:t>
            </a:r>
            <a:r>
              <a:rPr b="0" lang="zh-CN" sz="3200" spc="-1" strike="noStrike">
                <a:solidFill>
                  <a:srgbClr val="3333cc"/>
                </a:solidFill>
                <a:latin typeface="幼圆"/>
                <a:ea typeface="幼圆"/>
              </a:rPr>
              <a:t>发生在什么时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819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3  </a:t>
            </a:r>
            <a:r>
              <a:rPr b="0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爬悬崖的一共有几个孩子？有名字的有几个？叫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4267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幼圆"/>
                <a:ea typeface="幼圆"/>
              </a:rPr>
              <a:t>4  </a:t>
            </a:r>
            <a:r>
              <a:rPr b="0" lang="zh-CN" sz="3200" spc="-1" strike="noStrike">
                <a:solidFill>
                  <a:srgbClr val="ff9900"/>
                </a:solidFill>
                <a:latin typeface="幼圆"/>
                <a:ea typeface="幼圆"/>
              </a:rPr>
              <a:t>悬崖有多高？岩石架有多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-266760" y="369540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抢答题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8380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1  </a:t>
            </a:r>
            <a:r>
              <a:rPr b="0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故事发生在美国哪个城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493640" cy="168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2680" y="3808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讨论与思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3716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文主要记叙了什么事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209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件事发生在何时何地？发生的原因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971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”为什么“一时拿不定主意”？后来又为什么跟着伙伴们去爬山了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114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”在爬山途中遇到了哪些困难？当时“我”是怎么想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51814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来“我”又是怎样脱险的？脱险以后“我”有什么感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43200" y="30492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复述要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7524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跳读课文，抓住以上讨论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895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重点细节，尤其是脱险部分，尽量用课文原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419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口齿清楚，能正确表达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-360"/>
            <a:ext cx="8317080" cy="5590080"/>
            <a:chOff x="0" y="-360"/>
            <a:chExt cx="8317080" cy="55900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2663640" y="278136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1258920" y="2279520"/>
            <a:ext cx="766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我眼中却是高不可攀的险峰。（未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落在最后，全身颤抖，冷汗直冒。我的心在瘦骨嶙峋的胸腔里冬冬直跳。（跟着他们向上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蹲在石架上，心惊肉跳，尽量往里靠。我看在眼里，吓得几乎晕倒。（终于爬上石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软弱地哀求。感到头晕目眩、啜泣。恐惧和疲乏使我全身麻木，不能动弹。（伏在岩石上，上不去下不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遇到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0" y="2289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5" action="ppaction://hlinksldjump"/>
          </p:cNvPr>
          <p:cNvSpPr/>
          <p:nvPr/>
        </p:nvSpPr>
        <p:spPr>
          <a:xfrm>
            <a:off x="0" y="545868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58920" y="2421000"/>
            <a:ext cx="78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杰利带来了我的父亲。（听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的手电光照着我，安慰我。（我哭着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教我把左脚踏到石架下面那块岩石上。（我顿时有了信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教我把右脚移到右边稍低一点的地方。（我的信心大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每次只移动一小步，慢慢爬下悬崖，投入了父亲强壮的手臂中。（啜泣了一会儿，产生了一种巨大的成就感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-360"/>
            <a:ext cx="8317080" cy="5590080"/>
            <a:chOff x="0" y="-360"/>
            <a:chExt cx="8317080" cy="559008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2663640" y="278136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851280" y="1700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脱险的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0" y="192960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0" y="552996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1844640"/>
            <a:ext cx="727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课文内容看，标题“走一步，再走一步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人生道路上，面对困难，“走了一步，再走下一步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巨大的困难分成“一步一步”，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为什么不要想着距离有多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0364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主旨探究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26920" y="1267920"/>
            <a:ext cx="8317080" cy="5589360"/>
            <a:chOff x="826920" y="1267920"/>
            <a:chExt cx="8317080" cy="55893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16560" y="4068720"/>
              <a:ext cx="5432040" cy="1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826920" y="6664320"/>
              <a:ext cx="8317080" cy="18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34:55Z</dcterms:created>
  <dc:creator>teacher</dc:creator>
  <dc:description/>
  <dc:language>en-US</dc:language>
  <cp:lastModifiedBy>island</cp:lastModifiedBy>
  <dcterms:modified xsi:type="dcterms:W3CDTF">2010-09-08T06:14:09Z</dcterms:modified>
  <cp:revision>14</cp:revision>
  <dc:subject/>
  <dc:title>PowerPoint 演示文稿</dc:title>
</cp:coreProperties>
</file>