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gif" ContentType="image/gif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37DE3-2829-4D20-82F7-8735CFEF7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a1e47"/>
              </a:solidFill>
              <a:latin typeface="-보람B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680" y="1599840"/>
            <a:ext cx="7772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3384c"/>
              </a:solidFill>
              <a:latin typeface="-보람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66680" y="3828600"/>
            <a:ext cx="7772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3384c"/>
              </a:solidFill>
              <a:latin typeface="-보람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A1590-C608-44F6-91B9-7A18B531C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a1e47"/>
              </a:solidFill>
              <a:latin typeface="-보람B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15998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3384c"/>
              </a:solidFill>
              <a:latin typeface="-보람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9360" y="15998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3384c"/>
              </a:solidFill>
              <a:latin typeface="-보람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66680" y="382860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3384c"/>
              </a:solidFill>
              <a:latin typeface="-보람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9360" y="382860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3384c"/>
              </a:solidFill>
              <a:latin typeface="-보람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AC2A9-8E85-43FC-97EF-9B9B71550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a1e47"/>
              </a:solidFill>
              <a:latin typeface="-보람B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680" y="159984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3384c"/>
              </a:solidFill>
              <a:latin typeface="-보람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94680" y="159984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3384c"/>
              </a:solidFill>
              <a:latin typeface="-보람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22320" y="159984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3384c"/>
              </a:solidFill>
              <a:latin typeface="-보람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66680" y="382860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3384c"/>
              </a:solidFill>
              <a:latin typeface="-보람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94680" y="382860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3384c"/>
              </a:solidFill>
              <a:latin typeface="-보람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22320" y="382860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3384c"/>
              </a:solidFill>
              <a:latin typeface="-보람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02E71-2AAC-4AAC-9074-EFD18767F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1457C-7016-4D1E-861E-B098DF231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a1e47"/>
              </a:solidFill>
              <a:latin typeface="-보람B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66680" y="15998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bdd"/>
              </a:solidFill>
              <a:latin typeface="-보람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499A5-E64D-4B6D-825B-31C19E280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a1e47"/>
              </a:solidFill>
              <a:latin typeface="-보람B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66680" y="15998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3384c"/>
              </a:solidFill>
              <a:latin typeface="-보람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B6782-BC91-4501-8407-68A519BBB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a1e47"/>
              </a:solidFill>
              <a:latin typeface="-보람B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66680" y="159984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3384c"/>
              </a:solidFill>
              <a:latin typeface="-보람M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49360" y="159984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3384c"/>
              </a:solidFill>
              <a:latin typeface="-보람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5C029-50FC-48F6-A685-ACFA5E6AC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a1e47"/>
              </a:solidFill>
              <a:latin typeface="-보람B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8368A-BA26-49A8-B73B-4B98A3731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914400" y="3049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bdd"/>
              </a:solidFill>
              <a:latin typeface="-보람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E128C-6402-439F-9F59-BE41FA7AC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a1e47"/>
              </a:solidFill>
              <a:latin typeface="-보람B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15998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3384c"/>
              </a:solidFill>
              <a:latin typeface="-보람M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49360" y="159984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3384c"/>
              </a:solidFill>
              <a:latin typeface="-보람M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66680" y="382860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3384c"/>
              </a:solidFill>
              <a:latin typeface="-보람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B6B1F-0C97-4B5B-B3CE-1D8A0753F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a1e47"/>
              </a:solidFill>
              <a:latin typeface="-보람B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66680" y="15998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bdd"/>
              </a:solidFill>
              <a:latin typeface="-보람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4C2C4-C3D8-4EA3-9DEF-2C19C4E82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a1e47"/>
              </a:solidFill>
              <a:latin typeface="-보람B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66680" y="159984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3384c"/>
              </a:solidFill>
              <a:latin typeface="-보람M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49360" y="15998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3384c"/>
              </a:solidFill>
              <a:latin typeface="-보람M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049360" y="382860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3384c"/>
              </a:solidFill>
              <a:latin typeface="-보람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504CB-1629-4769-9CEB-1C7254083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a1e47"/>
              </a:solidFill>
              <a:latin typeface="-보람B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15998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3384c"/>
              </a:solidFill>
              <a:latin typeface="-보람M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15998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3384c"/>
              </a:solidFill>
              <a:latin typeface="-보람M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3828600"/>
            <a:ext cx="7772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3384c"/>
              </a:solidFill>
              <a:latin typeface="-보람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E52C4-F126-48D2-AC34-96F87FA86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a1e47"/>
              </a:solidFill>
              <a:latin typeface="-보람B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1599840"/>
            <a:ext cx="7772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3384c"/>
              </a:solidFill>
              <a:latin typeface="-보람M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66680" y="3828600"/>
            <a:ext cx="7772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3384c"/>
              </a:solidFill>
              <a:latin typeface="-보람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C70C3-EF60-4D89-A037-31BABD28C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a1e47"/>
              </a:solidFill>
              <a:latin typeface="-보람B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15998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3384c"/>
              </a:solidFill>
              <a:latin typeface="-보람M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15998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3384c"/>
              </a:solidFill>
              <a:latin typeface="-보람M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382860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3384c"/>
              </a:solidFill>
              <a:latin typeface="-보람M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049360" y="382860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3384c"/>
              </a:solidFill>
              <a:latin typeface="-보람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C1DA6-5F5F-4E71-9ED4-5EF15688B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a1e47"/>
              </a:solidFill>
              <a:latin typeface="-보람B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159984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3384c"/>
              </a:solidFill>
              <a:latin typeface="-보람M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694680" y="159984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3384c"/>
              </a:solidFill>
              <a:latin typeface="-보람M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322320" y="159984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3384c"/>
              </a:solidFill>
              <a:latin typeface="-보람M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66680" y="382860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3384c"/>
              </a:solidFill>
              <a:latin typeface="-보람M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694680" y="382860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3384c"/>
              </a:solidFill>
              <a:latin typeface="-보람M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322320" y="382860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3384c"/>
              </a:solidFill>
              <a:latin typeface="-보람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00751-A7B8-45BF-B367-F4A1F7702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90D31D-2B33-449A-A067-D7E7048F1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a1e47"/>
              </a:solidFill>
              <a:latin typeface="-보람B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066680" y="15998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bdd"/>
              </a:solidFill>
              <a:latin typeface="-보람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F11E7E-DCF9-4C28-A3C5-00556409E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a1e47"/>
              </a:solidFill>
              <a:latin typeface="-보람B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680" y="15998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3384c"/>
              </a:solidFill>
              <a:latin typeface="-보람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20E467-0502-49AE-B696-2D5C0B2B6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a1e47"/>
              </a:solidFill>
              <a:latin typeface="-보람B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680" y="159984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3384c"/>
              </a:solidFill>
              <a:latin typeface="-보람M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49360" y="159984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3384c"/>
              </a:solidFill>
              <a:latin typeface="-보람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E83A11-A6D3-4F59-B88D-D1F44045B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a1e47"/>
              </a:solidFill>
              <a:latin typeface="-보람B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FB623E-E191-44E9-93AD-FE1758074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a1e47"/>
              </a:solidFill>
              <a:latin typeface="-보람B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66680" y="15998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3384c"/>
              </a:solidFill>
              <a:latin typeface="-보람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70F10-458E-4CA9-AFE6-07DC62424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914400" y="3049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bdd"/>
              </a:solidFill>
              <a:latin typeface="-보람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48E7E1-D1F3-4860-AF1D-C6C06557C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a1e47"/>
              </a:solidFill>
              <a:latin typeface="-보람B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680" y="15998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3384c"/>
              </a:solidFill>
              <a:latin typeface="-보람M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049360" y="159984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3384c"/>
              </a:solidFill>
              <a:latin typeface="-보람M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680" y="382860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3384c"/>
              </a:solidFill>
              <a:latin typeface="-보람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774E9E-F156-4084-B571-D0930CDB9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a1e47"/>
              </a:solidFill>
              <a:latin typeface="-보람B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6680" y="159984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3384c"/>
              </a:solidFill>
              <a:latin typeface="-보람M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049360" y="15998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3384c"/>
              </a:solidFill>
              <a:latin typeface="-보람M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049360" y="382860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3384c"/>
              </a:solidFill>
              <a:latin typeface="-보람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0D2B98-FAC2-432E-B3F8-CCC13086F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a1e47"/>
              </a:solidFill>
              <a:latin typeface="-보람B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5998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3384c"/>
              </a:solidFill>
              <a:latin typeface="-보람M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049360" y="15998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3384c"/>
              </a:solidFill>
              <a:latin typeface="-보람M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066680" y="3828600"/>
            <a:ext cx="7772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3384c"/>
              </a:solidFill>
              <a:latin typeface="-보람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7740FF-0AA8-4D79-BE66-36E058FFC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a1e47"/>
              </a:solidFill>
              <a:latin typeface="-보람B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599840"/>
            <a:ext cx="7772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3384c"/>
              </a:solidFill>
              <a:latin typeface="-보람M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1066680" y="3828600"/>
            <a:ext cx="7772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3384c"/>
              </a:solidFill>
              <a:latin typeface="-보람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15257E-D997-467F-B64D-C19CD85BE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a1e47"/>
              </a:solidFill>
              <a:latin typeface="-보람B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998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3384c"/>
              </a:solidFill>
              <a:latin typeface="-보람M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049360" y="15998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3384c"/>
              </a:solidFill>
              <a:latin typeface="-보람M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066680" y="382860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3384c"/>
              </a:solidFill>
              <a:latin typeface="-보람M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5049360" y="382860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3384c"/>
              </a:solidFill>
              <a:latin typeface="-보람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742DA0-CD25-4D00-8BF9-94D064504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a1e47"/>
              </a:solidFill>
              <a:latin typeface="-보람B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59984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3384c"/>
              </a:solidFill>
              <a:latin typeface="-보람M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694680" y="159984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3384c"/>
              </a:solidFill>
              <a:latin typeface="-보람M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322320" y="159984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3384c"/>
              </a:solidFill>
              <a:latin typeface="-보람M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1066680" y="382860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3384c"/>
              </a:solidFill>
              <a:latin typeface="-보람M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694680" y="382860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3384c"/>
              </a:solidFill>
              <a:latin typeface="-보람M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322320" y="382860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3384c"/>
              </a:solidFill>
              <a:latin typeface="-보람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B8EACF-8FFF-4D10-9837-5E336DD6E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a1e47"/>
              </a:solidFill>
              <a:latin typeface="-보람B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6680" y="159984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3384c"/>
              </a:solidFill>
              <a:latin typeface="-보람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9360" y="159984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3384c"/>
              </a:solidFill>
              <a:latin typeface="-보람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59E14-E065-44DA-9E43-4F37E61BD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a1e47"/>
              </a:solidFill>
              <a:latin typeface="-보람B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25527-DD4A-4AF6-85F1-B66D14078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14400" y="3049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bdd"/>
              </a:solidFill>
              <a:latin typeface="-보람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14F41-94F9-47A6-91E2-A2499EAC3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a1e47"/>
              </a:solidFill>
              <a:latin typeface="-보람B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680" y="15998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3384c"/>
              </a:solidFill>
              <a:latin typeface="-보람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9360" y="159984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3384c"/>
              </a:solidFill>
              <a:latin typeface="-보람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66680" y="382860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3384c"/>
              </a:solidFill>
              <a:latin typeface="-보람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16D14-E561-42D8-AA9E-4A3F76C84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a1e47"/>
              </a:solidFill>
              <a:latin typeface="-보람B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59984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3384c"/>
              </a:solidFill>
              <a:latin typeface="-보람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5998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3384c"/>
              </a:solidFill>
              <a:latin typeface="-보람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9360" y="382860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3384c"/>
              </a:solidFill>
              <a:latin typeface="-보람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646A2-F709-4CAE-A2BE-623D7DE3C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a1e47"/>
              </a:solidFill>
              <a:latin typeface="-보람B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680" y="15998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3384c"/>
              </a:solidFill>
              <a:latin typeface="-보람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9360" y="15998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3384c"/>
              </a:solidFill>
              <a:latin typeface="-보람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6680" y="3828600"/>
            <a:ext cx="7772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3384c"/>
              </a:solidFill>
              <a:latin typeface="-보람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F0B55-D129-44EB-A696-E48F11D3A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7A77C-7780-484D-BDD5-CECD07C6591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>
            <a:lum contrast="14000"/>
          </a:blip>
          <a:stretch/>
        </p:blipFill>
        <p:spPr>
          <a:xfrm>
            <a:off x="0" y="0"/>
            <a:ext cx="9159840" cy="68673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a1e47"/>
                </a:solidFill>
                <a:latin typeface="-보람B"/>
              </a:rPr>
              <a:t>Click to edit the title text format</a:t>
            </a:r>
            <a:endParaRPr b="0" lang="en-US" sz="3200" spc="-1" strike="noStrike">
              <a:solidFill>
                <a:srgbClr val="ca1e47"/>
              </a:solidFill>
              <a:latin typeface="-보람B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66680" y="15998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3384c"/>
              </a:buClr>
              <a:buFont typeface="-보람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3384c"/>
                </a:solidFill>
                <a:latin typeface="-보람M"/>
              </a:rPr>
              <a:t>Click to edit the outline text format</a:t>
            </a:r>
            <a:endParaRPr b="0" lang="en-US" sz="2200" spc="-1" strike="noStrike">
              <a:solidFill>
                <a:srgbClr val="43384c"/>
              </a:solidFill>
              <a:latin typeface="-보람M"/>
            </a:endParaRPr>
          </a:p>
          <a:p>
            <a:pPr lvl="1" marL="743040" indent="-285840">
              <a:spcBef>
                <a:spcPts val="550"/>
              </a:spcBef>
              <a:buClr>
                <a:srgbClr val="43384c"/>
              </a:buClr>
              <a:buFont typeface="-보람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3384c"/>
                </a:solidFill>
                <a:latin typeface="-보람M"/>
              </a:rPr>
              <a:t>Second Outline Level</a:t>
            </a:r>
            <a:endParaRPr b="0" lang="en-US" sz="2200" spc="-1" strike="noStrike">
              <a:solidFill>
                <a:srgbClr val="43384c"/>
              </a:solidFill>
              <a:latin typeface="-보람M"/>
            </a:endParaRPr>
          </a:p>
          <a:p>
            <a:pPr lvl="2" marL="1143000" indent="-228600">
              <a:spcBef>
                <a:spcPts val="550"/>
              </a:spcBef>
              <a:buClr>
                <a:srgbClr val="43384c"/>
              </a:buClr>
              <a:buFont typeface="-보람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3384c"/>
                </a:solidFill>
                <a:latin typeface="-보람M"/>
              </a:rPr>
              <a:t>Third Outline Level</a:t>
            </a:r>
            <a:endParaRPr b="0" lang="en-US" sz="2200" spc="-1" strike="noStrike">
              <a:solidFill>
                <a:srgbClr val="43384c"/>
              </a:solidFill>
              <a:latin typeface="-보람M"/>
            </a:endParaRPr>
          </a:p>
          <a:p>
            <a:pPr lvl="3" marL="1600200" indent="-228600">
              <a:spcBef>
                <a:spcPts val="550"/>
              </a:spcBef>
              <a:buClr>
                <a:srgbClr val="43384c"/>
              </a:buClr>
              <a:buFont typeface="-보람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3384c"/>
                </a:solidFill>
                <a:latin typeface="-보람M"/>
              </a:rPr>
              <a:t>Fourth Outline Level</a:t>
            </a:r>
            <a:endParaRPr b="0" lang="en-US" sz="2200" spc="-1" strike="noStrike">
              <a:solidFill>
                <a:srgbClr val="43384c"/>
              </a:solidFill>
              <a:latin typeface="-보람M"/>
            </a:endParaRPr>
          </a:p>
          <a:p>
            <a:pPr lvl="4" marL="2057400" indent="-228600">
              <a:spcBef>
                <a:spcPts val="550"/>
              </a:spcBef>
              <a:buClr>
                <a:srgbClr val="43384c"/>
              </a:buClr>
              <a:buFont typeface="-보람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3384c"/>
                </a:solidFill>
                <a:latin typeface="-보람M"/>
              </a:rPr>
              <a:t>Fifth Outline Level</a:t>
            </a:r>
            <a:endParaRPr b="0" lang="en-US" sz="2200" spc="-1" strike="noStrike">
              <a:solidFill>
                <a:srgbClr val="43384c"/>
              </a:solidFill>
              <a:latin typeface="-보람M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-보람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3384c"/>
                </a:solidFill>
                <a:latin typeface="-보람M"/>
              </a:rPr>
              <a:t>Sixth Outline Level</a:t>
            </a:r>
            <a:endParaRPr b="0" lang="en-US" sz="2200" spc="-1" strike="noStrike">
              <a:solidFill>
                <a:srgbClr val="43384c"/>
              </a:solidFill>
              <a:latin typeface="-보람M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-보람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3384c"/>
                </a:solidFill>
                <a:latin typeface="-보람M"/>
              </a:rPr>
              <a:t>Seventh Outline Level</a:t>
            </a:r>
            <a:endParaRPr b="0" lang="en-US" sz="2200" spc="-1" strike="noStrike">
              <a:solidFill>
                <a:srgbClr val="43384c"/>
              </a:solidFill>
              <a:latin typeface="-보람M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1074600" y="6288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f4235"/>
                </a:solidFill>
                <a:latin typeface="-보람M"/>
                <a:ea typeface="-보람M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f4235"/>
                </a:solidFill>
                <a:latin typeface="-보람M"/>
                <a:ea typeface="-보람M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609720" y="62676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4f4235"/>
                </a:solidFill>
                <a:latin typeface="-보람M"/>
                <a:ea typeface="-보람M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4f4235"/>
                </a:solidFill>
                <a:latin typeface="-보람M"/>
                <a:ea typeface="-보람M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9418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4f4235"/>
                </a:solidFill>
                <a:latin typeface="-보람M"/>
                <a:ea typeface="-보람M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0EC5C-01F4-4BAE-A4A6-DBD45E4D5DBC}" type="slidenum">
              <a:rPr b="0" lang="ko-KR" sz="1400" spc="-1" strike="noStrike">
                <a:solidFill>
                  <a:srgbClr val="4f4235"/>
                </a:solidFill>
                <a:latin typeface="-보람M"/>
                <a:ea typeface="-보람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9840" cy="686736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6840" y="3243240"/>
            <a:ext cx="6553080" cy="10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ca1e47"/>
                </a:solidFill>
                <a:latin typeface="-보람B"/>
              </a:rPr>
              <a:t>Click to edit the title text format</a:t>
            </a:r>
            <a:endParaRPr b="0" lang="en-US" sz="4500" spc="-1" strike="noStrike">
              <a:solidFill>
                <a:srgbClr val="ca1e47"/>
              </a:solidFill>
              <a:latin typeface="-보람B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3660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f4235"/>
                </a:solidFill>
                <a:latin typeface="-보람M"/>
                <a:ea typeface="-보람M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f4235"/>
                </a:solidFill>
                <a:latin typeface="-보람M"/>
                <a:ea typeface="-보람M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8"/>
          </p:nvPr>
        </p:nvSpPr>
        <p:spPr>
          <a:xfrm>
            <a:off x="2501640" y="62294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4f4235"/>
                </a:solidFill>
                <a:latin typeface="-보람M"/>
                <a:ea typeface="-보람M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4f4235"/>
                </a:solidFill>
                <a:latin typeface="-보람M"/>
                <a:ea typeface="-보람M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9"/>
          </p:nvPr>
        </p:nvSpPr>
        <p:spPr>
          <a:xfrm>
            <a:off x="5599080" y="6210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4f4235"/>
                </a:solidFill>
                <a:latin typeface="-보람M"/>
                <a:ea typeface="-보람M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7C9E6-F3A6-4034-B223-3F0766895CD3}" type="slidenum">
              <a:rPr b="0" lang="ko-KR" sz="1400" spc="-1" strike="noStrike">
                <a:solidFill>
                  <a:srgbClr val="4f4235"/>
                </a:solidFill>
                <a:latin typeface="-보람M"/>
                <a:ea typeface="-보람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slide" Target="slide6.xml"/><Relationship Id="rId4" Type="http://schemas.openxmlformats.org/officeDocument/2006/relationships/image" Target="../media/image6.jpeg"/><Relationship Id="rId5" Type="http://schemas.openxmlformats.org/officeDocument/2006/relationships/slide" Target="slide9.xml"/><Relationship Id="rId6" Type="http://schemas.openxmlformats.org/officeDocument/2006/relationships/image" Target="../media/image6.jpeg"/><Relationship Id="rId7" Type="http://schemas.openxmlformats.org/officeDocument/2006/relationships/slide" Target="slide10.xml"/><Relationship Id="rId8" Type="http://schemas.openxmlformats.org/officeDocument/2006/relationships/image" Target="../media/image6.jpeg"/><Relationship Id="rId9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slide" Target="slide6.xml"/><Relationship Id="rId4" Type="http://schemas.openxmlformats.org/officeDocument/2006/relationships/image" Target="../media/image6.jpeg"/><Relationship Id="rId5" Type="http://schemas.openxmlformats.org/officeDocument/2006/relationships/slide" Target="slide9.xml"/><Relationship Id="rId6" Type="http://schemas.openxmlformats.org/officeDocument/2006/relationships/image" Target="../media/image6.jpeg"/><Relationship Id="rId7" Type="http://schemas.openxmlformats.org/officeDocument/2006/relationships/slide" Target="slide10.xml"/><Relationship Id="rId8" Type="http://schemas.openxmlformats.org/officeDocument/2006/relationships/image" Target="../media/image6.jpeg"/><Relationship Id="rId9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slide" Target="slide6.xml"/><Relationship Id="rId4" Type="http://schemas.openxmlformats.org/officeDocument/2006/relationships/image" Target="../media/image6.jpeg"/><Relationship Id="rId5" Type="http://schemas.openxmlformats.org/officeDocument/2006/relationships/slide" Target="slide9.xml"/><Relationship Id="rId6" Type="http://schemas.openxmlformats.org/officeDocument/2006/relationships/image" Target="../media/image6.jpeg"/><Relationship Id="rId7" Type="http://schemas.openxmlformats.org/officeDocument/2006/relationships/slide" Target="slide10.xml"/><Relationship Id="rId8" Type="http://schemas.openxmlformats.org/officeDocument/2006/relationships/image" Target="../media/image6.jpeg"/><Relationship Id="rId9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332000" y="404640"/>
            <a:ext cx="6553080" cy="10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0" y="4797360"/>
            <a:ext cx="9144000" cy="206064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2195640" y="3213000"/>
            <a:ext cx="4535280" cy="10994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3300"/>
                </a:solidFill>
                <a:latin typeface="Arial"/>
              </a:rPr>
              <a:t>第二课时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-198360" y="0"/>
            <a:ext cx="10983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8045280" y="0"/>
            <a:ext cx="1098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258920" y="2565360"/>
            <a:ext cx="748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感觉四个孩子的人品有问题。当自己的朋友遇上困难的时候，他们不仅不去拉自己的朋友一把，反而雪上加霜的嘲讽朋友，把他一人留在危险的石架上，这也是拿别人的生命开玩笑。他们根本不是真正的朋友，简直可恶之极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826920" y="1267920"/>
            <a:ext cx="8317080" cy="5590080"/>
            <a:chOff x="826920" y="1267920"/>
            <a:chExt cx="8317080" cy="5590080"/>
          </a:xfrm>
        </p:grpSpPr>
        <p:pic>
          <p:nvPicPr>
            <p:cNvPr id="194" name="" descr=""/>
            <p:cNvPicPr/>
            <p:nvPr/>
          </p:nvPicPr>
          <p:blipFill>
            <a:blip r:embed="rId1"/>
            <a:stretch/>
          </p:blipFill>
          <p:spPr>
            <a:xfrm flipH="1" rot="10800000">
              <a:off x="826920" y="1267560"/>
              <a:ext cx="8317080" cy="141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5" name="" descr=""/>
            <p:cNvPicPr/>
            <p:nvPr/>
          </p:nvPicPr>
          <p:blipFill>
            <a:blip r:embed="rId2"/>
            <a:stretch/>
          </p:blipFill>
          <p:spPr>
            <a:xfrm flipH="1" rot="5400000">
              <a:off x="-1836720" y="4049640"/>
              <a:ext cx="5472000" cy="14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6" name=""/>
          <p:cNvSpPr txBox="1"/>
          <p:nvPr/>
        </p:nvSpPr>
        <p:spPr>
          <a:xfrm>
            <a:off x="3635280" y="260280"/>
            <a:ext cx="2880000" cy="781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多角度阅读</a:t>
            </a:r>
            <a:endParaRPr b="1" lang="en-US" sz="4800" spc="1" strike="noStrike">
              <a:ln w="1260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197" name=""/>
          <p:cNvSpPr/>
          <p:nvPr/>
        </p:nvSpPr>
        <p:spPr>
          <a:xfrm>
            <a:off x="3132000" y="1413000"/>
            <a:ext cx="388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四个孩子的角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0" y="2073960"/>
            <a:ext cx="533520" cy="5205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3333cc"/>
            </a:solidFill>
            <a:miter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0" y="3874320"/>
            <a:ext cx="533520" cy="5205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3333cc"/>
            </a:solidFill>
            <a:miter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0" y="5603040"/>
            <a:ext cx="533520" cy="5205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3333cc"/>
            </a:solidFill>
            <a:miter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1835280" y="2349360"/>
            <a:ext cx="691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多角度阅读是这堂课学习的重点。以后在阅读的过程中同学们可学着运用它，它不仅可以让我们读出文章的新意，提高阅读质量，还可以提高我们的创造性阅读能力，拓展我们的思维空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826920" y="1267920"/>
            <a:ext cx="8317080" cy="5590080"/>
            <a:chOff x="826920" y="1267920"/>
            <a:chExt cx="8317080" cy="5590080"/>
          </a:xfrm>
        </p:grpSpPr>
        <p:pic>
          <p:nvPicPr>
            <p:cNvPr id="203" name="" descr=""/>
            <p:cNvPicPr/>
            <p:nvPr/>
          </p:nvPicPr>
          <p:blipFill>
            <a:blip r:embed="rId1"/>
            <a:stretch/>
          </p:blipFill>
          <p:spPr>
            <a:xfrm flipH="1" rot="10800000">
              <a:off x="826920" y="1267560"/>
              <a:ext cx="8317080" cy="141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4" name="" descr=""/>
            <p:cNvPicPr/>
            <p:nvPr/>
          </p:nvPicPr>
          <p:blipFill>
            <a:blip r:embed="rId2"/>
            <a:stretch/>
          </p:blipFill>
          <p:spPr>
            <a:xfrm flipH="1" rot="5400000">
              <a:off x="-1836720" y="4049640"/>
              <a:ext cx="5472000" cy="14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5" name=""/>
          <p:cNvSpPr txBox="1"/>
          <p:nvPr/>
        </p:nvSpPr>
        <p:spPr>
          <a:xfrm>
            <a:off x="3635280" y="260280"/>
            <a:ext cx="2880000" cy="781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教师小结</a:t>
            </a:r>
            <a:endParaRPr b="1" lang="en-US" sz="4800" spc="1" strike="noStrike">
              <a:ln w="1260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</p:spTree>
  </p:cSld>
  <p:transition>
    <p:wheel spokes="1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042920" y="1641600"/>
            <a:ext cx="8101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意大利著名画家达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芬奇的老师对达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芬奇谈自己画蛋的体会，他说：“即使是同一只蛋，只要变换一下角度，形状便立即不同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我国宋代伟大诗人苏轼也谈过类似的体会，他仔细观察过庐山，然后作诗云——“横看成岭侧成峰，远近高低各不同。不识庐山真面目，只缘身在此山中。”（这两则材料告诉我们，无论绘画还是观景，都要选择不同的角度。这样，才能发现事物、景物的不同特点，画画，才能画出新意；观景，才能观出新意。对一些意蕴丰富的文章也应如此，应从多个方面去想，读得有创意，提高阅读质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419640" y="333360"/>
            <a:ext cx="2879640" cy="781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多角度阅读</a:t>
            </a:r>
            <a:endParaRPr b="1" lang="en-US" sz="4800" spc="1" strike="noStrike">
              <a:ln w="1260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826920" y="1267920"/>
            <a:ext cx="8317080" cy="5590080"/>
            <a:chOff x="826920" y="1267920"/>
            <a:chExt cx="8317080" cy="5590080"/>
          </a:xfrm>
        </p:grpSpPr>
        <p:pic>
          <p:nvPicPr>
            <p:cNvPr id="132" name="" descr=""/>
            <p:cNvPicPr/>
            <p:nvPr/>
          </p:nvPicPr>
          <p:blipFill>
            <a:blip r:embed="rId1"/>
            <a:stretch/>
          </p:blipFill>
          <p:spPr>
            <a:xfrm flipH="1" rot="10800000">
              <a:off x="826920" y="1267560"/>
              <a:ext cx="8317080" cy="141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" descr=""/>
            <p:cNvPicPr/>
            <p:nvPr/>
          </p:nvPicPr>
          <p:blipFill>
            <a:blip r:embed="rId2"/>
            <a:stretch/>
          </p:blipFill>
          <p:spPr>
            <a:xfrm flipH="1" rot="5400000">
              <a:off x="-1836720" y="4049640"/>
              <a:ext cx="5472000" cy="1447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wheel spokes="1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1116000" y="1773360"/>
            <a:ext cx="777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多角度阅读关键在于确立角度。怎样确立角度呢？可以着眼于某一人物，也可以着眼于某一情节，提出问题，思考问题，也可拟一个中心话题。举个例子说，从杰利这个角度来读，中心话题可以是杰利什么地方做得对，什么地方做得不太好。由这个中心话题帮助阅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826920" y="1267920"/>
            <a:ext cx="8317080" cy="5590080"/>
            <a:chOff x="826920" y="1267920"/>
            <a:chExt cx="8317080" cy="5590080"/>
          </a:xfrm>
        </p:grpSpPr>
        <p:pic>
          <p:nvPicPr>
            <p:cNvPr id="136" name="" descr=""/>
            <p:cNvPicPr/>
            <p:nvPr/>
          </p:nvPicPr>
          <p:blipFill>
            <a:blip r:embed="rId1"/>
            <a:stretch/>
          </p:blipFill>
          <p:spPr>
            <a:xfrm flipH="1" rot="10800000">
              <a:off x="826920" y="1267560"/>
              <a:ext cx="8317080" cy="141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" name="" descr=""/>
            <p:cNvPicPr/>
            <p:nvPr/>
          </p:nvPicPr>
          <p:blipFill>
            <a:blip r:embed="rId2"/>
            <a:stretch/>
          </p:blipFill>
          <p:spPr>
            <a:xfrm flipH="1" rot="5400000">
              <a:off x="-1836720" y="4049640"/>
              <a:ext cx="5472000" cy="14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8" name=""/>
          <p:cNvSpPr txBox="1"/>
          <p:nvPr/>
        </p:nvSpPr>
        <p:spPr>
          <a:xfrm>
            <a:off x="3564000" y="260280"/>
            <a:ext cx="2879640" cy="781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多角度阅读</a:t>
            </a:r>
            <a:endParaRPr b="1" lang="en-US" sz="4800" spc="1" strike="noStrike">
              <a:ln w="1260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</p:spTree>
  </p:cSld>
  <p:transition>
    <p:wheel spokes="1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116000" y="1773360"/>
            <a:ext cx="2448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父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母亲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杰利   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四个孩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826920" y="1267920"/>
            <a:ext cx="8317080" cy="5590080"/>
            <a:chOff x="826920" y="1267920"/>
            <a:chExt cx="8317080" cy="5590080"/>
          </a:xfrm>
        </p:grpSpPr>
        <p:pic>
          <p:nvPicPr>
            <p:cNvPr id="141" name="" descr=""/>
            <p:cNvPicPr/>
            <p:nvPr/>
          </p:nvPicPr>
          <p:blipFill>
            <a:blip r:embed="rId1"/>
            <a:stretch/>
          </p:blipFill>
          <p:spPr>
            <a:xfrm flipH="1" rot="10800000">
              <a:off x="826920" y="1267560"/>
              <a:ext cx="8317080" cy="141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" name="" descr=""/>
            <p:cNvPicPr/>
            <p:nvPr/>
          </p:nvPicPr>
          <p:blipFill>
            <a:blip r:embed="rId2"/>
            <a:stretch/>
          </p:blipFill>
          <p:spPr>
            <a:xfrm flipH="1" rot="5400000">
              <a:off x="-1836720" y="4049640"/>
              <a:ext cx="5472000" cy="14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3" name=""/>
          <p:cNvSpPr/>
          <p:nvPr/>
        </p:nvSpPr>
        <p:spPr>
          <a:xfrm>
            <a:off x="5219640" y="2852640"/>
            <a:ext cx="3529080" cy="1739880"/>
          </a:xfrm>
          <a:prstGeom prst="rect">
            <a:avLst/>
          </a:prstGeom>
          <a:noFill/>
          <a:ln w="79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两两对比着来读，可从 “教子”和“交友”两个大角度来深入阅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1989000"/>
            <a:ext cx="287280" cy="1297080"/>
          </a:xfrm>
          <a:custGeom>
            <a:avLst/>
            <a:gdLst>
              <a:gd name="textAreaLeft" fmla="*/ 0 w 287280"/>
              <a:gd name="textAreaRight" fmla="*/ 103680 w 287280"/>
              <a:gd name="textAreaTop" fmla="*/ 33480 h 1297080"/>
              <a:gd name="textAreaBottom" fmla="*/ 1263600 h 1297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203640" y="4797360"/>
            <a:ext cx="287280" cy="1297080"/>
          </a:xfrm>
          <a:custGeom>
            <a:avLst/>
            <a:gdLst>
              <a:gd name="textAreaLeft" fmla="*/ 0 w 287280"/>
              <a:gd name="textAreaRight" fmla="*/ 103680 w 287280"/>
              <a:gd name="textAreaTop" fmla="*/ 33480 h 1297080"/>
              <a:gd name="textAreaBottom" fmla="*/ 1263600 h 1297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780000" y="2637000"/>
            <a:ext cx="502920" cy="2592360"/>
          </a:xfrm>
          <a:custGeom>
            <a:avLst/>
            <a:gdLst>
              <a:gd name="textAreaLeft" fmla="*/ 0 w 502920"/>
              <a:gd name="textAreaRight" fmla="*/ 181440 w 502920"/>
              <a:gd name="textAreaTop" fmla="*/ 67320 h 2592360"/>
              <a:gd name="textAreaBottom" fmla="*/ 2525040 h 259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635280" y="260280"/>
            <a:ext cx="2880000" cy="781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多角度阅读</a:t>
            </a:r>
            <a:endParaRPr b="1" lang="en-US" sz="4800" spc="1" strike="noStrike">
              <a:ln w="1260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</p:spTree>
  </p:cSld>
  <p:transition>
    <p:wheel spokes="1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1258920" y="1557360"/>
            <a:ext cx="7488360" cy="30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父亲为什么不直接把孩子抱下来？他不怕孩子失足吗？从中看出这是一位怎样的父亲？如果是母亲来的话，她又会怎样做？你能想象一下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杰利算是“我”真正的朋友吗？他为什么抛下我还是和大家一起走了？你能揣摩一下他当时的心理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四个小孩子的行为你欣赏吗？如果是你是其中的一位，你会怎么做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826920" y="1267920"/>
            <a:ext cx="8317080" cy="5590080"/>
            <a:chOff x="826920" y="1267920"/>
            <a:chExt cx="8317080" cy="5590080"/>
          </a:xfrm>
        </p:grpSpPr>
        <p:pic>
          <p:nvPicPr>
            <p:cNvPr id="150" name="" descr=""/>
            <p:cNvPicPr/>
            <p:nvPr/>
          </p:nvPicPr>
          <p:blipFill>
            <a:blip r:embed="rId1"/>
            <a:stretch/>
          </p:blipFill>
          <p:spPr>
            <a:xfrm flipH="1" rot="10800000">
              <a:off x="826920" y="1267560"/>
              <a:ext cx="8317080" cy="141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" descr=""/>
            <p:cNvPicPr/>
            <p:nvPr/>
          </p:nvPicPr>
          <p:blipFill>
            <a:blip r:embed="rId2"/>
            <a:stretch/>
          </p:blipFill>
          <p:spPr>
            <a:xfrm flipH="1" rot="5400000">
              <a:off x="-1836720" y="4049640"/>
              <a:ext cx="5472000" cy="14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2" name=""/>
          <p:cNvSpPr txBox="1"/>
          <p:nvPr/>
        </p:nvSpPr>
        <p:spPr>
          <a:xfrm>
            <a:off x="3635280" y="260280"/>
            <a:ext cx="2880000" cy="781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多角度阅读</a:t>
            </a:r>
            <a:endParaRPr b="1" lang="en-US" sz="4800" spc="1" strike="noStrike">
              <a:ln w="1260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153" name="">
            <a:hlinkClick r:id="rId3" action="ppaction://hlinksldjump"/>
          </p:cNvPr>
          <p:cNvSpPr/>
          <p:nvPr/>
        </p:nvSpPr>
        <p:spPr>
          <a:xfrm>
            <a:off x="0" y="2073960"/>
            <a:ext cx="533520" cy="5205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3333cc"/>
            </a:solidFill>
            <a:miter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>
            <a:hlinkClick r:id="rId5" action="ppaction://hlinksldjump"/>
          </p:cNvPr>
          <p:cNvSpPr/>
          <p:nvPr/>
        </p:nvSpPr>
        <p:spPr>
          <a:xfrm>
            <a:off x="0" y="3874320"/>
            <a:ext cx="533520" cy="5205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28440">
            <a:solidFill>
              <a:srgbClr val="3333cc"/>
            </a:solidFill>
            <a:miter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>
            <a:hlinkClick r:id="rId7" action="ppaction://hlinksldjump"/>
          </p:cNvPr>
          <p:cNvSpPr/>
          <p:nvPr/>
        </p:nvSpPr>
        <p:spPr>
          <a:xfrm>
            <a:off x="0" y="5603040"/>
            <a:ext cx="533520" cy="52056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28440">
            <a:solidFill>
              <a:srgbClr val="3333cc"/>
            </a:solidFill>
            <a:miter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476360" y="2276640"/>
            <a:ext cx="720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这是一位真正爱自己孩子的父亲，他不像别的父亲，爬山石架把儿子抱下来，而是让作者自己走一步，再走一步的下去。这是为锻炼孩子的勇气和毅力。如果他对孩子百依百顺，那只是让他更加娇气，一生一世都软弱无能。有句话说：“打是亲，骂是爱”，只有在磨练下才能成好钢，没有磨练的只是土块、锈铁。所以这位父亲是对孩子负责的真正爱孩子的父亲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826920" y="1267920"/>
            <a:ext cx="8317080" cy="5590080"/>
            <a:chOff x="826920" y="1267920"/>
            <a:chExt cx="8317080" cy="5590080"/>
          </a:xfrm>
        </p:grpSpPr>
        <p:pic>
          <p:nvPicPr>
            <p:cNvPr id="158" name="" descr=""/>
            <p:cNvPicPr/>
            <p:nvPr/>
          </p:nvPicPr>
          <p:blipFill>
            <a:blip r:embed="rId1"/>
            <a:stretch/>
          </p:blipFill>
          <p:spPr>
            <a:xfrm flipH="1" rot="10800000">
              <a:off x="826920" y="1267560"/>
              <a:ext cx="8317080" cy="141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9" name="" descr=""/>
            <p:cNvPicPr/>
            <p:nvPr/>
          </p:nvPicPr>
          <p:blipFill>
            <a:blip r:embed="rId2"/>
            <a:stretch/>
          </p:blipFill>
          <p:spPr>
            <a:xfrm flipH="1" rot="5400000">
              <a:off x="-1836720" y="4049640"/>
              <a:ext cx="5472000" cy="14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0" name=""/>
          <p:cNvSpPr txBox="1"/>
          <p:nvPr/>
        </p:nvSpPr>
        <p:spPr>
          <a:xfrm>
            <a:off x="3635280" y="260280"/>
            <a:ext cx="2880000" cy="781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多角度阅读</a:t>
            </a:r>
            <a:endParaRPr b="1" lang="en-US" sz="4800" spc="1" strike="noStrike">
              <a:ln w="1260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161" name=""/>
          <p:cNvSpPr/>
          <p:nvPr/>
        </p:nvSpPr>
        <p:spPr>
          <a:xfrm>
            <a:off x="3708360" y="1486080"/>
            <a:ext cx="273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父亲角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>
            <a:hlinkClick r:id="rId3" action="ppaction://hlinksldjump"/>
          </p:cNvPr>
          <p:cNvSpPr/>
          <p:nvPr/>
        </p:nvSpPr>
        <p:spPr>
          <a:xfrm>
            <a:off x="0" y="2073960"/>
            <a:ext cx="533520" cy="5205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3333cc"/>
            </a:solidFill>
            <a:miter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>
            <a:hlinkClick r:id="rId5" action="ppaction://hlinksldjump"/>
          </p:cNvPr>
          <p:cNvSpPr/>
          <p:nvPr/>
        </p:nvSpPr>
        <p:spPr>
          <a:xfrm>
            <a:off x="0" y="3874320"/>
            <a:ext cx="533520" cy="5205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28440">
            <a:solidFill>
              <a:srgbClr val="3333cc"/>
            </a:solidFill>
            <a:miter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>
            <a:hlinkClick r:id="rId7" action="ppaction://hlinksldjump"/>
          </p:cNvPr>
          <p:cNvSpPr/>
          <p:nvPr/>
        </p:nvSpPr>
        <p:spPr>
          <a:xfrm>
            <a:off x="0" y="5603040"/>
            <a:ext cx="533520" cy="52056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28440">
            <a:solidFill>
              <a:srgbClr val="3333cc"/>
            </a:solidFill>
            <a:miter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187280" y="2205000"/>
            <a:ext cx="76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这是一位明智、教子有方的父亲。父亲完全可以凭自己的实力抱孩子下来，但他不这样做，而是引导孩子凭自己的努力一步步地克服自己。其实，父亲这样做是想给孩子一份经验，一次锻炼，一个成就感，一份不怕任何困难的勇气。这是父爱的一种多么明智的体现，是真正的父爱。他在父亲的眼里，孩子克服困难的能力比生命更重要，因为，父亲知道，温室里的花朵是经不起风雨的，同样，被溺爱的孩子是经不起考验的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826920" y="1267920"/>
            <a:ext cx="8317080" cy="5590080"/>
            <a:chOff x="826920" y="1267920"/>
            <a:chExt cx="8317080" cy="5590080"/>
          </a:xfrm>
        </p:grpSpPr>
        <p:pic>
          <p:nvPicPr>
            <p:cNvPr id="167" name="" descr=""/>
            <p:cNvPicPr/>
            <p:nvPr/>
          </p:nvPicPr>
          <p:blipFill>
            <a:blip r:embed="rId1"/>
            <a:stretch/>
          </p:blipFill>
          <p:spPr>
            <a:xfrm flipH="1" rot="10800000">
              <a:off x="826920" y="1267560"/>
              <a:ext cx="8317080" cy="141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8" name="" descr=""/>
            <p:cNvPicPr/>
            <p:nvPr/>
          </p:nvPicPr>
          <p:blipFill>
            <a:blip r:embed="rId2"/>
            <a:stretch/>
          </p:blipFill>
          <p:spPr>
            <a:xfrm flipH="1" rot="5400000">
              <a:off x="-1836720" y="4049640"/>
              <a:ext cx="5472000" cy="14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9" name=""/>
          <p:cNvSpPr txBox="1"/>
          <p:nvPr/>
        </p:nvSpPr>
        <p:spPr>
          <a:xfrm>
            <a:off x="3635280" y="260280"/>
            <a:ext cx="2880000" cy="781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多角度阅读</a:t>
            </a:r>
            <a:endParaRPr b="1" lang="en-US" sz="4800" spc="1" strike="noStrike">
              <a:ln w="1260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170" name=""/>
          <p:cNvSpPr/>
          <p:nvPr/>
        </p:nvSpPr>
        <p:spPr>
          <a:xfrm>
            <a:off x="3708360" y="1486080"/>
            <a:ext cx="259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父亲角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>
            <a:hlinkClick r:id="rId3" action="ppaction://hlinksldjump"/>
          </p:cNvPr>
          <p:cNvSpPr/>
          <p:nvPr/>
        </p:nvSpPr>
        <p:spPr>
          <a:xfrm>
            <a:off x="0" y="2073960"/>
            <a:ext cx="533520" cy="5205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3333cc"/>
            </a:solidFill>
            <a:miter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>
            <a:hlinkClick r:id="rId5" action="ppaction://hlinksldjump"/>
          </p:cNvPr>
          <p:cNvSpPr/>
          <p:nvPr/>
        </p:nvSpPr>
        <p:spPr>
          <a:xfrm>
            <a:off x="0" y="3874320"/>
            <a:ext cx="533520" cy="5205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28440">
            <a:solidFill>
              <a:srgbClr val="3333cc"/>
            </a:solidFill>
            <a:miter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>
            <a:hlinkClick r:id="rId7" action="ppaction://hlinksldjump"/>
          </p:cNvPr>
          <p:cNvSpPr/>
          <p:nvPr/>
        </p:nvSpPr>
        <p:spPr>
          <a:xfrm>
            <a:off x="0" y="5603040"/>
            <a:ext cx="533520" cy="52056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28440">
            <a:solidFill>
              <a:srgbClr val="3333cc"/>
            </a:solidFill>
            <a:miter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258920" y="2421000"/>
            <a:ext cx="748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慈母多败儿。这位母亲一直告诫我不要冒险。在母亲的庇护下，“我”变得非常懦弱。如果杰利通知的是母亲的话，可能她会声嘶力竭地叫我别动，吓得脸色苍白，神经兮兮的叫了一大帮人来。之后母亲可能不允许我跨出家门半步，不准我与杰利玩。从此，世上多了一个废物，少了一个作家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826920" y="1267920"/>
            <a:ext cx="8317080" cy="5590080"/>
            <a:chOff x="826920" y="1267920"/>
            <a:chExt cx="8317080" cy="5590080"/>
          </a:xfrm>
        </p:grpSpPr>
        <p:pic>
          <p:nvPicPr>
            <p:cNvPr id="176" name="" descr=""/>
            <p:cNvPicPr/>
            <p:nvPr/>
          </p:nvPicPr>
          <p:blipFill>
            <a:blip r:embed="rId1"/>
            <a:stretch/>
          </p:blipFill>
          <p:spPr>
            <a:xfrm flipH="1" rot="10800000">
              <a:off x="826920" y="1267560"/>
              <a:ext cx="8317080" cy="141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7" name="" descr=""/>
            <p:cNvPicPr/>
            <p:nvPr/>
          </p:nvPicPr>
          <p:blipFill>
            <a:blip r:embed="rId2"/>
            <a:stretch/>
          </p:blipFill>
          <p:spPr>
            <a:xfrm flipH="1" rot="5400000">
              <a:off x="-1836720" y="4049640"/>
              <a:ext cx="5472000" cy="14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8" name=""/>
          <p:cNvSpPr txBox="1"/>
          <p:nvPr/>
        </p:nvSpPr>
        <p:spPr>
          <a:xfrm>
            <a:off x="3635280" y="260280"/>
            <a:ext cx="2880000" cy="781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多角度阅读</a:t>
            </a:r>
            <a:endParaRPr b="1" lang="en-US" sz="4800" spc="1" strike="noStrike">
              <a:ln w="1260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179" name=""/>
          <p:cNvSpPr/>
          <p:nvPr/>
        </p:nvSpPr>
        <p:spPr>
          <a:xfrm>
            <a:off x="3708360" y="1486080"/>
            <a:ext cx="266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母亲角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0" y="2073960"/>
            <a:ext cx="533520" cy="5205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3333cc"/>
            </a:solidFill>
            <a:miter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3874320"/>
            <a:ext cx="533520" cy="5205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3333cc"/>
            </a:solidFill>
            <a:miter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5603040"/>
            <a:ext cx="533520" cy="5205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3333cc"/>
            </a:solidFill>
            <a:miter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971640" y="2068560"/>
            <a:ext cx="7885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如果我是杰利，我会感到左右为难，一边是最要好的朋友，一边是更多的朋友。四个孩子一定不会让杰利帮“我”，而杰利也不想被嘲笑，不想失去这几个玩耍的朋友。所以杰利虽然“看来好像有点不放心”，但还是和大家一起走了。我想，，这也说明杰利低估了“我”的懦弱。他以为这么点悬崖，“我”总会下来的。再说，他一时也帮不了“我”。天越来越黑了，见“我”没回来，杰利的良心不安了，便告诉了“我”父亲，寻求大人帮助，把“我”从危险的边缘救了回来。杰利虽然有做得不对的地方，但他是“我”真正的朋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826920" y="1267920"/>
            <a:ext cx="8317080" cy="5590080"/>
            <a:chOff x="826920" y="1267920"/>
            <a:chExt cx="8317080" cy="5590080"/>
          </a:xfrm>
        </p:grpSpPr>
        <p:pic>
          <p:nvPicPr>
            <p:cNvPr id="185" name="" descr=""/>
            <p:cNvPicPr/>
            <p:nvPr/>
          </p:nvPicPr>
          <p:blipFill>
            <a:blip r:embed="rId1"/>
            <a:stretch/>
          </p:blipFill>
          <p:spPr>
            <a:xfrm flipH="1" rot="10800000">
              <a:off x="826920" y="1267560"/>
              <a:ext cx="8317080" cy="141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" descr=""/>
            <p:cNvPicPr/>
            <p:nvPr/>
          </p:nvPicPr>
          <p:blipFill>
            <a:blip r:embed="rId2"/>
            <a:stretch/>
          </p:blipFill>
          <p:spPr>
            <a:xfrm flipH="1" rot="5400000">
              <a:off x="-1836720" y="4049640"/>
              <a:ext cx="5472000" cy="14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7" name=""/>
          <p:cNvSpPr txBox="1"/>
          <p:nvPr/>
        </p:nvSpPr>
        <p:spPr>
          <a:xfrm>
            <a:off x="3635280" y="260280"/>
            <a:ext cx="2880000" cy="781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多角度阅读</a:t>
            </a:r>
            <a:endParaRPr b="1" lang="en-US" sz="4800" spc="1" strike="noStrike">
              <a:ln w="1260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188" name=""/>
          <p:cNvSpPr/>
          <p:nvPr/>
        </p:nvSpPr>
        <p:spPr>
          <a:xfrm>
            <a:off x="3924360" y="1341360"/>
            <a:ext cx="26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杰利角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073960"/>
            <a:ext cx="533520" cy="5205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3333cc"/>
            </a:solidFill>
            <a:miter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3874320"/>
            <a:ext cx="533520" cy="5205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3333cc"/>
            </a:solidFill>
            <a:miter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0" y="5603040"/>
            <a:ext cx="533520" cy="5205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3333cc"/>
            </a:solidFill>
            <a:miter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1T14:02:54Z</dcterms:created>
  <dc:creator>姚根国</dc:creator>
  <dc:description/>
  <dc:language>en-US</dc:language>
  <cp:lastModifiedBy>island</cp:lastModifiedBy>
  <dcterms:modified xsi:type="dcterms:W3CDTF">2010-09-08T06:12:30Z</dcterms:modified>
  <cp:revision>11</cp:revision>
  <dc:subject/>
  <dc:title>走一步，再走一步</dc:title>
</cp:coreProperties>
</file>