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91A-CCDA-4EE5-A124-AC860DAC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2A1-24E2-4239-9B45-2B21BA5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070-8599-41A3-B105-2F102643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CE2-B18B-447C-9ECD-2656D641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AA1-9E13-472A-B85B-ECD0FB3C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6DF-A687-4FD2-A99A-33437A8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0D4-3CC1-45C9-808E-A056AF8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1BF-D7C7-4AAE-8887-9188188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B3F-39BC-489A-A76C-E962F18D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223-6BD8-42ED-8747-9BA688F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974-6B62-4BE5-B65C-2EC2F6CC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E70-FAFA-4EC0-83BE-A3E12DF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A48-9C67-4DD4-A47D-12B3CA1AF1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200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国  莫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亨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350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积跬步无以至千里，不积小溪无以成江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文主旨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的危险和困难，只要把它分解开来，分解为一小步一小步，困难就不大了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敢问路在何方？路在脚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口吃不了个胖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人在人生的道路上不可能一帆风顺。遇到困难，感受挫折都是很正常的。只要我们不失自信，牢记“不要想着距离有多远，你只要想着你是在走一小步，你能办得到的”，那什么样的艰难险阻都将被你踩在脚下。别忘了，把你的这种感受传给那些正在遭受困难的人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65760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地就将不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81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溪流走一步是江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江河再走一步是海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4880" y="914400"/>
            <a:ext cx="2643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深秋走一步是寒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寒冬再走一步便是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88480" y="228600"/>
            <a:ext cx="1716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挫折走一步或许还是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失败再走一步可能就是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533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咫尺天涯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步往往很难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下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858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路尽天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妨尝试着再走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万水千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源于最初的那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6d3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-1218960" y="266688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一读  写一写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训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纳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瘦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嶙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600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心惊肉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590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晕目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心翼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828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2  </a:t>
            </a: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发生在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3  </a:t>
            </a: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爬悬崖的一共有几个孩子？有名字的有几个？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67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4  </a:t>
            </a: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悬崖有多高？岩石架有多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66760" y="369540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抢答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838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  </a:t>
            </a: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故事发生在美国哪个城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与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371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主要记叙了什么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件事发生在何时何地？发生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为什么“一时拿不定主意”？后来又为什么跟着伙伴们去爬山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114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在爬山途中遇到了哪些困难？当时“我”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来“我”又是怎样脱险的？脱险以后“我”有什么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3200" y="3049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述要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跳读课文，抓住以上讨论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重点细节，尤其是脱险部分，尽量用课文原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19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口齿清楚，能正确表达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258920" y="227952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我眼中却是高不可攀的险峰。（未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落在最后，全身颤抖，冷汗直冒。我的心在瘦骨嶙峋的胸腔里冬冬直跳。（跟着他们向上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蹲在石架上，心惊肉跳，尽量往里靠。我看在眼里，吓得几乎晕倒。（终于爬上石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软弱地哀求。感到头晕目眩、啜泣。恐惧和疲乏使我全身麻木，不能动弹。（伏在岩石上，上不去下不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2289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0" y="545868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421000"/>
            <a:ext cx="78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杰利带来了我的父亲。（听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的手电光照着我，安慰我。（我哭着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左脚踏到石架下面那块岩石上。（我顿时有了信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右脚移到右边稍低一点的地方。（我的信心大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每次只移动一小步，慢慢爬下悬崖，投入了父亲强壮的手臂中。（啜泣了一会儿，产生了一种巨大的成就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851280" y="17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脱险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192960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0" y="552996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844640"/>
            <a:ext cx="72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课文内容看，标题“走一步，再走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人生道路上，面对困难，“走了一步，再走下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巨大的困难分成“一步一步”，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不要想着距离有多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主旨探究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6920" y="1267920"/>
            <a:ext cx="8317080" cy="5589360"/>
            <a:chOff x="826920" y="1267920"/>
            <a:chExt cx="8317080" cy="5589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16560" y="4068720"/>
              <a:ext cx="5432040" cy="1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826920" y="6664320"/>
              <a:ext cx="831708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34:55Z</dcterms:created>
  <dc:creator>teacher</dc:creator>
  <dc:description/>
  <dc:language>en-US</dc:language>
  <cp:lastModifiedBy>island</cp:lastModifiedBy>
  <dcterms:modified xsi:type="dcterms:W3CDTF">2010-09-08T06:14:09Z</dcterms:modified>
  <cp:revision>14</cp:revision>
  <dc:subject/>
  <dc:title>PowerPoint 演示文稿</dc:title>
</cp:coreProperties>
</file>