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4B9-AF24-446E-A684-0FA6FE22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63F-9959-45E9-B8B1-C0A9A47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5C3-93CE-4B71-A587-EA854FEF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939C-F0EF-4920-8E59-236DA5A2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2E39-103D-4502-85BA-0ED5CD05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30E0-F4AF-40CF-A74D-0BA96BB5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1F2A-8D0D-4381-81CB-65D8F2DE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5688-5EB2-49CE-AD05-A2076411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5E2-FC6D-4FC8-B027-44710C7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7A4D-88E1-41AF-8519-0A0FCA9D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807B-5211-4586-A705-52BEC1E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AE4-68C9-4962-9D59-C19D60C4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9A38-9D43-4117-99B9-F814346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0047-0EB2-4C7D-A2CC-CED8B2A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5BD4-637E-46FF-BA33-5232DB72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D83-6A13-4676-945F-42BDADF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83E6-15FE-4916-8343-C8B21976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A966-28F2-4021-ACA3-A9898302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8E80-4462-4FAC-A6E7-42C742B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42A0-8256-4B0A-99BE-16D0267D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CA77-9637-4631-8C99-7E9F4C98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156E-CD5A-4869-B1ED-0F287D41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A20-D049-40CE-90FF-C77CD8C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20B7-8D19-4F4F-A3C2-6FFCD30F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3037-5DDA-4B8F-A123-A2E6188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FA59-3AF1-4125-842F-B07D0360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0E37-481B-4B16-8DB7-00FFE9E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2624-112D-4A02-9E6D-D86DDA28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B87C-3F86-4E05-83CC-A706B0A6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9468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22320" y="15998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6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9468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22320" y="38286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06AC-2738-4171-A50B-3E5E3A6B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47A-914F-48B9-AD2F-DFDAD34B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C96-1773-4AF5-A188-245AC96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bdd"/>
              </a:solidFill>
              <a:latin typeface="-보람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D07-EDB8-4E04-BE66-529901EF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CD1-FD8B-4DDE-B244-D0807DFB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38286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637-2C16-4E56-BBE0-045BFB5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15998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286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A9B-C895-48D9-933F-E489255F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E467-A7E1-4799-9760-2B18A2D486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32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Click to edit the outline text format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1" marL="743040" indent="-28584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con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2" marL="11430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Third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3" marL="16002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our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4" marL="2057400" indent="-228600">
              <a:spcBef>
                <a:spcPts val="550"/>
              </a:spcBef>
              <a:buClr>
                <a:srgbClr val="43384c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Fif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ix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보람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384c"/>
                </a:solidFill>
                <a:latin typeface="-보람M"/>
              </a:rPr>
              <a:t>Seventh Outline Level</a:t>
            </a:r>
            <a:endParaRPr b="0" lang="en-US" sz="2200" spc="-1" strike="noStrike">
              <a:solidFill>
                <a:srgbClr val="43384c"/>
              </a:solidFill>
              <a:latin typeface="-보람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074600" y="628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609720" y="6267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41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4E97-49F2-48BA-8E76-ACE520E5AB22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243240"/>
            <a:ext cx="6553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a1e47"/>
                </a:solidFill>
                <a:latin typeface="-보람B"/>
              </a:rPr>
              <a:t>Click to edit the title text format</a:t>
            </a:r>
            <a:endParaRPr b="0" lang="en-US" sz="4500" spc="-1" strike="noStrike">
              <a:solidFill>
                <a:srgbClr val="ca1e47"/>
              </a:solidFill>
              <a:latin typeface="-보람B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3660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50164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5599080" y="6210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f4235"/>
                </a:solidFill>
                <a:latin typeface="-보람M"/>
                <a:ea typeface="-보람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F62-E35F-4B25-B17B-24734A90119C}" type="slidenum">
              <a:rPr b="0" lang="ko-KR" sz="1400" spc="-1" strike="noStrike">
                <a:solidFill>
                  <a:srgbClr val="4f4235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" Target="slide6.xml"/><Relationship Id="rId4" Type="http://schemas.openxmlformats.org/officeDocument/2006/relationships/image" Target="../media/image6.jpeg"/><Relationship Id="rId5" Type="http://schemas.openxmlformats.org/officeDocument/2006/relationships/slide" Target="slide9.xml"/><Relationship Id="rId6" Type="http://schemas.openxmlformats.org/officeDocument/2006/relationships/image" Target="../media/image6.jpeg"/><Relationship Id="rId7" Type="http://schemas.openxmlformats.org/officeDocument/2006/relationships/slide" Target="slide1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32000" y="404640"/>
            <a:ext cx="65530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95640" y="3213000"/>
            <a:ext cx="4535280" cy="1099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</a:rPr>
              <a:t>第二课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98360" y="0"/>
            <a:ext cx="109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5280" y="0"/>
            <a:ext cx="1098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8920" y="2565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觉四个孩子的人品有问题。当自己的朋友遇上困难的时候，他们不仅不去拉自己的朋友一把，反而雪上加霜的嘲讽朋友，把他一人留在危险的石架上，这也是拿别人的生命开玩笑。他们根本不是真正的朋友，简直可恶之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141300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四个孩子的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2349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是这堂课学习的重点。以后在阅读的过程中同学们可学着运用它，它不仅可以让我们读出文章的新意，提高阅读质量，还可以提高我们的创造性阅读能力，拓展我们的思维空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教师小结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64160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大利著名画家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的老师对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芬奇谈自己画蛋的体会，他说：“即使是同一只蛋，只要变换一下角度，形状便立即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宋代伟大诗人苏轼也谈过类似的体会，他仔细观察过庐山，然后作诗云——“横看成岭侧成峰，远近高低各不同。不识庐山真面目，只缘身在此山中。”（这两则材料告诉我们，无论绘画还是观景，都要选择不同的角度。这样，才能发现事物、景物的不同特点，画画，才能画出新意；观景，才能观出新意。对一些意蕴丰富的文章也应如此，应从多个方面去想，读得有创意，提高阅读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33336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16000" y="177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多角度阅读关键在于确立角度。怎样确立角度呢？可以着眼于某一人物，也可以着眼于某一情节，提出问题，思考问题，也可拟一个中心话题。举个例子说，从杰利这个角度来读，中心话题可以是杰利什么地方做得对，什么地方做得不太好。由这个中心话题帮助阅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 txBox="1"/>
          <p:nvPr/>
        </p:nvSpPr>
        <p:spPr>
          <a:xfrm>
            <a:off x="3564000" y="260280"/>
            <a:ext cx="28796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1773360"/>
            <a:ext cx="24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杰利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5219640" y="2852640"/>
            <a:ext cx="3529080" cy="1739880"/>
          </a:xfrm>
          <a:prstGeom prst="rect">
            <a:avLst/>
          </a:prstGeom>
          <a:noFill/>
          <a:ln w="79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对比着来读，可从 “教子”和“交友”两个大角度来深入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198900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4797360"/>
            <a:ext cx="287280" cy="12970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637000"/>
            <a:ext cx="502920" cy="2592360"/>
          </a:xfrm>
          <a:custGeom>
            <a:avLst/>
            <a:gdLst>
              <a:gd name="textAreaLeft" fmla="*/ 0 w 502920"/>
              <a:gd name="textAreaRight" fmla="*/ 181440 w 502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58920" y="1557360"/>
            <a:ext cx="74883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父亲为什么不直接把孩子抱下来？他不怕孩子失足吗？从中看出这是一位怎样的父亲？如果是母亲来的话，她又会怎样做？你能想象一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杰利算是“我”真正的朋友吗？他为什么抛下我还是和大家一起走了？你能揣摩一下他当时的心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个小孩子的行为你欣赏吗？如果是你是其中的一位，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3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76360" y="2276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真正爱自己孩子的父亲，他不像别的父亲，爬山石架把儿子抱下来，而是让作者自己走一步，再走一步的下去。这是为锻炼孩子的勇气和毅力。如果他对孩子百依百顺，那只是让他更加娇气，一生一世都软弱无能。有句话说：“打是亲，骂是爱”，只有在磨练下才能成好钢，没有磨练的只是土块、锈铁。所以这位父亲是对孩子负责的真正爱孩子的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148608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87280" y="220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一位明智、教子有方的父亲。父亲完全可以凭自己的实力抱孩子下来，但他不这样做，而是引导孩子凭自己的努力一步步地克服自己。其实，父亲这样做是想给孩子一份经验，一次锻炼，一个成就感，一份不怕任何困难的勇气。这是父爱的一种多么明智的体现，是真正的父爱。他在父亲的眼里，孩子克服困难的能力比生命更重要，因为，父亲知道，温室里的花朵是经不起风雨的，同样，被溺爱的孩子是经不起考验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14860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父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7" action="ppaction://hlinksldjump"/>
          </p:cNvPr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8920" y="2421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慈母多败儿。这位母亲一直告诫我不要冒险。在母亲的庇护下，“我”变得非常懦弱。如果杰利通知的是母亲的话，可能她会声嘶力竭地叫我别动，吓得脸色苍白，神经兮兮的叫了一大帮人来。之后母亲可能不允许我跨出家门半步，不准我与杰利玩。从此，世上多了一个废物，少了一个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14860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母亲角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71640" y="206856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我是杰利，我会感到左右为难，一边是最要好的朋友，一边是更多的朋友。四个孩子一定不会让杰利帮“我”，而杰利也不想被嘲笑，不想失去这几个玩耍的朋友。所以杰利虽然“看来好像有点不放心”，但还是和大家一起走了。我想，，这也说明杰利低估了“我”的懦弱。他以为这么点悬崖，“我”总会下来的。再说，他一时也帮不了“我”。天越来越黑了，见“我”没回来，杰利的良心不安了，便告诉了“我”父亲，寻求大人帮助，把“我”从危险的边缘救了回来。杰利虽然有做得不对的地方，但他是“我”真正的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 txBox="1"/>
          <p:nvPr/>
        </p:nvSpPr>
        <p:spPr>
          <a:xfrm>
            <a:off x="3635280" y="260280"/>
            <a:ext cx="28800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角度阅读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1341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杰利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073960"/>
            <a:ext cx="53352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7432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603040"/>
            <a:ext cx="53352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02:54Z</dcterms:created>
  <dc:creator>姚根国</dc:creator>
  <dc:description/>
  <dc:language>en-US</dc:language>
  <cp:lastModifiedBy>island</cp:lastModifiedBy>
  <dcterms:modified xsi:type="dcterms:W3CDTF">2010-09-08T06:12:30Z</dcterms:modified>
  <cp:revision>11</cp:revision>
  <dc:subject/>
  <dc:title>走一步，再走一步</dc:title>
</cp:coreProperties>
</file>