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82F4-1F7D-42C7-91E9-8F218A63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350C-032B-447F-91B8-CDBF5904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89DC-A3B8-41DB-8064-515835BF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4F9-B7C7-4EBC-8390-D27794FA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5B9C-46EE-467A-A2D2-9567643B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4BC2-0478-49DC-9D03-EE7F5043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A320-73A8-4002-AA44-BA21799C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8393-6BED-4402-8349-92F99DB8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4C11-BB30-42E9-ADE9-FE4DB449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67F5-0B9D-4344-B109-4B81B05F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394F-BB0A-48E6-85B8-51C0C34D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AEF-6D16-485E-98DB-CE6D10A8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9D98-FDF3-450F-A83C-E53F95E6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533C-8DAD-49CA-939F-749903F7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6077-0E57-4934-BDDC-69A43EB5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48C7-2FD8-43AD-AFB0-C9EF5BB3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192F-E483-4BF6-915D-561A4D5F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17388-44A8-47C7-A9B2-C1AB8734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E23AC-97E7-427E-94DE-8725ADFD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9A07A-E5D5-4720-B0C8-425B3461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67A67-E7BE-41EE-BD15-893C62FA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D7986-8663-4BBE-AACC-D603B415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45A9-1789-4A04-959C-4207673E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7E34F-5B9D-4D3A-A8F4-6528A505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7ED12-0D71-4C2B-BE38-A192A732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0D343-1F9E-4C20-B624-55B73EC0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45082-7CEC-4B48-ACC3-00C4E876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9D2D1-09A7-45E4-86CA-2C50A8AE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C4F50-B76C-4595-8FA8-FF32E339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94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2232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66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94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32232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40A05-B441-4E34-8B3A-FA98EB55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CB55-D96A-470B-81EE-D4593B4B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987-7C7B-45E9-8BDD-3C4B0030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978D-9DB7-4AA1-B1BC-1AE5C466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A57C-46F1-4927-9968-D9256E67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343-5452-4FD2-81F2-7559D205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CEB0-209C-4C7A-82BA-5D3658E9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7698-CD1F-44AE-B7BC-0178C16C27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>
            <a:lum contrast="14000"/>
          </a:blip>
          <a:stretch/>
        </p:blipFill>
        <p:spPr>
          <a:xfrm>
            <a:off x="0" y="0"/>
            <a:ext cx="915984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1e47"/>
                </a:solidFill>
                <a:latin typeface="-보람B"/>
              </a:rPr>
              <a:t>Click to edit the title text format</a:t>
            </a: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Click to edit the outline text format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1" marL="743040" indent="-28584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Second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2" marL="1143000" indent="-22860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Third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3" marL="1600200" indent="-22860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Four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4" marL="2057400" indent="-22860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Fif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Six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Seven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074600" y="628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609720" y="6267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9418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C46A-7116-4553-9C0E-469C5CF715C2}" type="slidenum"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9840" cy="6867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243240"/>
            <a:ext cx="655308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a1e47"/>
                </a:solidFill>
                <a:latin typeface="-보람B"/>
              </a:rPr>
              <a:t>Click to edit the title text format</a:t>
            </a:r>
            <a:endParaRPr b="0" lang="en-US" sz="45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3660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2501640" y="62294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5599080" y="6210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1107-ECD7-4EE8-9AAB-5916E8794263}" type="slidenum"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" Target="slide6.xml"/><Relationship Id="rId4" Type="http://schemas.openxmlformats.org/officeDocument/2006/relationships/image" Target="../media/image6.jpeg"/><Relationship Id="rId5" Type="http://schemas.openxmlformats.org/officeDocument/2006/relationships/slide" Target="slide9.xml"/><Relationship Id="rId6" Type="http://schemas.openxmlformats.org/officeDocument/2006/relationships/image" Target="../media/image6.jpeg"/><Relationship Id="rId7" Type="http://schemas.openxmlformats.org/officeDocument/2006/relationships/slide" Target="slide10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" Target="slide6.xml"/><Relationship Id="rId4" Type="http://schemas.openxmlformats.org/officeDocument/2006/relationships/image" Target="../media/image6.jpeg"/><Relationship Id="rId5" Type="http://schemas.openxmlformats.org/officeDocument/2006/relationships/slide" Target="slide9.xml"/><Relationship Id="rId6" Type="http://schemas.openxmlformats.org/officeDocument/2006/relationships/image" Target="../media/image6.jpeg"/><Relationship Id="rId7" Type="http://schemas.openxmlformats.org/officeDocument/2006/relationships/slide" Target="slide10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" Target="slide6.xml"/><Relationship Id="rId4" Type="http://schemas.openxmlformats.org/officeDocument/2006/relationships/image" Target="../media/image6.jpeg"/><Relationship Id="rId5" Type="http://schemas.openxmlformats.org/officeDocument/2006/relationships/slide" Target="slide9.xml"/><Relationship Id="rId6" Type="http://schemas.openxmlformats.org/officeDocument/2006/relationships/image" Target="../media/image6.jpeg"/><Relationship Id="rId7" Type="http://schemas.openxmlformats.org/officeDocument/2006/relationships/slide" Target="slide10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32000" y="404640"/>
            <a:ext cx="65530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195640" y="3213000"/>
            <a:ext cx="4535280" cy="1099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第二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198360" y="0"/>
            <a:ext cx="10983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45280" y="0"/>
            <a:ext cx="1098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8920" y="256536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感觉四个孩子的人品有问题。当自己的朋友遇上困难的时候，他们不仅不去拉自己的朋友一把，反而雪上加霜的嘲讽朋友，把他一人留在危险的石架上，这也是拿别人的生命开玩笑。他们根本不是真正的朋友，简直可恶之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1413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四个孩子的角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35280" y="234936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角度阅读是这堂课学习的重点。以后在阅读的过程中同学们可学着运用它，它不仅可以让我们读出文章的新意，提高阅读质量，还可以提高我们的创造性阅读能力，拓展我们的思维空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教师小结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42920" y="16416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大利著名画家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芬奇的老师对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芬奇谈自己画蛋的体会，他说：“即使是同一只蛋，只要变换一下角度，形状便立即不同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国宋代伟大诗人苏轼也谈过类似的体会，他仔细观察过庐山，然后作诗云——“横看成岭侧成峰，远近高低各不同。不识庐山真面目，只缘身在此山中。”（这两则材料告诉我们，无论绘画还是观景，都要选择不同的角度。这样，才能发现事物、景物的不同特点，画画，才能画出新意；观景，才能观出新意。对一些意蕴丰富的文章也应如此，应从多个方面去想，读得有创意，提高阅读质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419640" y="333360"/>
            <a:ext cx="287964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16000" y="177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角度阅读关键在于确立角度。怎样确立角度呢？可以着眼于某一人物，也可以着眼于某一情节，提出问题，思考问题，也可拟一个中心话题。举个例子说，从杰利这个角度来读，中心话题可以是杰利什么地方做得对，什么地方做得不太好。由这个中心话题帮助阅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 txBox="1"/>
          <p:nvPr/>
        </p:nvSpPr>
        <p:spPr>
          <a:xfrm>
            <a:off x="3564000" y="260280"/>
            <a:ext cx="287964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6000" y="1773360"/>
            <a:ext cx="244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父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母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杰利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个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5219640" y="2852640"/>
            <a:ext cx="3529080" cy="1739880"/>
          </a:xfrm>
          <a:prstGeom prst="rect">
            <a:avLst/>
          </a:prstGeom>
          <a:noFill/>
          <a:ln w="79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两对比着来读，可从 “教子”和“交友”两个大角度来深入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1989000"/>
            <a:ext cx="287280" cy="1297080"/>
          </a:xfrm>
          <a:custGeom>
            <a:avLst/>
            <a:gdLst>
              <a:gd name="textAreaLeft" fmla="*/ 0 w 287280"/>
              <a:gd name="textAreaRight" fmla="*/ 103680 w 287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4797360"/>
            <a:ext cx="287280" cy="1297080"/>
          </a:xfrm>
          <a:custGeom>
            <a:avLst/>
            <a:gdLst>
              <a:gd name="textAreaLeft" fmla="*/ 0 w 287280"/>
              <a:gd name="textAreaRight" fmla="*/ 103680 w 287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2637000"/>
            <a:ext cx="502920" cy="2592360"/>
          </a:xfrm>
          <a:custGeom>
            <a:avLst/>
            <a:gdLst>
              <a:gd name="textAreaLeft" fmla="*/ 0 w 502920"/>
              <a:gd name="textAreaRight" fmla="*/ 181440 w 50292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58920" y="1557360"/>
            <a:ext cx="74883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父亲为什么不直接把孩子抱下来？他不怕孩子失足吗？从中看出这是一位怎样的父亲？如果是母亲来的话，她又会怎样做？你能想象一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杰利算是“我”真正的朋友吗？他为什么抛下我还是和大家一起走了？你能揣摩一下他当时的心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四个小孩子的行为你欣赏吗？如果是你是其中的一位，你会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3" name="">
            <a:hlinkClick r:id="rId3" action="ppaction://hlinksldjump"/>
          </p:cNvPr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5" action="ppaction://hlinksldjump"/>
          </p:cNvPr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7" action="ppaction://hlinksldjump"/>
          </p:cNvPr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76360" y="227664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一位真正爱自己孩子的父亲，他不像别的父亲，爬山石架把儿子抱下来，而是让作者自己走一步，再走一步的下去。这是为锻炼孩子的勇气和毅力。如果他对孩子百依百顺，那只是让他更加娇气，一生一世都软弱无能。有句话说：“打是亲，骂是爱”，只有在磨练下才能成好钢，没有磨练的只是土块、锈铁。所以这位父亲是对孩子负责的真正爱孩子的父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1" name=""/>
          <p:cNvSpPr/>
          <p:nvPr/>
        </p:nvSpPr>
        <p:spPr>
          <a:xfrm>
            <a:off x="3708360" y="148608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父亲角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5" action="ppaction://hlinksldjump"/>
          </p:cNvPr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7" action="ppaction://hlinksldjump"/>
          </p:cNvPr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87280" y="2205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一位明智、教子有方的父亲。父亲完全可以凭自己的实力抱孩子下来，但他不这样做，而是引导孩子凭自己的努力一步步地克服自己。其实，父亲这样做是想给孩子一份经验，一次锻炼，一个成就感，一份不怕任何困难的勇气。这是父爱的一种多么明智的体现，是真正的父爱。他在父亲的眼里，孩子克服困难的能力比生命更重要，因为，父亲知道，温室里的花朵是经不起风雨的，同样，被溺爱的孩子是经不起考验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0" name=""/>
          <p:cNvSpPr/>
          <p:nvPr/>
        </p:nvSpPr>
        <p:spPr>
          <a:xfrm>
            <a:off x="3708360" y="14860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父亲角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7" action="ppaction://hlinksldjump"/>
          </p:cNvPr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8920" y="2421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慈母多败儿。这位母亲一直告诫我不要冒险。在母亲的庇护下，“我”变得非常懦弱。如果杰利通知的是母亲的话，可能她会声嘶力竭地叫我别动，吓得脸色苍白，神经兮兮的叫了一大帮人来。之后母亲可能不允许我跨出家门半步，不准我与杰利玩。从此，世上多了一个废物，少了一个作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148608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母亲角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71640" y="2068560"/>
            <a:ext cx="78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我是杰利，我会感到左右为难，一边是最要好的朋友，一边是更多的朋友。四个孩子一定不会让杰利帮“我”，而杰利也不想被嘲笑，不想失去这几个玩耍的朋友。所以杰利虽然“看来好像有点不放心”，但还是和大家一起走了。我想，，这也说明杰利低估了“我”的懦弱。他以为这么点悬崖，“我”总会下来的。再说，他一时也帮不了“我”。天越来越黑了，见“我”没回来，杰利的良心不安了，便告诉了“我”父亲，寻求大人帮助，把“我”从危险的边缘救了回来。杰利虽然有做得不对的地方，但他是“我”真正的朋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88" name=""/>
          <p:cNvSpPr/>
          <p:nvPr/>
        </p:nvSpPr>
        <p:spPr>
          <a:xfrm>
            <a:off x="3924360" y="13413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杰利角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02:54Z</dcterms:created>
  <dc:creator>姚根国</dc:creator>
  <dc:description/>
  <dc:language>en-US</dc:language>
  <cp:lastModifiedBy>island</cp:lastModifiedBy>
  <dcterms:modified xsi:type="dcterms:W3CDTF">2010-09-08T06:12:30Z</dcterms:modified>
  <cp:revision>11</cp:revision>
  <dc:subject/>
  <dc:title>走一步，再走一步</dc:title>
</cp:coreProperties>
</file>