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5.jpeg" ContentType="image/jpeg"/>
  <Override PartName="/ppt/media/type.wav" ContentType="audio/x-wav"/>
  <Override PartName="/ppt/media/image14.jpeg" ContentType="image/jpeg"/>
  <Override PartName="/ppt/media/image13.jpeg" ContentType="image/jpeg"/>
  <Override PartName="/ppt/media/image12.jpeg" ContentType="image/jpeg"/>
  <Override PartName="/ppt/media/image1.jpeg" ContentType="image/jpeg"/>
  <Override PartName="/ppt/media/image4.wmf" ContentType="image/x-wmf"/>
  <Override PartName="/ppt/media/chimes.wav" ContentType="audio/x-wav"/>
  <Override PartName="/ppt/media/image6.jpeg" ContentType="image/jpeg"/>
  <Override PartName="/ppt/media/applause.wav" ContentType="audio/x-wav"/>
  <Override PartName="/ppt/media/image5.jpeg" ContentType="image/jpeg"/>
  <Override PartName="/ppt/media/image7.gif" ContentType="image/gif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DF32-801F-43CF-9D0E-A6754207B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E482-0F17-4421-8318-4A59D21BA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1E08-E19B-49D5-B43D-B515A1F24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4FD0-96BD-44C3-ACE4-AA8D319B2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0E43-0BF2-42AF-A87B-4C64EDA38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54F3-9E9E-44C5-A6F9-594A21764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35BB-AC52-49C1-A173-CE48DC81D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3D7B-AB9E-4013-B66F-80DB25911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3001-EDA7-4A86-8D71-51B8DF251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4C2D-D9FC-4AE4-A5BC-A3ADDC1A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A707-C18D-4E71-A5D2-655CA455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66A5-1D56-45A6-9030-F9A0AB8D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57427-B183-4A06-AAC7-D5D7B5A0F31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slide" Target="slide7.xml"/><Relationship Id="rId4" Type="http://schemas.openxmlformats.org/officeDocument/2006/relationships/image" Target="../media/image8.jpeg"/><Relationship Id="rId5" Type="http://schemas.openxmlformats.org/officeDocument/2006/relationships/slide" Target=""/><Relationship Id="rId6" Type="http://schemas.openxmlformats.org/officeDocument/2006/relationships/image" Target="../media/image8.jpeg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slide" Target=""/><Relationship Id="rId4" Type="http://schemas.openxmlformats.org/officeDocument/2006/relationships/image" Target="../media/image8.jpeg"/><Relationship Id="rId5" Type="http://schemas.openxmlformats.org/officeDocument/2006/relationships/slide" Target="slide8.xml"/><Relationship Id="rId6" Type="http://schemas.openxmlformats.org/officeDocument/2006/relationships/image" Target="../media/image8.jpeg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523880"/>
            <a:ext cx="693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走一步，再走一步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952880" y="320040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美国  莫顿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亨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332000" y="350028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积跬步无以至千里，不积小溪无以成江海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26920" y="1267920"/>
            <a:ext cx="8317080" cy="5590080"/>
            <a:chOff x="826920" y="1267920"/>
            <a:chExt cx="8317080" cy="55900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 flipH="1" rot="10800000">
              <a:off x="826920" y="1267560"/>
              <a:ext cx="8317080" cy="1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 flipH="1" rot="5400000">
              <a:off x="-1836720" y="4049640"/>
              <a:ext cx="5472000" cy="14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 txBox="1"/>
          <p:nvPr/>
        </p:nvSpPr>
        <p:spPr>
          <a:xfrm>
            <a:off x="3203640" y="333360"/>
            <a:ext cx="3313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课文主旨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96" name=""/>
          <p:cNvSpPr/>
          <p:nvPr/>
        </p:nvSpPr>
        <p:spPr>
          <a:xfrm>
            <a:off x="1403280" y="479736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无论怎样的危险和困难，只要把它分解开来，分解为一小步一小步，困难就不大了。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32000" y="26370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敢问路在何方？路在脚下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332000" y="177336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一口吃不了个胖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8600" y="30492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一个人在人生的道路上不可能一帆风顺。遇到困难，感受挫折都是很正常的。只要我们不失自信，牢记“不要想着距离有多远，你只要想着你是在走一小步，你能办得到的”，那什么样的艰难险阻都将被你踩在脚下。别忘了，把你的这种感受传给那些正在遭受困难的人们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3657600"/>
            <a:ext cx="6019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走一步，再走一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天地就将不一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981080" y="25909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95280" y="3581280"/>
            <a:ext cx="59436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7c80"/>
                </a:solidFill>
                <a:latin typeface="Times New Roman"/>
                <a:ea typeface="隶书"/>
              </a:rPr>
              <a:t>溪流走一步是江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7c80"/>
                </a:solidFill>
                <a:latin typeface="Times New Roman"/>
                <a:ea typeface="隶书"/>
              </a:rPr>
              <a:t>江河再走一步是海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204880" y="914400"/>
            <a:ext cx="264384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深秋走一步是寒冬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寒冬再走一步便是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788480" y="228600"/>
            <a:ext cx="171684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隶书"/>
              </a:rPr>
              <a:t>挫折走一步或许还是失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隶书"/>
              </a:rPr>
              <a:t>失败再走一步可能就是成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04920" y="304920"/>
            <a:ext cx="53337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咫尺天涯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第一步往往很难迈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4495680"/>
            <a:ext cx="4495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于是就没有了下一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于是就没有了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914400" y="685800"/>
            <a:ext cx="5105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路尽天绝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16002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不妨尝试着再走一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91120" y="312408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万水千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91120" y="396252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只源于最初的那一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b6d3e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 rot="5400000">
            <a:off x="-1218960" y="2666880"/>
            <a:ext cx="4647960" cy="838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95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读一读  写一写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60948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训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仿宋_GB2312"/>
              </a:rPr>
              <a:t>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6002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仿宋_GB2312"/>
              </a:rPr>
              <a:t>耸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26668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仿宋_GB2312"/>
              </a:rPr>
              <a:t>迂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66880" y="36576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仿宋_GB2312"/>
              </a:rPr>
              <a:t>凝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666880" y="472428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仿宋_GB2312"/>
              </a:rPr>
              <a:t>啜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57150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纳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952880" y="6094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瘦骨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仿宋_GB2312"/>
              </a:rPr>
              <a:t>嶙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952880" y="160020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心惊肉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2880" y="259092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头晕目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仿宋_GB2312"/>
              </a:rPr>
              <a:t>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952880" y="36576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小心翼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81080" cy="23623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743200" y="18288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幼圆"/>
                <a:ea typeface="幼圆"/>
              </a:rPr>
              <a:t>2  </a:t>
            </a:r>
            <a:r>
              <a:rPr b="0" lang="zh-CN" sz="3200" spc="-1" strike="noStrike">
                <a:solidFill>
                  <a:srgbClr val="3333cc"/>
                </a:solidFill>
                <a:latin typeface="幼圆"/>
                <a:ea typeface="幼圆"/>
              </a:rPr>
              <a:t>发生在什么时候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200" y="28195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00"/>
                </a:solidFill>
                <a:latin typeface="幼圆"/>
                <a:ea typeface="幼圆"/>
              </a:rPr>
              <a:t>3  </a:t>
            </a:r>
            <a:r>
              <a:rPr b="0" lang="zh-CN" sz="3200" spc="-1" strike="noStrike">
                <a:solidFill>
                  <a:srgbClr val="009900"/>
                </a:solidFill>
                <a:latin typeface="幼圆"/>
                <a:ea typeface="幼圆"/>
              </a:rPr>
              <a:t>爬悬崖的一共有几个孩子？有名字的有几个？叫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43200" y="426708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幼圆"/>
                <a:ea typeface="幼圆"/>
              </a:rPr>
              <a:t>4  </a:t>
            </a:r>
            <a:r>
              <a:rPr b="0" lang="zh-CN" sz="3200" spc="-1" strike="noStrike">
                <a:solidFill>
                  <a:srgbClr val="ff9900"/>
                </a:solidFill>
                <a:latin typeface="幼圆"/>
                <a:ea typeface="幼圆"/>
              </a:rPr>
              <a:t>悬崖有多高？岩石架有多高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 rot="5400000">
            <a:off x="-266760" y="3695400"/>
            <a:ext cx="2590560" cy="838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抢答题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83808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幼圆"/>
                <a:ea typeface="幼圆"/>
              </a:rPr>
              <a:t>1  </a:t>
            </a:r>
            <a:r>
              <a:rPr b="0" lang="zh-CN" sz="3200" spc="-1" strike="noStrike">
                <a:solidFill>
                  <a:srgbClr val="ff0066"/>
                </a:solidFill>
                <a:latin typeface="幼圆"/>
                <a:ea typeface="幼圆"/>
              </a:rPr>
              <a:t>故事发生在美国哪个城市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1493640" cy="16858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352680" y="380880"/>
            <a:ext cx="548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讨论与思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0" y="137160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课文主要记叙了什么事情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22096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这件事发生在何时何地？发生的原因是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9718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  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我”为什么“一时拿不定主意”？后来又为什么跟着伙伴们去爬山了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41148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  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我”在爬山途中遇到了哪些困难？当时“我”是怎么想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518148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后来“我”又是怎样脱险的？脱险以后“我”有什么感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2743200" y="304920"/>
            <a:ext cx="35812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复述要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175248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ingLiU"/>
                <a:ea typeface="MingLiU"/>
              </a:rPr>
              <a:t>1  </a:t>
            </a:r>
            <a:r>
              <a:rPr b="0" lang="zh-CN" sz="3200" spc="-1" strike="noStrike">
                <a:solidFill>
                  <a:srgbClr val="000000"/>
                </a:solidFill>
                <a:latin typeface="MingLiU"/>
                <a:ea typeface="MingLiU"/>
              </a:rPr>
              <a:t>跳读课文，抓住以上讨论要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8954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ingLiU"/>
                <a:ea typeface="MingLiU"/>
              </a:rPr>
              <a:t>2  </a:t>
            </a:r>
            <a:r>
              <a:rPr b="0" lang="zh-CN" sz="3200" spc="-1" strike="noStrike">
                <a:solidFill>
                  <a:srgbClr val="000000"/>
                </a:solidFill>
                <a:latin typeface="MingLiU"/>
                <a:ea typeface="MingLiU"/>
              </a:rPr>
              <a:t>重点细节，尤其是脱险部分，尽量用课文原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4197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ingLiU"/>
                <a:ea typeface="MingLiU"/>
              </a:rPr>
              <a:t>3  </a:t>
            </a:r>
            <a:r>
              <a:rPr b="0" lang="zh-CN" sz="3200" spc="-1" strike="noStrike">
                <a:solidFill>
                  <a:srgbClr val="000000"/>
                </a:solidFill>
                <a:latin typeface="MingLiU"/>
                <a:ea typeface="MingLiU"/>
              </a:rPr>
              <a:t>口齿清楚，能正确表达感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0" y="-360"/>
            <a:ext cx="8317080" cy="5590080"/>
            <a:chOff x="0" y="-360"/>
            <a:chExt cx="8317080" cy="5590080"/>
          </a:xfrm>
        </p:grpSpPr>
        <p:pic>
          <p:nvPicPr>
            <p:cNvPr id="72" name="" descr=""/>
            <p:cNvPicPr/>
            <p:nvPr/>
          </p:nvPicPr>
          <p:blipFill>
            <a:blip r:embed="rId1"/>
            <a:stretch/>
          </p:blipFill>
          <p:spPr>
            <a:xfrm flipH="1" rot="10800000">
              <a:off x="0" y="-360"/>
              <a:ext cx="8317080" cy="1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2"/>
            <a:stretch/>
          </p:blipFill>
          <p:spPr>
            <a:xfrm flipH="1" rot="5400000">
              <a:off x="-2663640" y="2781360"/>
              <a:ext cx="5472000" cy="14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" name=""/>
          <p:cNvSpPr/>
          <p:nvPr/>
        </p:nvSpPr>
        <p:spPr>
          <a:xfrm>
            <a:off x="1258920" y="2279520"/>
            <a:ext cx="76676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在我眼中却是高不可攀的险峰。（未爬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我落在最后，全身颤抖，冷汗直冒。我的心在瘦骨嶙峋的胸腔里冬冬直跳。（跟着他们向上爬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蹲在石架上，心惊肉跳，尽量往里靠。我看在眼里，吓得几乎晕倒。（终于爬上石架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软弱地哀求。感到头晕目眩、啜泣。恐惧和疲乏使我全身麻木，不能动弹。（伏在岩石上，上不去下不来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08360" y="155736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遇到的危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3" action="ppaction://hlinksldjump"/>
          </p:cNvPr>
          <p:cNvSpPr/>
          <p:nvPr/>
        </p:nvSpPr>
        <p:spPr>
          <a:xfrm>
            <a:off x="0" y="2289960"/>
            <a:ext cx="53352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5" action="ppaction://hlinksldjump"/>
          </p:cNvPr>
          <p:cNvSpPr/>
          <p:nvPr/>
        </p:nvSpPr>
        <p:spPr>
          <a:xfrm>
            <a:off x="0" y="5458680"/>
            <a:ext cx="533520" cy="520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258920" y="2421000"/>
            <a:ext cx="7885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杰利带来了我的父亲。（听见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父亲的手电光照着我，安慰我。（我哭着说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父亲教我把左脚踏到石架下面那块岩石上。（我顿时有了信心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父亲教我把右脚移到右边稍低一点的地方。（我的信心大增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我每次只移动一小步，慢慢爬下悬崖，投入了父亲强壮的手臂中。（啜泣了一会儿，产生了一种巨大的成就感。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0" y="-360"/>
            <a:ext cx="8317080" cy="5590080"/>
            <a:chOff x="0" y="-360"/>
            <a:chExt cx="8317080" cy="5590080"/>
          </a:xfrm>
        </p:grpSpPr>
        <p:pic>
          <p:nvPicPr>
            <p:cNvPr id="80" name="" descr=""/>
            <p:cNvPicPr/>
            <p:nvPr/>
          </p:nvPicPr>
          <p:blipFill>
            <a:blip r:embed="rId1"/>
            <a:stretch/>
          </p:blipFill>
          <p:spPr>
            <a:xfrm flipH="1" rot="10800000">
              <a:off x="0" y="-360"/>
              <a:ext cx="8317080" cy="1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2"/>
            <a:stretch/>
          </p:blipFill>
          <p:spPr>
            <a:xfrm flipH="1" rot="5400000">
              <a:off x="-2663640" y="2781360"/>
              <a:ext cx="5472000" cy="14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" name=""/>
          <p:cNvSpPr/>
          <p:nvPr/>
        </p:nvSpPr>
        <p:spPr>
          <a:xfrm>
            <a:off x="3851280" y="170028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脱险的过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3" action="ppaction://hlinksldjump"/>
          </p:cNvPr>
          <p:cNvSpPr/>
          <p:nvPr/>
        </p:nvSpPr>
        <p:spPr>
          <a:xfrm>
            <a:off x="0" y="1929600"/>
            <a:ext cx="53352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5" action="ppaction://hlinksldjump"/>
          </p:cNvPr>
          <p:cNvSpPr/>
          <p:nvPr/>
        </p:nvSpPr>
        <p:spPr>
          <a:xfrm>
            <a:off x="0" y="5529960"/>
            <a:ext cx="533520" cy="520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332000" y="1844640"/>
            <a:ext cx="72723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从课文内容看，标题“走一步，再走一步”是什么意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在人生道路上，面对困难，“走了一步，再走下一步”是什么意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一个巨大的困难分成“一步一步”，是什么意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为什么不要想着距离有多远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203640" y="333360"/>
            <a:ext cx="3313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主旨探究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826920" y="1267920"/>
            <a:ext cx="8317080" cy="5589360"/>
            <a:chOff x="826920" y="1267920"/>
            <a:chExt cx="8317080" cy="558936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 flipH="1" rot="10800000">
              <a:off x="826920" y="1267560"/>
              <a:ext cx="8317080" cy="1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 flipH="1" rot="5400000">
              <a:off x="-1816560" y="4068720"/>
              <a:ext cx="5432040" cy="14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3"/>
            <a:stretch/>
          </p:blipFill>
          <p:spPr>
            <a:xfrm flipH="1" rot="10800000">
              <a:off x="826920" y="6664320"/>
              <a:ext cx="8317080" cy="1890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3T15:34:55Z</dcterms:created>
  <dc:creator>teacher</dc:creator>
  <dc:description/>
  <dc:language>en-US</dc:language>
  <cp:lastModifiedBy>island</cp:lastModifiedBy>
  <dcterms:modified xsi:type="dcterms:W3CDTF">2010-09-08T06:14:09Z</dcterms:modified>
  <cp:revision>14</cp:revision>
  <dc:subject/>
  <dc:title>PowerPoint 演示文稿</dc:title>
</cp:coreProperties>
</file>