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正音" id="0">
      <p:sldLst>
        <p:sld r:id="rId5"/>
      </p:sldLst>
    </p:custShow>
    <p:custShow name="活用" id="1">
      <p:sldLst>
        <p:sld r:id="rId6"/>
      </p:sldLst>
    </p:custShow>
    <p:custShow name="辨析" id="2">
      <p:sldLst>
        <p:sld r:id="rId7"/>
      </p:sldLst>
    </p:custShow>
    <p:custShow name="通假" id="3">
      <p:sldLst>
        <p:sld r:id="rId8"/>
      </p:sldLst>
    </p:custShow>
    <p:custShow name="解释" id="4">
      <p:sldLst>
        <p:sld r:id="rId9"/>
      </p:sldLst>
    </p:custShow>
    <p:custShow name="句式" id="5">
      <p:sldLst>
        <p:sld r:id="rId10"/>
      </p:sldLst>
    </p:custShow>
    <p:custShow name="来源" id="6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EF4-F2E5-441D-8FA1-55B4A302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F14-C19C-40AB-8EB8-CF354CF7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823-7A83-47D2-B599-CDB42AB5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E1A-34EA-4E91-9D79-62AD4C53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F2D-1568-488C-9B5F-B7DED74D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037-6521-4F89-B300-67218322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9A5-F7A9-4A45-9DE1-1E3FCCE6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5C6-C1E5-4878-BD62-02F78C4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1E7-6A0D-4859-BF2C-0E68A9D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AE3-D004-429C-AE58-B1C3F09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463-B870-41C4-93FE-EFADD0A7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099-DF3E-4A95-9239-88A879F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4307-CC68-43D7-878C-187F7F7C0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5040" y="1401840"/>
            <a:ext cx="280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秋  水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733920"/>
            <a:ext cx="28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庄子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680" y="4724280"/>
            <a:ext cx="92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黑龙江齐齐哈尔车辆厂第一中学语文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姜国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83059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课堂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则寓言故事包含哪些道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971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133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人贵有自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200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谦受益，满招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2286000"/>
            <a:ext cx="76320" cy="2666880"/>
          </a:xfrm>
          <a:custGeom>
            <a:avLst/>
            <a:gdLst>
              <a:gd name="textAreaLeft" fmla="*/ 22320 w 76320"/>
              <a:gd name="textAreaRight" fmla="*/ 76320 w 763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1911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自大由于无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286000"/>
            <a:ext cx="76320" cy="2666880"/>
          </a:xfrm>
          <a:custGeom>
            <a:avLst/>
            <a:gdLst>
              <a:gd name="textAreaLeft" fmla="*/ 22320 w 76320"/>
              <a:gd name="textAreaRight" fmla="*/ 76320 w 763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知耻近于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0481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克服主观主义，防止片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419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有比较才有鉴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32000" y="1773360"/>
            <a:ext cx="754380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是焉河伯欣然自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焉用亡郑以陪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吾子又死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寒暑易节，始一反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2205000"/>
            <a:ext cx="381240" cy="1523880"/>
          </a:xfrm>
          <a:custGeom>
            <a:avLst/>
            <a:gdLst>
              <a:gd name="textAreaLeft" fmla="*/ 243720 w 381240"/>
              <a:gd name="textAreaRight" fmla="*/ 381600 w 3812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2050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中语气助词，表停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565360"/>
            <a:ext cx="29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疑问代词，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924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词，于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328464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末语气助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419720"/>
            <a:ext cx="75438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以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天下之美尽在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其无礼于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越国以鄙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舍郑以为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吾一日长乎尔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79736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46880" y="535464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75280" y="457200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，认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5280" y="497376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因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5334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词，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563868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27560" y="59641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因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73320" y="907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整理归纳词语意义和用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77120" y="2666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57200"/>
            <a:ext cx="82296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与“莫己若”的句式完全相同的一项是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吾知也。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赵氏求救于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是寡人之过也。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何后之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给下列句式附上例句，并译成现代汉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7621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70680" y="534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本文的写作技巧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828800"/>
            <a:ext cx="7804080" cy="79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对比手法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寓言与比喻说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-9756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9600" spc="-1" strike="noStrike" u="sng">
              <a:solidFill>
                <a:srgbClr val="ff0000"/>
              </a:solidFill>
              <a:uFillTx/>
              <a:latin typeface="Times New Roman"/>
              <a:ea typeface="宋体-方正超大字符集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黑龙江齐齐齐哈尔车辆厂第一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姜国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95640" y="836640"/>
            <a:ext cx="4752720" cy="266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再见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9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家作品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143000"/>
            <a:ext cx="792468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庄子，名周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战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蒙人，他继承并发展了老子的思想，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道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派的重要代表人物，世称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老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庄子思想属于主观唯心主义体系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认识论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走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对主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庄子对待生活的态度是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切顺应自然。在政治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他主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为而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庄子》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想象奇幻，构思巧妙，善用寓言和比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具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浪漫主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艺术风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08640" y="1828800"/>
            <a:ext cx="47617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泾：同“径”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jì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涘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s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渚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zh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殆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à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77328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正音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76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9480" y="141912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状语，按时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09480" y="251460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状语，向东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09480" y="365760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动词，面对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8680" y="4848120"/>
            <a:ext cx="80773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意动用法，以……为少，以……为轻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6130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仲尼之闻，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轻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伯夷之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280" y="3171960"/>
            <a:ext cx="4383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面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而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0440" y="2057400"/>
            <a:ext cx="23252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顺流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9080" y="914400"/>
            <a:ext cx="2081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秋水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35520" y="5410080"/>
            <a:ext cx="33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以天下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尽在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800" y="5867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形容词用作名词，美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2320" y="1095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523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表示达到某种程度，或表示另提一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057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修养很高、明白道理的人，或专通某种学     问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819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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不吝啬；</a:t>
            </a:r>
            <a:r>
              <a:rPr b="1" lang="zh-CN" sz="2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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自然，不拘束；不俗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3276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特指黄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809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天然的或人工的大水道，泛指河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3120" y="272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古今词义辨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57840" y="1066680"/>
            <a:ext cx="1982880" cy="1054080"/>
            <a:chOff x="357840" y="1066680"/>
            <a:chExt cx="1982880" cy="1054080"/>
          </a:xfrm>
        </p:grpSpPr>
        <p:sp>
          <p:nvSpPr>
            <p:cNvPr id="67" name=""/>
            <p:cNvSpPr/>
            <p:nvPr/>
          </p:nvSpPr>
          <p:spPr>
            <a:xfrm>
              <a:off x="1031760" y="129528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7840" y="1333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至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19920" y="1066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古义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9920" y="1600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今义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69080" y="2209680"/>
            <a:ext cx="1860840" cy="992880"/>
            <a:chOff x="469080" y="2209680"/>
            <a:chExt cx="1860840" cy="992880"/>
          </a:xfrm>
        </p:grpSpPr>
        <p:sp>
          <p:nvSpPr>
            <p:cNvPr id="72" name=""/>
            <p:cNvSpPr/>
            <p:nvPr/>
          </p:nvSpPr>
          <p:spPr>
            <a:xfrm>
              <a:off x="1143000" y="23857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9080" y="24238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大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00560" y="2209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古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0560" y="2742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今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2840" y="3276720"/>
            <a:ext cx="1982160" cy="992880"/>
            <a:chOff x="42840" y="3276720"/>
            <a:chExt cx="1982160" cy="992880"/>
          </a:xfrm>
        </p:grpSpPr>
        <p:sp>
          <p:nvSpPr>
            <p:cNvPr id="77" name=""/>
            <p:cNvSpPr/>
            <p:nvPr/>
          </p:nvSpPr>
          <p:spPr>
            <a:xfrm>
              <a:off x="838080" y="345276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40" y="35002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95640" y="3276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古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640" y="3809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今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49640" y="882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374920"/>
            <a:ext cx="18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930480"/>
            <a:ext cx="28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牛马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97080" y="2421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泾同“径”，径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7040" y="3933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辩同“辨”，分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10680" y="457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实词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9160" y="16239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泛指众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9160" y="2587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水边，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35514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望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仰视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61400" y="45147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见闻，学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54320" y="5478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危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30080" y="1386000"/>
            <a:ext cx="25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闻道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10680" y="304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特殊句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0" y="519732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吾长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笑于大方之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1280" y="393876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３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谓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53800" y="2693880"/>
            <a:ext cx="23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２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为莫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己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1386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定语后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27115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宾语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3946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宾语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5197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被动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0720" y="1843200"/>
            <a:ext cx="2519280" cy="520560"/>
            <a:chOff x="1980720" y="1843200"/>
            <a:chExt cx="2519280" cy="520560"/>
          </a:xfrm>
        </p:grpSpPr>
        <p:grpSp>
          <p:nvGrpSpPr>
            <p:cNvPr id="102" name=""/>
            <p:cNvGrpSpPr/>
            <p:nvPr/>
          </p:nvGrpSpPr>
          <p:grpSpPr>
            <a:xfrm>
              <a:off x="1980720" y="1980720"/>
              <a:ext cx="746640" cy="305280"/>
              <a:chOff x="1980720" y="1980720"/>
              <a:chExt cx="746640" cy="305280"/>
            </a:xfrm>
          </p:grpSpPr>
          <p:sp>
            <p:nvSpPr>
              <p:cNvPr id="103" name=""/>
              <p:cNvSpPr/>
              <p:nvPr/>
            </p:nvSpPr>
            <p:spPr>
              <a:xfrm>
                <a:off x="2727360" y="198108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980720" y="2286000"/>
                <a:ext cx="74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981080" y="1980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634120" y="1843200"/>
              <a:ext cx="186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定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23720" y="3138480"/>
            <a:ext cx="2600280" cy="520560"/>
            <a:chOff x="3123720" y="3138480"/>
            <a:chExt cx="2600280" cy="520560"/>
          </a:xfrm>
        </p:grpSpPr>
        <p:grpSp>
          <p:nvGrpSpPr>
            <p:cNvPr id="108" name=""/>
            <p:cNvGrpSpPr/>
            <p:nvPr/>
          </p:nvGrpSpPr>
          <p:grpSpPr>
            <a:xfrm>
              <a:off x="3123720" y="3290400"/>
              <a:ext cx="896400" cy="305280"/>
              <a:chOff x="3123720" y="3290400"/>
              <a:chExt cx="896400" cy="305280"/>
            </a:xfrm>
          </p:grpSpPr>
          <p:sp>
            <p:nvSpPr>
              <p:cNvPr id="109" name=""/>
              <p:cNvSpPr/>
              <p:nvPr/>
            </p:nvSpPr>
            <p:spPr>
              <a:xfrm>
                <a:off x="4020120" y="32907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3123720" y="3595680"/>
                <a:ext cx="896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3124080" y="3290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930840" y="3138480"/>
              <a:ext cx="179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宾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52480" y="4419720"/>
            <a:ext cx="3106440" cy="520560"/>
            <a:chOff x="1752480" y="4419720"/>
            <a:chExt cx="3106440" cy="520560"/>
          </a:xfrm>
        </p:grpSpPr>
        <p:grpSp>
          <p:nvGrpSpPr>
            <p:cNvPr id="114" name=""/>
            <p:cNvGrpSpPr/>
            <p:nvPr/>
          </p:nvGrpSpPr>
          <p:grpSpPr>
            <a:xfrm>
              <a:off x="1752480" y="4495680"/>
              <a:ext cx="1370160" cy="290880"/>
              <a:chOff x="1752480" y="4495680"/>
              <a:chExt cx="1370160" cy="290880"/>
            </a:xfrm>
          </p:grpSpPr>
          <p:sp>
            <p:nvSpPr>
              <p:cNvPr id="115" name=""/>
              <p:cNvSpPr/>
              <p:nvPr/>
            </p:nvSpPr>
            <p:spPr>
              <a:xfrm>
                <a:off x="3122640" y="449604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752480" y="4786560"/>
                <a:ext cx="137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752480" y="449568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031920" y="4419720"/>
              <a:ext cx="182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宾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314440" y="586728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用在动词前，表被动，相当于“被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61560" y="1612800"/>
            <a:ext cx="963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于是河伯始旋其面目，望洋向若而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吾长见笑于大方之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0080" y="3124080"/>
            <a:ext cx="757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望洋兴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仰望海神若而兴叹。本义指在伟大的事物面前感叹自己的藐小，今多比喻要做一件而力量不够，感到无可奈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5003640"/>
            <a:ext cx="7635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见笑大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（贻笑大方，大方之家，方家）大方，行家，泛指有专长的人。指让内行见笑。多用作谦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列语句含有两个成语，请找出来并加以解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2:31:05Z</dcterms:created>
  <dc:creator>ctdn</dc:creator>
  <dc:description/>
  <dc:language>en-US</dc:language>
  <cp:lastModifiedBy>y</cp:lastModifiedBy>
  <dcterms:modified xsi:type="dcterms:W3CDTF">2008-02-20T06:29:29Z</dcterms:modified>
  <cp:revision>53</cp:revision>
  <dc:subject/>
  <dc:title>PowerPoint 演示文稿</dc:title>
</cp:coreProperties>
</file>