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F94-F0AE-4AA6-8881-96F5BFA3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607-D737-4F64-B008-BA0BAB63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9D9-380B-44A2-9F33-D6FF856E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755-5B7A-485F-849E-F448CC51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823-5C80-4C7A-8EA3-C074308A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C4B-5247-4D60-B659-6777F345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956-862A-4D50-A583-AB5C534D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DA4-5746-4EFC-8148-25E1C9F6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E28-8EC3-468B-BF45-0032B2A7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850-6533-4F1F-BD56-085E51A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186-EB24-4B67-A9CC-2C2DECB1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57B-AA72-49EB-824B-DB0360DE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83CB-610B-4C80-AB05-19EA8C03BE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bieniuhua.fl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11430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梳理探究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2767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交际中的语言应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中的禁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676520"/>
            <a:ext cx="71629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一、生老病死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二、节庆日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三、职业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四、隐私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五、特定的风俗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六、避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26920" y="2060640"/>
            <a:ext cx="66978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入境问俗，入乡随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5760" y="816120"/>
            <a:ext cx="8383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委婉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600200"/>
            <a:ext cx="8153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梳理探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生活中，什么时候需要使用委婉语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65200" y="990720"/>
            <a:ext cx="2112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委婉语应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怎样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313080" y="1828800"/>
            <a:ext cx="9372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相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相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相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提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禁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71600" y="533520"/>
            <a:ext cx="73915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自主设定情境，写出一段对话，至少运用五个以上的谦辞或敬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你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被妈妈没收了，你该如何要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32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76360" y="1052640"/>
            <a:ext cx="6697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崇尚和谐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追求和谐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享受和谐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057400" y="1600200"/>
            <a:ext cx="4267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下课！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197000"/>
            <a:ext cx="75214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播出的《艺术人生》，是一档特别节目，谈的是电视剧《恰同学少年》。下半场请出的嘉宾，是毛泽东的孙子、毛岸青的儿子毛新宇研究员。当毛新宇坐定以后，朱军深情地说：“在这里，首先对家父前些日子的过世表示深切的哀悼。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60280"/>
            <a:ext cx="12240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材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6206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家父门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4191120"/>
            <a:ext cx="4191120" cy="1904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朱军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在哪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1239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304920"/>
            <a:ext cx="35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523880"/>
            <a:ext cx="74678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通过学习，懂得在交际中如何正确使用称谓语、禁忌语、委婉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通过探究交际中的语言运用，提高交际能力，了解中国传统的文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304920"/>
            <a:ext cx="838224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人物情境设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张建国，男，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40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岁，已婚，家有一个女儿，老母健在，妻子刘秀丽，张建国从事语文教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称谓有</a:t>
            </a:r>
            <a:r>
              <a:rPr b="1" lang="zh-CN" sz="7200" spc="-1" strike="noStrike">
                <a:solidFill>
                  <a:srgbClr val="ff3300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565360"/>
            <a:ext cx="291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称谓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1916280"/>
            <a:ext cx="1728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亲属称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2924280"/>
            <a:ext cx="165744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社交称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4076640"/>
            <a:ext cx="201636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谦辞和敬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2060640"/>
            <a:ext cx="4140000" cy="1508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文化的神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对他人的尊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404640"/>
            <a:ext cx="7839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敬语和谦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敬语只能用于称呼对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谦词只能用于称呼己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152280"/>
            <a:ext cx="769608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考链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句子中，画线的传统礼貌用语使用正确的一句是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Ａ．新开的超市大门上写着八个大字：“物美价廉，欢迎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惠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Ｂ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是贵校七十年校庆，作为市长我一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光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Ｃ．我前几日登门拜访，正巧您不在，您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小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经把您调离的事告诉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Ｄ．听说你新买了房子，今天我有事走不开，改天我一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赏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拜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590920"/>
            <a:ext cx="6859440" cy="1810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Ｂ项“光临”是敬辞，指宾客到来；Ｃ项“小女”是谦辞，称自己的女儿；Ｄ项“赏光”用于请对方接受自己的邀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304920"/>
            <a:ext cx="80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穆天宇给余爷爷留一张便条，本想写得有点文采，却有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处用词不得体。请将不得体的词语找出来并进行修改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057400"/>
            <a:ext cx="8058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余爷爷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惊悉阁下病了，父亲让我登门造访，未能见面。现馈赠鲜花一束，祝早日康复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　　　　　　　　　　　　　　　　　　　　　　　　　　　　　　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宇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　　　　　　　　　　　　　　　　　　　　　　　　　　　　　　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495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             2            3   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85800" y="2971440"/>
            <a:ext cx="914400" cy="1600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2971440"/>
            <a:ext cx="76320" cy="1600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962520" y="3047760"/>
            <a:ext cx="2819160" cy="1523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047760" y="3581280"/>
            <a:ext cx="2514600" cy="1067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41008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1814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听说     您    看望    送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1143000"/>
            <a:ext cx="70102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二、禁忌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梳理探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生活中，在什么情况下，面对什么人，说话有禁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5-19T14:49:2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