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6.jpeg" ContentType="image/jpeg"/>
  <Override PartName="/ppt/media/image1.png" ContentType="image/png"/>
  <Override PartName="/ppt/media/image3.jpeg" ContentType="image/jpeg"/>
  <Override PartName="/ppt/media/projctor.wav" ContentType="audio/x-wav"/>
  <Override PartName="/ppt/media/type.wav" ContentType="audio/x-wav"/>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BA5A-A2AD-4816-A4FC-896F2CC48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8E50-5BF2-47F8-96E3-A568A80F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37933-A42D-42B9-BF01-9A38B6340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6096D-CF60-4484-93C9-CF596E83A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81556-3709-447F-AF0F-5163E5C63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657B1-53B8-428F-8C7A-F002F1539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8E4B9-6041-40F2-87EC-23FA3D98E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21800-656C-4CE4-AD89-E4549073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8F7FD-4C73-40E3-844D-B84051A7B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22BBA-934E-434B-9D4E-FD8CBB947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D87F5-03C8-4BE7-8B39-FF510BFED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51EA-FC9A-4325-AFD8-2F07C4C3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96F68-D3F2-4FD4-80CE-B5191383C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3E66F-E9FE-4B6D-995F-B510AB854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466A1-CAFB-4F9E-8D95-85DD3974E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07EBC-6487-4179-ACC3-ECBEC7622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78EDE-E6C7-4EE7-B89C-C7304EFF6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BBA7-D3AF-44D3-959E-A62175C5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976F-A830-43AD-A561-FB9E4FFF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C817A-36B0-44EC-B291-C24F976A5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CB8A-7AFE-42C2-B5B0-47CB01324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BCC4-8704-48B3-BEBE-EDD84F25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6F6B-0B4C-4B1F-B2A2-86E403B9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A4EE-102C-4465-BF05-76E41E23E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7A2-65A7-4123-BF14-33A018EBE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A18F-30FB-41EA-8ED0-08D26383A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400" spc="-1" strike="noStrike">
                <a:solidFill>
                  <a:srgbClr val="000000"/>
                </a:solidFill>
                <a:latin typeface="华文新魏"/>
                <a:ea typeface="华文新魏"/>
              </a:rPr>
              <a:t>沁园春   长沙</a:t>
            </a:r>
            <a:endParaRPr b="1" lang="en-US" sz="8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Times New Roman"/>
                <a:ea typeface="华文隶书"/>
              </a:rPr>
              <a:t>毛泽东</a:t>
            </a:r>
            <a:endParaRPr b="0" lang="en-US" sz="70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3" name="12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4" name="漫江碧透" descr=""/>
          <p:cNvPicPr/>
          <p:nvPr/>
        </p:nvPicPr>
        <p:blipFill>
          <a:blip r:embed="rId1"/>
          <a:stretch/>
        </p:blipFill>
        <p:spPr>
          <a:xfrm>
            <a:off x="-1981080" y="-228600"/>
            <a:ext cx="1112508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Times New Roman"/>
            </a:endParaRPr>
          </a:p>
        </p:txBody>
      </p:sp>
      <p:pic>
        <p:nvPicPr>
          <p:cNvPr id="107" name="百舸争流1" descr=""/>
          <p:cNvPicPr/>
          <p:nvPr/>
        </p:nvPicPr>
        <p:blipFill>
          <a:blip r:embed="rId1"/>
          <a:stretch/>
        </p:blipFill>
        <p:spPr>
          <a:xfrm>
            <a:off x="-1905120" y="-228600"/>
            <a:ext cx="11354040" cy="739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用一个四字成语概括毛泽东笔下的“湘江秋景”。</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读下面两组描写秋景的诗句，试着说说毛泽东笔下的秋景和中国传统诗词中的秋景在感情色彩上有什么不同？为什么会有这样的不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65368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04920" y="609120"/>
            <a:ext cx="8153280" cy="62485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悲哉秋之为气也，萧瑟兮草木摇落而变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楚辞》</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万里悲秋常做客，百年多病独登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杜甫 《登高》</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已觉秋窗秋不尽，那堪风雨助凄凉。</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曹雪芹 《红楼梦》</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碧云天，黄花地，北雁南飞，晓来谁</a:t>
            </a:r>
            <a:r>
              <a:rPr b="1" lang="zh-CN" sz="3600" spc="-1" strike="noStrike">
                <a:solidFill>
                  <a:srgbClr val="ff3300"/>
                </a:solidFill>
                <a:latin typeface="Times New Roman"/>
              </a:rPr>
              <a:t>染</a:t>
            </a:r>
            <a:r>
              <a:rPr b="0" lang="zh-CN" sz="3600" spc="-1" strike="noStrike">
                <a:solidFill>
                  <a:srgbClr val="000000"/>
                </a:solidFill>
                <a:latin typeface="Times New Roman"/>
              </a:rPr>
              <a:t>霜林醉？总是离人泪。</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王实甫《西厢记 </a:t>
            </a:r>
            <a:r>
              <a:rPr b="0" lang="zh-CN" sz="3600" spc="-1" strike="noStrike">
                <a:solidFill>
                  <a:srgbClr val="000000"/>
                </a:solidFill>
                <a:latin typeface="Times New Roman"/>
                <a:ea typeface="Times New Roman"/>
              </a:rPr>
              <a:t>•</a:t>
            </a:r>
            <a:r>
              <a:rPr b="0" lang="zh-CN" sz="3600" spc="-1" strike="noStrike">
                <a:solidFill>
                  <a:srgbClr val="000000"/>
                </a:solidFill>
                <a:latin typeface="Times New Roman"/>
              </a:rPr>
              <a:t>长亭送别》</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12" name="">
            <a:hlinkClick r:id="rId1" action="ppaction://hlinksldjump"/>
          </p:cNvPr>
          <p:cNvSpPr/>
          <p:nvPr/>
        </p:nvSpPr>
        <p:spPr>
          <a:xfrm>
            <a:off x="1600200" y="5029200"/>
            <a:ext cx="976320" cy="485640"/>
          </a:xfrm>
          <a:prstGeom prst="lef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读下阕，思考下列问题：</a:t>
            </a:r>
            <a:endParaRPr b="1" lang="en-US" sz="4400" spc="-1" strike="noStrike">
              <a:solidFill>
                <a:srgbClr val="000000"/>
              </a:solidFill>
              <a:latin typeface="Times New Roman"/>
            </a:endParaRPr>
          </a:p>
        </p:txBody>
      </p:sp>
      <p:sp>
        <p:nvSpPr>
          <p:cNvPr id="114"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1</a:t>
            </a:r>
            <a:r>
              <a:rPr b="0" lang="zh-CN" sz="3600" spc="-1" strike="noStrike">
                <a:solidFill>
                  <a:srgbClr val="000000"/>
                </a:solidFill>
                <a:latin typeface="方正魏碑简体"/>
                <a:ea typeface="方正魏碑简体"/>
              </a:rPr>
              <a:t>、上阕提出“谁主沉浮”这一问题，下阕回答了吗？哪些话是回答？</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2</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携来百侣曾游。忆往昔峥嵘岁月稠</a:t>
            </a:r>
            <a:r>
              <a:rPr b="0" lang="zh-CN" sz="3600" spc="-1" strike="noStrike">
                <a:solidFill>
                  <a:srgbClr val="000000"/>
                </a:solidFill>
                <a:latin typeface="方正魏碑简体"/>
                <a:ea typeface="方正魏碑简体"/>
              </a:rPr>
              <a:t>”这两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3</a:t>
            </a:r>
            <a:r>
              <a:rPr b="0" lang="zh-CN" sz="3600" spc="-1" strike="noStrike">
                <a:solidFill>
                  <a:srgbClr val="000000"/>
                </a:solidFill>
                <a:latin typeface="方正魏碑简体"/>
                <a:ea typeface="方正魏碑简体"/>
              </a:rPr>
              <a:t>、下阕中的哪个字是领字，一直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魏碑简体"/>
                <a:ea typeface="方正魏碑简体"/>
              </a:rPr>
              <a:t>4</a:t>
            </a:r>
            <a:r>
              <a:rPr b="0" lang="zh-CN" sz="3600" spc="-1" strike="noStrike">
                <a:solidFill>
                  <a:srgbClr val="000000"/>
                </a:solidFill>
                <a:latin typeface="方正魏碑简体"/>
                <a:ea typeface="方正魏碑简体"/>
              </a:rPr>
              <a:t>、“</a:t>
            </a:r>
            <a:r>
              <a:rPr b="0" lang="zh-CN" sz="3600" spc="-1" strike="noStrike">
                <a:solidFill>
                  <a:srgbClr val="000000"/>
                </a:solidFill>
                <a:latin typeface="方正魏碑简体"/>
                <a:ea typeface="方正魏碑简体"/>
              </a:rPr>
              <a:t>曾记否，到中流击水，浪遏飞舟？</a:t>
            </a:r>
            <a:r>
              <a:rPr b="0" lang="zh-CN" sz="3600" spc="-1" strike="noStrike">
                <a:solidFill>
                  <a:srgbClr val="000000"/>
                </a:solidFill>
                <a:latin typeface="方正魏碑简体"/>
                <a:ea typeface="方正魏碑简体"/>
              </a:rPr>
              <a:t>”这一句是在问谁？“击水”一词有何深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5" name=""/>
          <p:cNvSpPr/>
          <p:nvPr/>
        </p:nvSpPr>
        <p:spPr>
          <a:xfrm>
            <a:off x="2381040" y="304920"/>
            <a:ext cx="456624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a:hlinkClick r:id="rId1" action="ppaction://hlinksldjump"/>
          </p:cNvPr>
          <p:cNvSpPr/>
          <p:nvPr/>
        </p:nvSpPr>
        <p:spPr>
          <a:xfrm>
            <a:off x="7848720" y="6019920"/>
            <a:ext cx="533160" cy="5331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5181480" y="5867280"/>
            <a:ext cx="609840" cy="6098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华文行楷"/>
              </a:rPr>
              <a:t>立    志</a:t>
            </a:r>
            <a:endParaRPr b="1" lang="en-US" sz="6600" spc="-1" strike="noStrike">
              <a:solidFill>
                <a:srgbClr val="000000"/>
              </a:solidFill>
              <a:latin typeface="Times New Roman"/>
            </a:endParaRPr>
          </a:p>
        </p:txBody>
      </p:sp>
      <p:sp>
        <p:nvSpPr>
          <p:cNvPr id="85" name="PlaceHolder 2"/>
          <p:cNvSpPr>
            <a:spLocks noGrp="1"/>
          </p:cNvSpPr>
          <p:nvPr>
            <p:ph/>
          </p:nvPr>
        </p:nvSpPr>
        <p:spPr>
          <a:xfrm>
            <a:off x="1676520" y="20574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孩儿立志出乡关，</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学不成名誓不还。</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埋骨何须桑梓地，</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人生无处不青山！</a:t>
            </a:r>
            <a:endParaRPr b="0" lang="en-US" sz="5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2455200" y="623880"/>
            <a:ext cx="44175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1" name="沁园春123" descr=""/>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92"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
          <p:cNvSpPr/>
          <p:nvPr/>
        </p:nvSpPr>
        <p:spPr>
          <a:xfrm>
            <a:off x="917280" y="762120"/>
            <a:ext cx="79506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       </a:t>
            </a:r>
            <a:r>
              <a:rPr b="0" lang="zh-CN" sz="4000" spc="-1" strike="noStrike">
                <a:solidFill>
                  <a:srgbClr val="ff33cc"/>
                </a:solidFill>
                <a:latin typeface="Times New Roman"/>
                <a:ea typeface="楷体_GB2312"/>
              </a:rPr>
              <a:t>这首词写于</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是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伐战争开始的前一年，农民运动蓬勃开</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展。毛泽东直接领导了湖南的农运，建</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立了农民协会，创建了党支部，</a:t>
            </a:r>
            <a:r>
              <a:rPr b="0" lang="zh-CN" sz="4000" spc="-1" strike="noStrike">
                <a:solidFill>
                  <a:srgbClr val="ff33cc"/>
                </a:solidFill>
                <a:latin typeface="Times New Roman"/>
                <a:ea typeface="楷体_GB2312"/>
              </a:rPr>
              <a:t>1925</a:t>
            </a:r>
            <a:r>
              <a:rPr b="0" lang="zh-CN" sz="4000" spc="-1" strike="noStrike">
                <a:solidFill>
                  <a:srgbClr val="ff33cc"/>
                </a:solidFill>
                <a:latin typeface="Times New Roman"/>
                <a:ea typeface="楷体_GB2312"/>
              </a:rPr>
              <a:t>年</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10</a:t>
            </a:r>
            <a:r>
              <a:rPr b="0" lang="zh-CN" sz="4000" spc="-1" strike="noStrike">
                <a:solidFill>
                  <a:srgbClr val="ff33cc"/>
                </a:solidFill>
                <a:latin typeface="Times New Roman"/>
                <a:ea typeface="楷体_GB2312"/>
              </a:rPr>
              <a:t>月，毛泽东从韶山前往广州创办全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农民运动讲习所，途经长沙，重游橘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洲，面对绚丽的秋景，回忆往昔的岁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Times New Roman"/>
                <a:ea typeface="楷体_GB2312"/>
              </a:rPr>
              <a:t>写下了这首气势磅礴的词。</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checker dir="horz"/>
    <p:sndAc>
      <p:stSnd>
        <p:snd r:embed="rId1"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2" name="type.wav"/>
                                        </p:tgtEl>
                                      </p:cMediaNode>
                                    </p:audio>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fltVal val="0"/>
                                          </p:val>
                                        </p:tav>
                                        <p:tav tm="100000">
                                          <p:val>
                                            <p:strVal val="#ppt_w"/>
                                          </p:val>
                                        </p:tav>
                                      </p:tavLst>
                                    </p:anim>
                                    <p:anim calcmode="lin" valueType="num">
                                      <p:cBhvr additive="repl">
                                        <p:cTn id="8"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读上阕，思考下列问题：</a:t>
            </a:r>
            <a:endParaRPr b="1" lang="en-US" sz="3600" spc="-1" strike="noStrike">
              <a:solidFill>
                <a:srgbClr val="000000"/>
              </a:solidFill>
              <a:latin typeface="Times New Roman"/>
            </a:endParaRPr>
          </a:p>
        </p:txBody>
      </p:sp>
      <p:sp>
        <p:nvSpPr>
          <p:cNvPr id="97"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开头三句的正常语序是怎样的？</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一个“看”字管到哪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a:solidFill>
                  <a:srgbClr val="000000"/>
                </a:solidFill>
                <a:latin typeface="Times New Roman"/>
              </a:rPr>
              <a:t>、景物描写的视角变化和写景顺序是怎样的</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a:t>
            </a:r>
            <a:r>
              <a:rPr b="0" lang="zh-CN" sz="3600" spc="-1" strike="noStrike">
                <a:solidFill>
                  <a:srgbClr val="000000"/>
                </a:solidFill>
                <a:latin typeface="Times New Roman"/>
              </a:rPr>
              <a:t>、写景诗句中哪些动词用得好？为什么</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000000"/>
                </a:solidFill>
                <a:latin typeface="Times New Roman"/>
              </a:rPr>
              <a:t>、写景诗句和“</a:t>
            </a:r>
            <a:r>
              <a:rPr b="0" lang="zh-CN" sz="3600" spc="-1" strike="noStrike">
                <a:solidFill>
                  <a:srgbClr val="ff33cc"/>
                </a:solidFill>
                <a:latin typeface="方正魏碑简体"/>
                <a:ea typeface="方正黄草简体"/>
              </a:rPr>
              <a:t>怅寥廓，问苍茫大地，谁主沉浮？</a:t>
            </a:r>
            <a:r>
              <a:rPr b="0" lang="zh-CN" sz="3600" spc="-1" strike="noStrike">
                <a:solidFill>
                  <a:srgbClr val="000000"/>
                </a:solidFill>
                <a:latin typeface="Times New Roman"/>
              </a:rPr>
              <a:t>”这一问题的提出有什么联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98" name=""/>
          <p:cNvSpPr/>
          <p:nvPr/>
        </p:nvSpPr>
        <p:spPr>
          <a:xfrm>
            <a:off x="2223000" y="623880"/>
            <a:ext cx="4881960" cy="630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6600ff"/>
                </a:solidFill>
                <a:latin typeface="Times New Roman"/>
                <a:ea typeface="方正黄草简体"/>
              </a:rPr>
              <a:t>沁园春</a:t>
            </a:r>
            <a:r>
              <a:rPr b="0" lang="zh-CN" sz="4000" spc="-1" strike="noStrike">
                <a:solidFill>
                  <a:srgbClr val="6600ff"/>
                </a:solidFill>
                <a:latin typeface="Times New Roman"/>
                <a:ea typeface="方正黄草简体"/>
              </a:rPr>
              <a:t>    </a:t>
            </a:r>
            <a:r>
              <a:rPr b="0" lang="zh-CN" sz="4400" spc="-1" strike="noStrike">
                <a:solidFill>
                  <a:srgbClr val="ff0000"/>
                </a:solidFill>
                <a:latin typeface="Times New Roman"/>
                <a:ea typeface="方正黄草简体"/>
              </a:rPr>
              <a:t>长沙</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黄草简体"/>
              </a:rPr>
              <a:t>         </a:t>
            </a:r>
            <a:r>
              <a:rPr b="0" lang="zh-CN" sz="3200" spc="-1" strike="noStrike">
                <a:solidFill>
                  <a:srgbClr val="ff33cc"/>
                </a:solidFill>
                <a:latin typeface="方正魏碑简体"/>
                <a:ea typeface="方正黄草简体"/>
              </a:rPr>
              <a:t>独立寒秋，湘江北去，橘子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看万山红遍，层林尽染；漫江碧透，百舸争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鹰击长空，鱼翔浅底，万类霜天竞自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怅寥廓，问苍茫大地，谁主沉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携来百侣曾游。忆往昔峥嵘岁月稠。</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恰同学少年，风华正茂；书生意气，挥斥方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指点江山，激扬文字，粪土当年万户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方正魏碑简体"/>
                <a:ea typeface="方正黄草简体"/>
              </a:rPr>
              <a:t>   </a:t>
            </a:r>
            <a:r>
              <a:rPr b="0" lang="zh-CN" sz="3200" spc="-1" strike="noStrike">
                <a:solidFill>
                  <a:srgbClr val="ff33cc"/>
                </a:solidFill>
                <a:latin typeface="方正魏碑简体"/>
                <a:ea typeface="方正黄草简体"/>
              </a:rPr>
              <a:t>曾记否，到中流击水，浪遏飞舟？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
            <a:hlinkClick r:id="rId1" action="ppaction://hlinksldjump"/>
          </p:cNvPr>
          <p:cNvSpPr/>
          <p:nvPr/>
        </p:nvSpPr>
        <p:spPr>
          <a:xfrm flipV="1">
            <a:off x="7696080" y="6095160"/>
            <a:ext cx="762120" cy="381240"/>
          </a:xfrm>
          <a:prstGeom prst="rightArrow">
            <a:avLst>
              <a:gd name="adj1" fmla="val 50000"/>
              <a:gd name="adj2" fmla="val 499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pic>
        <p:nvPicPr>
          <p:cNvPr id="101" name="万山红遍1" descr=""/>
          <p:cNvPicPr/>
          <p:nvPr/>
        </p:nvPicPr>
        <p:blipFill>
          <a:blip r:embed="rId1"/>
          <a:stretch/>
        </p:blipFill>
        <p:spPr>
          <a:xfrm>
            <a:off x="0" y="0"/>
            <a:ext cx="9144000" cy="6858000"/>
          </a:xfrm>
          <a:prstGeom prst="rect">
            <a:avLst/>
          </a:prstGeom>
          <a:ln w="0">
            <a:noFill/>
          </a:ln>
        </p:spPr>
      </p:pic>
      <p:sp>
        <p:nvSpPr>
          <p:cNvPr id="102" name=""/>
          <p:cNvSpPr/>
          <p:nvPr/>
        </p:nvSpPr>
        <p:spPr>
          <a:xfrm>
            <a:off x="8110440" y="4800600"/>
            <a:ext cx="103356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万山红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w</cp:lastModifiedBy>
  <dcterms:modified xsi:type="dcterms:W3CDTF">2005-03-30T12:55:05Z</dcterms:modified>
  <cp:revision>53</cp:revision>
  <dc:subject/>
  <dc:title>PowerPoint Presentation</dc:title>
</cp:coreProperties>
</file>