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20C-4FCB-4899-B3A6-2A1B1D5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999-4E7B-4C66-9D60-D31D93C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F8E-3153-44FA-AD66-004FE701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16-D60C-44DA-A074-E81150E5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A6EC-8A6E-4D99-ACD6-9AC79081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8A95-ACD4-474B-B399-6460E8F7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2C9-6A55-456D-A4E4-6488E91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53A-A2A8-4B2D-AD9B-AB0C675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C96-1B25-4D16-8C6E-8AD9A44E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3FAB-698A-490F-BE8F-91F93BC7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A10F-8B96-4ABE-942E-1BCAA08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3E5-A9F4-4350-9602-5782620F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10E-C61F-4923-85BF-55B85CD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52EE-6761-4E88-98E3-71A3D66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C1B2-D50D-4BC8-B297-25DA99F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395A-E9A2-46FB-8344-4F011846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8374-C242-4D95-9FB1-955E9E5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D38-4105-42F3-9EB3-C65C263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E13-5DD6-46A4-B5FF-7AC538BC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D1-996E-4883-89DF-C8B5B8E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CC0-160A-4581-8E4A-577E966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FFA-43E8-46FA-B497-07C2EBF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61C-C67B-40D2-A925-A7F809B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3C4-48E3-42BC-8BD1-EFBE8B6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EBE0-6E3D-4CCB-B617-62A0211D637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DD7A-5EF8-4A80-8831-BEDF6976B06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2708280"/>
            <a:ext cx="701676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《天上的街市》课件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940360" y="1197000"/>
            <a:ext cx="20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cc"/>
                </a:solidFill>
                <a:latin typeface="Arial"/>
                <a:ea typeface="华文彩云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421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所想象的天上的街市是个怎样的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联想，哪些是想象？他的想象是怎么发展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26028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想象与联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155736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11253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10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197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  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3160" y="836640"/>
            <a:ext cx="1460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果联系相似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267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29264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3789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38606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5086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3160" y="3716280"/>
            <a:ext cx="146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源于客观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92720" y="76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街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916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明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5760" y="2421000"/>
            <a:ext cx="1399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天上的街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27664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99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99736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珍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40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天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149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浅浅、不甚宽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157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229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来往、闲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1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084720" y="1412640"/>
            <a:ext cx="9720" cy="49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49228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57336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65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852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5856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628640"/>
            <a:ext cx="5977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联想和想象，体会诗歌思想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，大声的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89000"/>
            <a:ext cx="367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出情感美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5000">
    <p:split dir="out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00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836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1280" y="404640"/>
            <a:ext cx="27432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125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请发挥你的奇思妙想，完成下列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63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示例，请同学们经过四至五步联想，使两个意义很远的词语联系起来。（任选其中两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雪花     茶    ②钢笔   月亮    ③夏夜 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；木头    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木头——树林——田野——足球场——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263700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叶根友蚕燕隶书(3500)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43280" y="2276280"/>
            <a:ext cx="43495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课件内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适用范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377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本课件课文选自苏教版七年级（上册）语文教材第二十二课，用于第一课时授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92360" y="33336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，说一说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997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天上的世界是怎样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484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天上的街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19280" y="3789360"/>
            <a:ext cx="460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郭沫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892—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Impact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Impact"/>
                <a:ea typeface="仿宋_GB2312"/>
              </a:rPr>
              <a:t>原名郭开贞，四川省乐山县人，我国著名的文学家、历史学家。他的著作很多，文学方面有诗集《女神》、话剧《屈原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24360" y="189000"/>
            <a:ext cx="2965320" cy="345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2743200" cy="189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04000" y="595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郭沫若故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476280"/>
            <a:ext cx="458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1400" y="3645000"/>
            <a:ext cx="1399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27280" y="213372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节奏不宜强，声音不宜大，速度不宜快，做到轻松、柔和、舒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把握这首诗美好、恬静、自然、清新而略带忧郁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读出诗歌的节奏和重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620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朗读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8000" y="0"/>
            <a:ext cx="603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天上的街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　　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远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明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闪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上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现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点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缥渺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空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陈列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物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世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珍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看，那浅浅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宽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隔着河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牛郎织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   定能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骑着牛儿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来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此刻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天街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闲游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不信，请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朵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流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提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灯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6948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508720" y="98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品味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13372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言是诗歌美丽的外衣，诗歌需要语言富有表现力，节奏和谐，富有音乐性。同学们认为诗中哪些词语使诗歌打扮得更加迷人，说说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2:16:02Z</dcterms:created>
  <dc:creator>h</dc:creator>
  <dc:description/>
  <dc:language>en-US</dc:language>
  <cp:lastModifiedBy>www.laptop.net.cn</cp:lastModifiedBy>
  <dcterms:modified xsi:type="dcterms:W3CDTF">2010-06-08T05:48:20Z</dcterms:modified>
  <cp:revision>25</cp:revision>
  <dc:subject/>
  <dc:title>幻灯片 1</dc:title>
</cp:coreProperties>
</file>