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30A-4B6D-4911-A7E3-B4CE6B54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7E8-C747-493B-ACD5-214072DF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465-345E-4110-907E-5721143D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C88-0D10-41BC-A727-189E90AF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003-ACAE-463C-BC1C-479C50FB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61F-5C75-433E-B05D-7B86E37B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E89-67AE-4CAE-ADD8-E8638BD3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423-C932-424C-9AEA-A4B40F83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281-AD2F-427F-9DFC-8F27A19E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BE8-AE6A-4DCA-931F-DA443CDE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B08-4E2F-4639-8F1F-B3A792D0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2CB-D1B1-4517-B88B-976063E7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7A73-905F-4661-8B94-BEB49E8BCF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5210280"/>
            <a:ext cx="59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Verdana"/>
                <a:ea typeface="黑体"/>
              </a:rPr>
              <a:t>动物游戏之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784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33336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瞧我的尾巴！帅得真是没话说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6920" y="40464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请看！老鼠玩猫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0120" y="861840"/>
            <a:ext cx="13993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天哪！味道不太好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5280" y="5805360"/>
            <a:ext cx="482436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加油！跳！真棒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0200" y="981000"/>
            <a:ext cx="152100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美女耶！哪来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39480" y="789120"/>
            <a:ext cx="401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练瑜伽呢！给点掌声吧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476280"/>
            <a:ext cx="4537080" cy="1584360"/>
          </a:xfrm>
          <a:prstGeom prst="wedgeRoundRectCallout">
            <a:avLst>
              <a:gd name="adj1" fmla="val -6754"/>
              <a:gd name="adj2" fmla="val 207115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哇！人原来是这个样子！好丑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43280" y="54936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看我秀一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336240" cy="8497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16000" y="836640"/>
            <a:ext cx="7938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16720" y="0"/>
            <a:ext cx="3527280" cy="1844640"/>
          </a:xfrm>
          <a:prstGeom prst="wedgeRoundRectCallout">
            <a:avLst>
              <a:gd name="adj1" fmla="val -31953"/>
              <a:gd name="adj2" fmla="val 9036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最看不惯扎堆。俗气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83360" y="476280"/>
            <a:ext cx="13993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黑体"/>
              </a:rPr>
              <a:t>被人看见怪难为情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680" y="1125360"/>
            <a:ext cx="164268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黑体"/>
              </a:rPr>
              <a:t>早就想练练手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71640" y="534204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情况有点不妙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76200" y="19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280" y="0"/>
            <a:ext cx="954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Verdana"/>
                <a:ea typeface="黑体"/>
              </a:rPr>
              <a:t>都哪去了？走了也不说一声！真没劲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1960" y="260280"/>
            <a:ext cx="1155240" cy="623736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母亲，你是荷叶，我是红莲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4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3280" y="620640"/>
            <a:ext cx="1521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我们再也不吵架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60600" y="5516640"/>
            <a:ext cx="394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喂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跟你说个秘密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11640" y="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妈妈，让我下来，我还想多玩一会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4040" y="574560"/>
            <a:ext cx="1399320" cy="58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亲爱的，你慢慢飞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92360" y="5950080"/>
            <a:ext cx="495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夕阳中的华尔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95640" y="404640"/>
            <a:ext cx="562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落霞与孤鹜齐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59280" y="5229360"/>
            <a:ext cx="50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向着蓝天歌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30280" y="5589720"/>
            <a:ext cx="329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扬鳍起航   乘风破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0:19:34Z</dcterms:created>
  <dc:creator>GHOSTXP</dc:creator>
  <dc:description/>
  <dc:language>en-US</dc:language>
  <cp:lastModifiedBy>GHOSTXP</cp:lastModifiedBy>
  <dcterms:modified xsi:type="dcterms:W3CDTF">2009-04-16T00:39:16Z</dcterms:modified>
  <cp:revision>52</cp:revision>
  <dc:subject/>
  <dc:title>幻灯片 1</dc:title>
</cp:coreProperties>
</file>