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84A-8FAB-456F-9EB9-B1231172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2B5-FC48-400D-8508-0ECE98D5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27C9-20B5-4894-871F-F372522A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ED9-C979-4275-BC4A-9903389C4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2955-FBEC-4732-870E-8AE17616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EAF-4177-4EEB-ABEB-D46B94EC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1A1-46DF-4596-9094-2ED2248D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E04-3577-4077-A92B-C520C573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F699-C4AB-4F38-BD08-BC765FD3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9DCE-5032-4884-892F-B055C6E2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3EF-83B8-4E16-9D97-0768C4E9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B79-117E-4143-8213-3205C418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B598-5F8C-42A2-922A-BD7282BA42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836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5280" y="5013360"/>
            <a:ext cx="57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Verdana"/>
                <a:ea typeface="黑体"/>
              </a:rPr>
              <a:t>动物游戏之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884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少珍贵的动植物已永远地沦为了标本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少鲜活的生态活页从我们的视野中被硬硬撕掉，被生生扯去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少诗词风景像“广陵散”般成为了遥远的绝响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 “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蒹葭苍苍，白露为霜”，“呦呦鹿鸣，食野之苹”，“关关雎鸠，在河之洲”，“河水清且涟漪”……我在抚摸这些《诗经》句子的时候，除了对美的巨大感动，内心更有一份莫名的冰凉、疼痛和颤栗。因为就在模拟那份远古“现场”的同时，我骤然被一个念头惊醒：她已永远不属于我们了——永远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那自然史上最纯真的童年风景、生命与自然最相爱最和谐的“蜜月之岁”，永远同我们告别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阅读竟成了告别，竟成了追悼。难道人类不应为此哭泣吗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03280" y="26028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认识自然    尊重生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05440" cy="51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4267080" cy="435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81296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46320" y="16477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世界未解之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853200">
            <a:off x="6268680" y="3119400"/>
            <a:ext cx="1369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ff0000"/>
                </a:solidFill>
                <a:latin typeface="Arial"/>
                <a:ea typeface="黑体"/>
              </a:rPr>
              <a:t>？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97480" y="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560" y="1447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18640" y="692280"/>
            <a:ext cx="8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鲸鱼自杀之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20880" y="1339920"/>
            <a:ext cx="69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神秘的蚂蚁王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89120" y="26352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地球上还有活着的恐龙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11240" y="-27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动物未解之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81360" y="1987560"/>
            <a:ext cx="8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尼斯湖水怪之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6000" y="3357720"/>
            <a:ext cx="874872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457200"/>
            <a:ext cx="34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思路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141560"/>
            <a:ext cx="163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叶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渡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露脊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2175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1574640"/>
            <a:ext cx="37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的各种游戏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619360"/>
            <a:ext cx="207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独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战斗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操纵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27716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3076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3152880"/>
            <a:ext cx="34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游戏的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31840" y="4067280"/>
            <a:ext cx="82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演习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娱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习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锻炼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295880"/>
            <a:ext cx="457200" cy="1523880"/>
          </a:xfrm>
          <a:custGeom>
            <a:avLst/>
            <a:gdLst>
              <a:gd name="textAreaLeft" fmla="*/ 0 w 457200"/>
              <a:gd name="textAreaRight" fmla="*/ 164880 w 4572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753080"/>
            <a:ext cx="33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为什么会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23920" y="6005520"/>
            <a:ext cx="48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总结：有待更深入的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88000" y="2468520"/>
            <a:ext cx="184464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提出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97800" y="3375000"/>
            <a:ext cx="0" cy="9907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59720" y="4556160"/>
            <a:ext cx="184464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分析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96360" y="5229360"/>
            <a:ext cx="1440" cy="5047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59720" y="5924520"/>
            <a:ext cx="184464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解决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04000" y="620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科学思维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4428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整体感知，把握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800" y="677880"/>
            <a:ext cx="49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简要概括每一自然段的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1640" y="1268280"/>
            <a:ext cx="82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叶猴在跳荡嬉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渡鸦在滑雪而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露脊鲸举起尾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它们都在游戏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游戏的分类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单独游戏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战斗游戏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操纵游戏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为什么要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上下段落间的过渡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演习说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自娱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学习说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锻炼说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总结对比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8000" y="1828800"/>
          <a:ext cx="5927760" cy="4014720"/>
        </p:xfrm>
        <a:graphic>
          <a:graphicData uri="http://schemas.openxmlformats.org/drawingml/2006/table">
            <a:tbl>
              <a:tblPr/>
              <a:tblGrid>
                <a:gridCol w="1371600"/>
                <a:gridCol w="1066680"/>
                <a:gridCol w="1067040"/>
                <a:gridCol w="242244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假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根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结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你的认同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演习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自娱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学习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锻炼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24000" y="115920"/>
            <a:ext cx="8496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研读文本，深层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找出四种假说的依据和结论，并谈自己的认同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208560" y="1773360"/>
            <a:ext cx="282744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6000" y="1447200"/>
            <a:ext cx="8748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课文为什么没有确定的结论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作者说“动物在游戏行为中”，表现出超出估计的“智力潜能、自我克制能力、创造性、想像力、狡猾、计谋、丰富多彩的通信方式”，你能从课文中找出相应的例证吗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7840" y="115920"/>
            <a:ext cx="62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动人之处   细细揣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3384720"/>
            <a:ext cx="8748720" cy="33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2920" y="180072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为什么没有确定的结论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，动物游戏行为是非常复杂的，不同动物的游戏可能有不同的原因，人类对动物了解得还不多，现在提出的各种假说都有其合理性，也有其局限性。必须深入研究，才能解开动物游戏之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、科学注重求实，即使作者倾向于某种假说，也要经过实验的证明，不能贸然下结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、包容性是科学精神的重要内涵。作者列举各种假说，其本意就有这方面的含义。让各种观点在宽松、包容的学术氛围中自由碰撞、融合，最终才能辨伪存真，求得真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2205000"/>
            <a:ext cx="53100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大胆假设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小心求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科学精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指科学主体在长期的科学活动中所陶冶和积淀的价值观念、思维方式和行为准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64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般认为科学精神包括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求实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怀疑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批判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创新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实践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包容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400" y="189000"/>
            <a:ext cx="86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作者说“动物在游戏行为中”，表现出超出估计的“智力潜能、自我克制能力、创造性、想像力、狡猾、计谋、丰富多彩的通信方式”，你能从课文中找出相应的例证吗？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87487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181080" y="115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智力潜能：具体如给黑猩猩棍子，它会用棍子做各种游戏，等等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自我克制能力：战斗游戏，“看似激烈，其实极有分寸，它们配合默契，绝不会引起伤害。”“动物严格地自我控制，使游戏不会发展成真的战斗。”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创造性和想像力：北极熊玩棍子或石头；野象“踢”草球等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狡猾、计谋：叶猴在树上互相推搡，攻守嬉闹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丰富多彩的通信方式：动物群体的游戏活动，必定有各种形式的交流通信方式，才能保证游戏的组织、进行。如北极渡鸦排队滑雪，没有沟通是不可能井然有序的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动物游戏中必然包含以上所说的各种能力，是综合性的能力，并不是说一种游戏只包含一种能力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640" y="-18000"/>
            <a:ext cx="8893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流逝的古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那样明亮的户外，那样的四季，那样的江河岳脉——若海德格尔之“诗意的栖居”成立的话，至少这洁净的山光水色乃必需的吧。可是，它们今天又在哪儿呢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那“人行明镜中，鸟度屏风里”的天光明澈，那“长安一片月，万户捣衣声”的皎月寂静……今安在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从自然的角度讲，古人的世界要比现代人丰富得多，健康而优雅得多。地球上自几十亿年前出现生命以来，生物物种的诞生、进化、灭绝就不断上演，物种灭绝本属自然进化之正常，但人类进入工业社会以后，灭绝速度大大加快。自然状态下的物种灭绝极为缓慢，而在人类活动的干扰下，目前地球上的动植物灭绝速度要比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年前快上近千倍。这是一种远高于自然速度的“工业速度”——这分明是“屠杀”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1:09:33Z</dcterms:created>
  <dc:creator>GHOSTXP</dc:creator>
  <dc:description/>
  <dc:language>en-US</dc:language>
  <cp:lastModifiedBy>GHOSTXP</cp:lastModifiedBy>
  <dcterms:modified xsi:type="dcterms:W3CDTF">2009-04-16T01:50:09Z</dcterms:modified>
  <cp:revision>78</cp:revision>
  <dc:subject/>
  <dc:title>幻灯片 1</dc:title>
</cp:coreProperties>
</file>