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771-1D69-4F9C-97A3-232D4532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44D-1C93-41D4-95FF-3BEA860E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A67-5A96-45BB-85C2-0E11053C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7E4-E050-496B-B2DF-6B9572D8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D0E7-776D-47D0-B3C7-6E93CC1C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F80A-BEC5-4374-A33C-57D138B8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F417-FA27-4F35-B936-3A4DC7DC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48AD-4E7F-43F0-ABCC-E9AC8C50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4C77-AFCD-4803-8E1D-98CC3F87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9ABC-C16D-4D71-B85E-AAC40515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7FA-BA6A-4B78-9ACC-90964BD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336-1BD4-4208-B8CF-D86DB776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6B4E-F423-41F8-86B1-4F99A0E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F21A-7CC7-486D-9E50-56830E7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47DC-504E-4012-8413-35B91712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E719-EDF0-4E99-8014-C48C2BDD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6E5-7A43-4594-96CD-2D8D653D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FF0-E7C1-44F6-A2F4-3F22649A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B7C-3DEA-40E7-BD66-E367AFC1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87D-4565-4EAC-8C55-B330E60F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9A4-BE37-4649-896D-AAB33D7D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97F-1A97-4ADC-9246-700FC34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995-8B1E-4DA5-9035-1B7DD0A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550-2B29-4E13-8310-4D772446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4D3C-1C13-48AA-A01B-730E408CE48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253-E5CD-490E-B00F-795C0900755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2708280"/>
            <a:ext cx="7016760" cy="12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Comic Sans MS"/>
                <a:ea typeface="楷体_GB2312"/>
              </a:rPr>
              <a:t>《天上的街市》课件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940360" y="1197000"/>
            <a:ext cx="20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cc"/>
                </a:solidFill>
                <a:latin typeface="Arial"/>
                <a:ea typeface="华文彩云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242100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诗人所想象的天上的街市是个怎样的世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哪些是联想，哪些是想象？他的想象是怎么发展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260280"/>
            <a:ext cx="40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想象与联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12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155736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112536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1052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想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1197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191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在                              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3160" y="836640"/>
            <a:ext cx="1460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果联系相似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93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42670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429264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3789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创造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3860640"/>
            <a:ext cx="22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50864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在                            不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3160" y="3716280"/>
            <a:ext cx="146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源于客观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292720" y="76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街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191628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明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5760" y="2421000"/>
            <a:ext cx="13993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天上的街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27664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997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物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2997360"/>
            <a:ext cx="10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珍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407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天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14972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浅浅、不甚宽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5157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牛郎织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32720" y="5229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来往、闲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41300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084720" y="1412640"/>
            <a:ext cx="9720" cy="4921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249228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57336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465300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55736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0" y="134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2852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058560" y="306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Bar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1628640"/>
            <a:ext cx="59770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开联想和想象，体会诗歌思想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，大声的朗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189000"/>
            <a:ext cx="367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出情感美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 advTm="5000">
    <p:split dir="out" orient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00000" y="62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83664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1280" y="404640"/>
            <a:ext cx="27432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1253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请发挥你的奇思妙想，完成下列练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63700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据示例，请同学们经过四至五步联想，使两个意义很远的词语联系起来。（任选其中两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雪花     茶    ②钢笔   月亮    ③夏夜   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示例；木头    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木头——树林——田野——足球场——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263700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叶根友蚕燕隶书(3500)"/>
              </a:rPr>
              <a:t>谢谢观看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43280" y="2276280"/>
            <a:ext cx="434952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课件内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适用范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目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2565360"/>
            <a:ext cx="83772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本课件课文选自苏教版七年级（上册）语文教材第二十二课，用于第一课时授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92360" y="33336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，说一说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2997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天上的世界是怎样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1484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天上的街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59280" y="450864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郭沫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19280" y="3789360"/>
            <a:ext cx="4608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郭沫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1892—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Impact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Impact"/>
                <a:ea typeface="仿宋_GB2312"/>
              </a:rPr>
              <a:t>原名郭开贞，四川省乐山县人，我国著名的文学家、历史学家。他的著作很多，文学方面有诗集《女神》、话剧《屈原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924360" y="189000"/>
            <a:ext cx="2965320" cy="345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84720" y="3933720"/>
            <a:ext cx="2743200" cy="189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04000" y="5950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郭沫若故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1000" y="476280"/>
            <a:ext cx="458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1400" y="3645000"/>
            <a:ext cx="13993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27280" y="213372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、节奏不宜强，声音不宜大，速度不宜快，做到轻松、柔和、舒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二、把握这首诗美好、恬静、自然、清新而略带忧郁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、读出诗歌的节奏和重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62064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朗读要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08000" y="0"/>
            <a:ext cx="603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天上的街市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　　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远远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街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明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好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闪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数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天上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现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好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点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数的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街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想那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缥渺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空中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美丽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街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街市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陈列的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一些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物品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世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没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珍奇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你看，那浅浅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天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宽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　       那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隔着河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牛郎织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　          定能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骑着牛儿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来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他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此刻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天街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闲游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不信，请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那朵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流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他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提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灯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1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6948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508720" y="981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彩云"/>
              </a:rPr>
              <a:t>品味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13372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言是诗歌美丽的外衣，诗歌需要语言富有表现力，节奏和谐，富有音乐性。同学们认为诗中哪些词语使诗歌打扮得更加迷人，说说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2:16:02Z</dcterms:created>
  <dc:creator>h</dc:creator>
  <dc:description/>
  <dc:language>en-US</dc:language>
  <cp:lastModifiedBy>www.laptop.net.cn</cp:lastModifiedBy>
  <dcterms:modified xsi:type="dcterms:W3CDTF">2010-06-08T05:48:20Z</dcterms:modified>
  <cp:revision>25</cp:revision>
  <dc:subject/>
  <dc:title>幻灯片 1</dc:title>
</cp:coreProperties>
</file>