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13.png" ContentType="image/png"/>
  <Override PartName="/ppt/media/image6.jpeg" ContentType="image/jpeg"/>
  <Override PartName="/ppt/media/image10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BB21-12C5-4B42-8E4C-D8756C50E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76C8-79AF-45A7-A707-FE65385AD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0111-D1D0-4E96-BA0D-586F26258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BAB3-B766-4D5F-8D31-E91B29049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F224-876A-4D03-AD0C-BCB5627F7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01B9-3579-466C-9989-5C8E1980D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BB51-1DAA-4036-8891-CB4BE2EAF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8166-1A6F-49DE-9453-955E10066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0186-7323-4F7C-B586-985BBF5CF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00BD-82DA-49AB-8661-DC5C10BC9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CFDC-EF4E-4DB7-BF11-C21239B82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1C1B-1294-4314-A581-D7154A61C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F455B-57FA-4A8C-8691-E79A4480B5F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82836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419640" y="5210280"/>
            <a:ext cx="5976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Verdana"/>
                <a:ea typeface="黑体"/>
              </a:rPr>
              <a:t>动物游戏之谜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47840" y="554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42920" y="333360"/>
            <a:ext cx="727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瞧我的尾巴！帅得真是没话说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826920" y="404640"/>
            <a:ext cx="547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请看！老鼠玩猫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0120" y="861840"/>
            <a:ext cx="139932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天哪！味道不太好哦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95280" y="5805360"/>
            <a:ext cx="4824360" cy="70344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加油！跳！真棒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60200" y="981000"/>
            <a:ext cx="1521000" cy="489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Verdana"/>
                <a:ea typeface="黑体"/>
              </a:rPr>
              <a:t>美女耶！哪来的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139480" y="789120"/>
            <a:ext cx="401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练瑜伽呢！给点掌声吧！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900000" y="476280"/>
            <a:ext cx="4537080" cy="1584360"/>
          </a:xfrm>
          <a:prstGeom prst="wedgeRoundRectCallout">
            <a:avLst>
              <a:gd name="adj1" fmla="val -6754"/>
              <a:gd name="adj2" fmla="val 207115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哇！人原来是这个样子！好丑哦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843280" y="549360"/>
            <a:ext cx="504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Verdana"/>
                <a:ea typeface="黑体"/>
              </a:rPr>
              <a:t>看我秀一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-747720"/>
            <a:ext cx="9336240" cy="84978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116000" y="836640"/>
            <a:ext cx="7938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616720" y="0"/>
            <a:ext cx="3527280" cy="1844640"/>
          </a:xfrm>
          <a:prstGeom prst="wedgeRoundRectCallout">
            <a:avLst>
              <a:gd name="adj1" fmla="val -31953"/>
              <a:gd name="adj2" fmla="val 90361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最看不惯扎堆。俗气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83360" y="476280"/>
            <a:ext cx="139932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Verdana"/>
                <a:ea typeface="黑体"/>
              </a:rPr>
              <a:t>被人看见怪难为情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9680" y="1125360"/>
            <a:ext cx="1642680" cy="47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Verdana"/>
                <a:ea typeface="黑体"/>
              </a:rPr>
              <a:t>早就想练练手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971640" y="5342040"/>
            <a:ext cx="655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情况有点不妙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76200" y="193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1280" y="0"/>
            <a:ext cx="9541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ffff"/>
                </a:solidFill>
                <a:latin typeface="Verdana"/>
                <a:ea typeface="黑体"/>
              </a:rPr>
              <a:t>都哪去了？走了也不说一声！真没劲！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71960" y="260280"/>
            <a:ext cx="1155240" cy="6237360"/>
          </a:xfrm>
          <a:prstGeom prst="rect">
            <a:avLst/>
          </a:prstGeom>
          <a:solidFill>
            <a:srgbClr val="ffffff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Verdana"/>
                <a:ea typeface="黑体"/>
              </a:rPr>
              <a:t>母亲，你是荷叶，我是红莲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43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33280" y="620640"/>
            <a:ext cx="152100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Verdana"/>
                <a:ea typeface="黑体"/>
              </a:rPr>
              <a:t>我们再也不吵架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360600" y="5516640"/>
            <a:ext cx="3946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喂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跟你说个秘密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211640" y="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妈妈，让我下来，我还想多玩一会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854040" y="574560"/>
            <a:ext cx="1399320" cy="58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亲爱的，你慢慢飞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492360" y="5950080"/>
            <a:ext cx="495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夕阳中的华尔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195640" y="404640"/>
            <a:ext cx="5626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落霞与孤鹜齐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-380880"/>
            <a:ext cx="9144000" cy="76197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059280" y="5229360"/>
            <a:ext cx="504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黑体"/>
              </a:rPr>
              <a:t>向着蓝天歌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230280" y="5589720"/>
            <a:ext cx="329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扬鳍起航   乘风破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5T00:19:34Z</dcterms:created>
  <dc:creator>GHOSTXP</dc:creator>
  <dc:description/>
  <dc:language>en-US</dc:language>
  <cp:lastModifiedBy>GHOSTXP</cp:lastModifiedBy>
  <dcterms:modified xsi:type="dcterms:W3CDTF">2009-04-16T00:39:16Z</dcterms:modified>
  <cp:revision>52</cp:revision>
  <dc:subject/>
  <dc:title>幻灯片 1</dc:title>
</cp:coreProperties>
</file>