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588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34A3-F624-4A4E-90F9-E52449D4475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DBA4-2EDC-4FFF-A3E5-9A8CC5C9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3A12-CC8B-40D2-B400-70204CFB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C4C5-ADB5-4FBA-ACB7-5104A250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216-71DE-4836-B2FC-1DD8ACDB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67D2-26E0-4342-A85F-06263CC4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E57A-8A97-459F-96F4-A6E2B276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0A08-5434-4FB9-8EEB-10FFEC04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4537-A3E7-4D7C-B7B3-8F8F29CA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AFED-0DA0-4E39-A980-DCD065E3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9971-51E8-49D4-916A-D2E27578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6454-1051-4F17-98D0-15CAB2CF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E05-3A70-4E75-9979-029D3D56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9725-6283-47E5-AD01-F469B4EB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4444-B304-4D8C-998D-813B6525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9E2B-1C58-43E4-9EDE-BBD72595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14B7-BA90-4CBB-A696-E516A20B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D858-EAF6-44B3-A721-CA542296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99F-F3AB-4AF1-AD9E-DC90EFAF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F8FD-CFD0-4CE8-865E-8E7440C6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4B5-056B-40AD-8A3E-6148694A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DF5E-736F-4BEC-8EB5-99BD8679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C657-CA36-4259-A098-77D64BA8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EC2-EFCF-47AE-8024-4F547B1B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121-A2D1-4518-9619-DFA3ACCC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588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004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89400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004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89400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004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5fb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5fb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fb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fb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3442-E0C8-4220-B58C-2FAF749E3027}" type="slidenum">
              <a:rPr b="0" lang="zh-CN" sz="1400" spc="-1" strike="noStrike">
                <a:solidFill>
                  <a:srgbClr val="005fb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588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fb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fb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63B5-3C19-4CB8-B4F6-0BB1B7559381}" type="slidenum">
              <a:rPr b="0" lang="zh-CN" sz="1400" spc="-1" strike="noStrike">
                <a:solidFill>
                  <a:srgbClr val="005fb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49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2c5884"/>
                </a:solidFill>
                <a:latin typeface="Arial"/>
                <a:ea typeface="隶书"/>
              </a:rPr>
              <a:t>《论语》十则</a:t>
            </a:r>
            <a:endParaRPr b="0" lang="en-US" sz="96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84360" y="47242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康大外语学校：袁倩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07920"/>
            <a:ext cx="9685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 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4.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学而不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思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则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罔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(wăng)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，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  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思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而不学则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殆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(dài)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。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2637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思考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08720" y="2349360"/>
            <a:ext cx="266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迷惑而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无所得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1640" y="5445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（陷入邪说的）危险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53737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空想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484000" y="1628640"/>
            <a:ext cx="1295640" cy="100836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1700280"/>
            <a:ext cx="503280" cy="64908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4581360"/>
            <a:ext cx="792000" cy="86364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4724280"/>
            <a:ext cx="1727280" cy="79236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54936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5.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由，</a:t>
            </a:r>
            <a:r>
              <a:rPr b="1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诲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(rŭ)</a:t>
            </a:r>
            <a:r>
              <a:rPr b="1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之乎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!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之为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之，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为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，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(zhì)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也。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19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教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206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通“汝”你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2205000"/>
            <a:ext cx="230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20048"/>
                </a:solidFill>
                <a:latin typeface="Arial"/>
                <a:ea typeface="华文新魏"/>
              </a:rPr>
              <a:t>对待知与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20048"/>
                </a:solidFill>
                <a:latin typeface="Arial"/>
                <a:ea typeface="华文新魏"/>
              </a:rPr>
              <a:t>不知的态度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537372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7b720"/>
                </a:solidFill>
                <a:latin typeface="Arial"/>
                <a:ea typeface="华文新魏"/>
              </a:rPr>
              <a:t>知道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5516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通“智”，智慧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907640" y="1125360"/>
            <a:ext cx="1079640" cy="7909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1125360"/>
            <a:ext cx="504720" cy="93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1125360"/>
            <a:ext cx="2232000" cy="1079640"/>
          </a:xfrm>
          <a:prstGeom prst="line">
            <a:avLst/>
          </a:prstGeom>
          <a:ln w="9360">
            <a:solidFill>
              <a:srgbClr val="b2004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4437000"/>
            <a:ext cx="1726920" cy="93672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0920" y="4437000"/>
            <a:ext cx="433440" cy="86364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627280" y="4437000"/>
            <a:ext cx="1224000" cy="86364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700000" y="4365720"/>
            <a:ext cx="2592360" cy="100800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516360" y="4365720"/>
            <a:ext cx="14292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6.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见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贤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思齐焉，见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贤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而内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(xĭng)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也。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306864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3500280"/>
            <a:ext cx="2089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贤人，有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才德的人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2997360"/>
            <a:ext cx="54936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 rot="10800000">
            <a:off x="5976720" y="3787920"/>
            <a:ext cx="7290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反省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1916280"/>
            <a:ext cx="432000" cy="165708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268000" y="1773360"/>
            <a:ext cx="2519640" cy="172692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516720" y="1773360"/>
            <a:ext cx="792000" cy="20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907920"/>
            <a:ext cx="9144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7.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三人行，必有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师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焉。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择其</a:t>
            </a:r>
            <a:r>
              <a:rPr b="1" lang="zh-CN" sz="4400" spc="-1" strike="noStrike">
                <a:solidFill>
                  <a:srgbClr val="b20048"/>
                </a:solidFill>
                <a:latin typeface="Arial"/>
                <a:ea typeface="华文新魏"/>
              </a:rPr>
              <a:t>善者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而从之，其</a:t>
            </a:r>
            <a:r>
              <a:rPr b="1" lang="zh-CN" sz="4400" spc="-1" strike="noStrike">
                <a:solidFill>
                  <a:srgbClr val="2c9a16"/>
                </a:solidFill>
                <a:latin typeface="Arial"/>
                <a:ea typeface="华文新魏"/>
              </a:rPr>
              <a:t>不善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者而改之。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2565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老师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1628640"/>
            <a:ext cx="21600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2708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长处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692360" y="3284640"/>
            <a:ext cx="0" cy="1800000"/>
          </a:xfrm>
          <a:prstGeom prst="line">
            <a:avLst/>
          </a:prstGeom>
          <a:ln w="9360">
            <a:solidFill>
              <a:srgbClr val="b2004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37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短处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579640" y="4292640"/>
            <a:ext cx="71640" cy="72072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0920" y="765000"/>
            <a:ext cx="8893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8.</a:t>
            </a:r>
            <a:r>
              <a:rPr b="1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士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不可以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弘毅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，</a:t>
            </a:r>
            <a:r>
              <a:rPr b="1" lang="zh-CN" sz="3600" spc="-1" strike="noStrike" u="sng">
                <a:solidFill>
                  <a:srgbClr val="b20048"/>
                </a:solidFill>
                <a:uFillTx/>
                <a:latin typeface="Arial"/>
                <a:ea typeface="华文新魏"/>
              </a:rPr>
              <a:t>任重</a:t>
            </a:r>
            <a:r>
              <a:rPr b="1" lang="zh-CN" sz="36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而</a:t>
            </a:r>
            <a:r>
              <a:rPr b="1" lang="zh-CN" sz="3600" spc="-1" strike="noStrike" u="sng">
                <a:solidFill>
                  <a:srgbClr val="00060c"/>
                </a:solidFill>
                <a:uFillTx/>
                <a:latin typeface="Arial"/>
                <a:ea typeface="华文新魏"/>
              </a:rPr>
              <a:t>道远</a:t>
            </a:r>
            <a:r>
              <a:rPr b="1" lang="zh-CN" sz="36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。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</a:t>
            </a:r>
            <a:r>
              <a:rPr b="1" lang="zh-CN" sz="36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仁以为己任，不亦重乎？死而后已，不亦远乎？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220500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60c"/>
                </a:solidFill>
                <a:latin typeface="Arial"/>
                <a:ea typeface="华文新魏"/>
              </a:rPr>
              <a:t>士人，指有抱负或有特殊社会地位的人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76360" y="1413000"/>
            <a:ext cx="431640" cy="86364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1916280"/>
            <a:ext cx="295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弘”，胸怀宽广；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毅”，意志坚强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1413000"/>
            <a:ext cx="21600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32720" y="242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5fbe"/>
                </a:solidFill>
                <a:latin typeface="Arial"/>
                <a:ea typeface="华文新魏"/>
              </a:rPr>
              <a:t>才能接受重任，长期坚持奋斗。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1341360"/>
            <a:ext cx="1295640" cy="1008000"/>
          </a:xfrm>
          <a:prstGeom prst="line">
            <a:avLst/>
          </a:prstGeom>
          <a:ln w="9360">
            <a:solidFill>
              <a:srgbClr val="005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53006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把实现“仁”的理想看作自己的使命，不也很重大吗？到死为止，不也很遥远吗？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90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5fbe"/>
                </a:solidFill>
                <a:latin typeface="Arial"/>
                <a:ea typeface="华文新魏"/>
              </a:rPr>
              <a:t>  </a:t>
            </a:r>
            <a:r>
              <a:rPr b="1" lang="zh-CN" sz="4800" spc="-1" strike="noStrike">
                <a:solidFill>
                  <a:srgbClr val="005fbe"/>
                </a:solidFill>
                <a:latin typeface="Arial"/>
                <a:ea typeface="华文新魏"/>
              </a:rPr>
              <a:t>9.</a:t>
            </a:r>
            <a:r>
              <a:rPr b="1" lang="zh-CN" sz="4800" spc="-1" strike="noStrike">
                <a:solidFill>
                  <a:srgbClr val="005fbe"/>
                </a:solidFill>
                <a:latin typeface="Arial"/>
                <a:ea typeface="华文新魏"/>
              </a:rPr>
              <a:t>岁寒，然后知</a:t>
            </a:r>
            <a:r>
              <a:rPr b="1" lang="zh-CN" sz="48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松柏之后凋</a:t>
            </a:r>
            <a:r>
              <a:rPr b="1" lang="zh-CN" sz="4800" spc="-1" strike="noStrike">
                <a:solidFill>
                  <a:srgbClr val="005fbe"/>
                </a:solidFill>
                <a:latin typeface="Arial"/>
                <a:ea typeface="华文新魏"/>
              </a:rPr>
              <a:t>也。</a:t>
            </a:r>
            <a:endParaRPr b="0" lang="en-US" sz="4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2205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5fbe"/>
                </a:solidFill>
                <a:latin typeface="Arial"/>
                <a:ea typeface="华文新魏"/>
              </a:rPr>
              <a:t>松柏树是最后落叶的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780000" y="1700280"/>
            <a:ext cx="2736720" cy="504720"/>
          </a:xfrm>
          <a:prstGeom prst="line">
            <a:avLst/>
          </a:prstGeom>
          <a:ln w="9360">
            <a:solidFill>
              <a:srgbClr val="005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3716280"/>
            <a:ext cx="7559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这是借松柏之后凋比喻社会现象。古文云：大寒之岁，众木皆死，然后知松柏后凋伤；平岁，众木亦有不死者，故须岁寒而后别之。喻凡人处治世，亦能自修整，与君子同；在浊世，然后知君子之正不苟容。        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朱熹引范氏曰：“小人之在治世，或与君子无异，唯临厉害，遇事变，然后君子之所守可见也。”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765000"/>
            <a:ext cx="9144000" cy="1477080"/>
          </a:xfrm>
          <a:prstGeom prst="rect">
            <a:avLst/>
          </a:prstGeom>
          <a:solidFill>
            <a:srgbClr val="ffffdd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10.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子贡问曰：“</a:t>
            </a:r>
            <a:r>
              <a:rPr b="1" lang="zh-CN" sz="3600" spc="-1" strike="noStrike" u="sng">
                <a:solidFill>
                  <a:srgbClr val="00060c"/>
                </a:solidFill>
                <a:uFillTx/>
                <a:latin typeface="Arial"/>
                <a:ea typeface="华文新魏"/>
              </a:rPr>
              <a:t>有一言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而可以终身</a:t>
            </a:r>
            <a:r>
              <a:rPr b="1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行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？”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子曰：“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恕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！</a:t>
            </a:r>
            <a:r>
              <a:rPr b="1" lang="zh-CN" sz="36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己所不欲，勿施于人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。”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3280" y="263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奉行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335772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60c"/>
                </a:solidFill>
                <a:uFillTx/>
                <a:latin typeface="Arial"/>
                <a:ea typeface="华文新魏"/>
              </a:rPr>
              <a:t>实即问“道”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547280" y="1484280"/>
            <a:ext cx="2737080" cy="187344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292360" y="1413000"/>
            <a:ext cx="2303640" cy="122400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465300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父子之道，忠恕而已矣。“忠”和“恕“正是孔子”仁”的学说的两个方面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429264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5fbe"/>
                </a:solidFill>
                <a:latin typeface="Arial"/>
                <a:ea typeface="华文新魏"/>
              </a:rPr>
              <a:t>自己所讨厌的事情，不要施加在别人身上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555640" y="2133720"/>
            <a:ext cx="431640" cy="25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88000" y="2133720"/>
            <a:ext cx="360360" cy="2158920"/>
          </a:xfrm>
          <a:prstGeom prst="line">
            <a:avLst/>
          </a:prstGeom>
          <a:ln w="9360">
            <a:solidFill>
              <a:srgbClr val="005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11280" y="105264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2c9a16"/>
                </a:solidFill>
                <a:latin typeface="Arial"/>
                <a:ea typeface="楷体_GB2312"/>
              </a:rPr>
              <a:t>分类整理：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2482920"/>
            <a:ext cx="43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2276640"/>
            <a:ext cx="475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关于</a:t>
            </a:r>
            <a:r>
              <a:rPr b="1" i="1" lang="zh-CN" sz="3200" spc="-1" strike="noStrike" u="sng">
                <a:solidFill>
                  <a:srgbClr val="00060c"/>
                </a:solidFill>
                <a:uFillTx/>
                <a:latin typeface="Arial"/>
                <a:ea typeface="华文中宋"/>
              </a:rPr>
              <a:t>学习的态度和方法</a:t>
            </a:r>
            <a:r>
              <a:rPr b="1" i="1" lang="zh-CN" sz="3200" spc="-1" strike="noStrike">
                <a:solidFill>
                  <a:srgbClr val="00060c"/>
                </a:solidFill>
                <a:latin typeface="Arial"/>
                <a:ea typeface="华文中宋"/>
              </a:rPr>
              <a:t>：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关于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思想品德修养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：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关于孔子思想体系的核心，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　　</a:t>
            </a:r>
            <a:r>
              <a:rPr b="1" i="1" lang="zh-CN" sz="3200" spc="-1" strike="noStrike" u="sng">
                <a:solidFill>
                  <a:srgbClr val="b20048"/>
                </a:solidFill>
                <a:uFillTx/>
                <a:latin typeface="Arial"/>
                <a:ea typeface="华文中宋"/>
              </a:rPr>
              <a:t>“仁”的概念：</a:t>
            </a: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　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59280" y="2349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60c"/>
                </a:solidFill>
                <a:uFillTx/>
                <a:latin typeface="Arial"/>
                <a:ea typeface="华文新魏"/>
              </a:rPr>
              <a:t>包括１２３４５章；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2997360"/>
            <a:ext cx="45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67280" y="30686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包括１４５６７８９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10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章；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11640" y="5013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b20048"/>
                </a:solidFill>
                <a:uFillTx/>
                <a:latin typeface="Arial"/>
                <a:ea typeface="华文新魏"/>
              </a:rPr>
              <a:t>包括８ </a:t>
            </a:r>
            <a:r>
              <a:rPr b="1" lang="zh-CN" sz="2800" spc="-1" strike="noStrike" u="sng">
                <a:solidFill>
                  <a:srgbClr val="b20048"/>
                </a:solidFill>
                <a:uFillTx/>
                <a:latin typeface="Arial"/>
                <a:ea typeface="华文新魏"/>
              </a:rPr>
              <a:t>10</a:t>
            </a:r>
            <a:r>
              <a:rPr b="1" lang="zh-CN" sz="2800" spc="-1" strike="noStrike" u="sng">
                <a:solidFill>
                  <a:srgbClr val="b20048"/>
                </a:solidFill>
                <a:uFillTx/>
                <a:latin typeface="Arial"/>
                <a:ea typeface="华文新魏"/>
              </a:rPr>
              <a:t>两章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248520" y="838080"/>
            <a:ext cx="2395440" cy="4503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1523880"/>
            <a:ext cx="2550960" cy="2667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57200" y="2666880"/>
            <a:ext cx="2925720" cy="2925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66680" y="914400"/>
            <a:ext cx="69343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fbe"/>
                </a:solidFill>
                <a:latin typeface="Arial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孔子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（前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551~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前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479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）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春秋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末期的思想家、政治家、教育家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儒家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的创始人。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丘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，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仲尼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。鲁国陬邑人（今山东曲阜东南）人。他的成就主要在晚年，晚年他致力于教育，整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《诗》《书》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等古代文献，并把鲁国史官所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《春秋》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加以删修，使之成为我国第一部编年体历史著作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《论语》是主要记录孔子言行的一部书，是有关儒家思想的最重要的著作。从宋朝以来，它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《大学》《中庸》《孟子》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合称为“四书”，成为封建时代读书人的必读书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fbe"/>
                </a:solidFill>
                <a:latin typeface="Arial"/>
                <a:ea typeface="华文新魏"/>
              </a:rPr>
              <a:t>  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71600" y="2895480"/>
            <a:ext cx="4165560" cy="32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0880" y="762120"/>
            <a:ext cx="2590920" cy="2035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172200" y="3505320"/>
            <a:ext cx="2590920" cy="2035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14300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                      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学而时习之，不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说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乎？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吾日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省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吾身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人不知而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愠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学而不思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罔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，思而不学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殆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诲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女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知之乎！</a:t>
            </a:r>
            <a:r>
              <a:rPr b="1" lang="zh-CN" sz="2800" spc="-1" strike="noStrike">
                <a:solidFill>
                  <a:srgbClr val="005fbe"/>
                </a:solidFill>
                <a:latin typeface="Arial"/>
                <a:ea typeface="华文新魏"/>
              </a:rPr>
              <a:t>知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之为知之，不知为不知，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知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也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65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03280" y="1484280"/>
            <a:ext cx="63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学而</a:t>
            </a:r>
            <a:r>
              <a:rPr b="1" lang="zh-CN" sz="3600" spc="-1" strike="noStrike">
                <a:solidFill>
                  <a:srgbClr val="005fbe"/>
                </a:solidFill>
                <a:latin typeface="楷体_GB2312"/>
                <a:ea typeface="楷体_GB2312"/>
              </a:rPr>
              <a:t>时</a:t>
            </a:r>
            <a:r>
              <a:rPr b="1" lang="zh-CN" sz="3600" spc="-1" strike="noStrike">
                <a:solidFill>
                  <a:srgbClr val="b20048"/>
                </a:solidFill>
                <a:latin typeface="楷体_GB2312"/>
                <a:ea typeface="楷体_GB2312"/>
              </a:rPr>
              <a:t>习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，不亦</a:t>
            </a:r>
            <a:r>
              <a:rPr b="1" lang="zh-CN" sz="3600" spc="-1" strike="noStrike">
                <a:solidFill>
                  <a:srgbClr val="166810"/>
                </a:solidFill>
                <a:latin typeface="楷体_GB2312"/>
                <a:ea typeface="楷体_GB2312"/>
              </a:rPr>
              <a:t>说（</a:t>
            </a:r>
            <a:r>
              <a:rPr b="1" lang="zh-CN" sz="3600" spc="-1" strike="noStrike">
                <a:solidFill>
                  <a:srgbClr val="166810"/>
                </a:solidFill>
                <a:latin typeface="楷体_GB2312"/>
                <a:ea typeface="楷体_GB2312"/>
              </a:rPr>
              <a:t>yuè</a:t>
            </a:r>
            <a:r>
              <a:rPr b="1" lang="zh-CN" sz="3600" spc="-1" strike="noStrike">
                <a:solidFill>
                  <a:srgbClr val="166810"/>
                </a:solidFill>
                <a:latin typeface="楷体_GB2312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乎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276640"/>
            <a:ext cx="352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5fbe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5fbe"/>
                </a:solidFill>
                <a:latin typeface="Arial"/>
                <a:ea typeface="华文新魏"/>
              </a:rPr>
              <a:t>按一定的时间”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5fbe"/>
                </a:solidFill>
                <a:latin typeface="Arial"/>
                <a:ea typeface="华文新魏"/>
              </a:rPr>
              <a:t>或“及时”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835280" y="1628640"/>
            <a:ext cx="792000" cy="648000"/>
          </a:xfrm>
          <a:prstGeom prst="line">
            <a:avLst/>
          </a:prstGeom>
          <a:ln w="9360">
            <a:solidFill>
              <a:srgbClr val="005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67280" y="4365720"/>
            <a:ext cx="216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温习”或</a:t>
            </a:r>
            <a:r>
              <a:rPr b="0" lang="zh-CN" sz="4000" spc="-1" strike="noStrike">
                <a:solidFill>
                  <a:srgbClr val="b20048"/>
                </a:solidFill>
                <a:latin typeface="Arial"/>
                <a:ea typeface="华文新魏"/>
              </a:rPr>
              <a:t>“复习”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1628640"/>
            <a:ext cx="2087640" cy="2664000"/>
          </a:xfrm>
          <a:prstGeom prst="line">
            <a:avLst/>
          </a:prstGeom>
          <a:ln w="9360">
            <a:solidFill>
              <a:srgbClr val="b2004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43360" y="2205000"/>
            <a:ext cx="729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66810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166810"/>
                </a:solidFill>
                <a:latin typeface="Arial"/>
                <a:ea typeface="华文新魏"/>
              </a:rPr>
              <a:t>愉快”或“高兴”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08720" y="1628640"/>
            <a:ext cx="1942920" cy="2521080"/>
          </a:xfrm>
          <a:prstGeom prst="line">
            <a:avLst/>
          </a:prstGeom>
          <a:ln w="9360">
            <a:solidFill>
              <a:srgbClr val="1668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4360" y="765000"/>
            <a:ext cx="7848360" cy="33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有</a:t>
            </a:r>
            <a:r>
              <a:rPr b="1" lang="zh-CN" sz="4000" spc="-1" strike="noStrike">
                <a:solidFill>
                  <a:srgbClr val="b20048"/>
                </a:solidFill>
                <a:latin typeface="Arial"/>
                <a:ea typeface="华文新魏"/>
              </a:rPr>
              <a:t>朋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自远方来，不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乐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乎？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　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人不</a:t>
            </a:r>
            <a:r>
              <a:rPr b="1" lang="zh-CN" sz="4000" spc="-1" strike="noStrike">
                <a:solidFill>
                  <a:srgbClr val="166810"/>
                </a:solidFill>
                <a:latin typeface="Arial"/>
                <a:ea typeface="华文新魏"/>
              </a:rPr>
              <a:t>知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而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(yùn),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不亦</a:t>
            </a:r>
            <a:r>
              <a:rPr b="1" lang="zh-CN" sz="4000" spc="-1" strike="noStrike">
                <a:solidFill>
                  <a:srgbClr val="2c9a16"/>
                </a:solidFill>
                <a:latin typeface="Arial"/>
                <a:ea typeface="华文新魏"/>
              </a:rPr>
              <a:t>君子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乎？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249228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志同道合的人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1413000"/>
            <a:ext cx="287640" cy="100800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2205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愉快、高兴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0" y="1484280"/>
            <a:ext cx="431640" cy="9367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4869000"/>
            <a:ext cx="129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了解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知道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4653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怨恨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084640"/>
            <a:ext cx="252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品德高尚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的　　人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476000" y="4005360"/>
            <a:ext cx="647640" cy="7189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067280" y="4149720"/>
            <a:ext cx="288720" cy="57456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588000" y="4076640"/>
            <a:ext cx="216000" cy="108108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26920" y="1052640"/>
            <a:ext cx="741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98100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5fb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吾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三</a:t>
            </a: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华文新魏"/>
              </a:rPr>
              <a:t>省</a:t>
            </a: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华文新魏"/>
              </a:rPr>
              <a:t>(xĭng)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吾身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: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为人</a:t>
            </a:r>
            <a:r>
              <a:rPr b="1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谋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而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忠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?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与朋友交而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信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?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传不</a:t>
            </a:r>
            <a:r>
              <a:rPr b="1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习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?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2205000"/>
            <a:ext cx="2087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多次”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不是确数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1989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反省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2637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办事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226692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尽心竭力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907640" y="1557360"/>
            <a:ext cx="360360" cy="64764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1557360"/>
            <a:ext cx="720720" cy="57636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795640" y="1557360"/>
            <a:ext cx="576360" cy="11509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40720" y="1557360"/>
            <a:ext cx="0" cy="79200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5013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诚实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530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温习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340000" y="4005360"/>
            <a:ext cx="1295280" cy="100800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08720" y="4005360"/>
            <a:ext cx="358560" cy="129528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4920" y="44672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       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3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温故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而</a:t>
            </a:r>
            <a:r>
              <a:rPr b="1" lang="zh-CN" sz="4400" spc="-1" strike="noStrike">
                <a:solidFill>
                  <a:srgbClr val="b20048"/>
                </a:solidFill>
                <a:latin typeface="Arial"/>
                <a:ea typeface="华文新魏"/>
              </a:rPr>
              <a:t>知新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可以</a:t>
            </a:r>
            <a:r>
              <a:rPr b="1" lang="zh-CN" sz="4400" spc="-1" strike="noStrike">
                <a:solidFill>
                  <a:srgbClr val="f89400"/>
                </a:solidFill>
                <a:latin typeface="Arial"/>
                <a:ea typeface="华文新魏"/>
              </a:rPr>
              <a:t>为师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矣。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2421000"/>
            <a:ext cx="172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复习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旧知识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1413000"/>
            <a:ext cx="23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有新的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体会和发现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72360" y="1916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成为老师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1835280" y="3716280"/>
            <a:ext cx="576000" cy="9367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851280" y="2707920"/>
            <a:ext cx="360360" cy="187308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00720" y="2637000"/>
            <a:ext cx="1224000" cy="201600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07:16:54Z</dcterms:created>
  <dc:creator>liuhj</dc:creator>
  <dc:description/>
  <dc:language>en-US</dc:language>
  <cp:lastModifiedBy>Administrator</cp:lastModifiedBy>
  <dcterms:modified xsi:type="dcterms:W3CDTF">2005-09-29T01:28:45Z</dcterms:modified>
  <cp:revision>57</cp:revision>
  <dc:subject/>
  <dc:title>《论语》十则</dc:title>
</cp:coreProperties>
</file>