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203-0563-416C-97BB-1A6D4D9935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BBB-9035-4F83-82DD-03E496FD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6E1-E7C1-4751-8420-D7C19F5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2CB-1D0C-412D-8DB6-86B08466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12E-AA4C-4EEE-BAAF-FA4D1FC9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C111-62FD-4321-A397-87CC5591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EC0-78EA-4841-9D5A-4FC04F3E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BAA-65F0-4091-BFAB-59E60593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2594-B91D-4F63-B723-83C3076B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0BDE-892E-44F1-B467-FC221533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031-E132-4F31-8421-1EFF0445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F5BC-89AE-42C5-831A-C80B1AF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224-3614-41A6-99C8-BBA6B0B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B89-8687-4C8C-B228-8CBCA4C9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9223-6A54-4726-81E1-D487447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A4D-F028-469C-BD33-C2D8BA17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BA3-DDD4-4338-9A43-7ADE1D9C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776-21E5-414C-B1F0-B6544852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FE2-5A05-409A-8A5F-287D099A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756-10F8-4B33-B19C-A3C6615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7FF-4A8A-4E75-8B2B-2131EAB7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415-8A9D-4441-B4B4-E009CA52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920-EC12-49D1-B792-403C9D7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E4E-F1D5-4B9B-A394-2AE58C1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CB8-D6BD-4F0C-8E92-F4C205E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4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94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94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8D4-D23D-48E1-885D-40727EE6980F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45B1-C7BF-4575-ADFA-C3D620B11701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c5884"/>
                </a:solidFill>
                <a:latin typeface="Arial"/>
                <a:ea typeface="隶书"/>
              </a:rPr>
              <a:t>《论语》十则</a:t>
            </a:r>
            <a:endParaRPr b="0" lang="en-US" sz="96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24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康大外语学校：袁倩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7920"/>
            <a:ext cx="968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学而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wăng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，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不学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dài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思考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349360"/>
            <a:ext cx="26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迷惑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无所得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44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（陷入邪说的）危险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373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空想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1628640"/>
            <a:ext cx="1295640" cy="1008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1700280"/>
            <a:ext cx="503280" cy="649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4581360"/>
            <a:ext cx="79200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724280"/>
            <a:ext cx="1727280" cy="792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9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由，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rŭ)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!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为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zhì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教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汝”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05000"/>
            <a:ext cx="23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对待知与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不知的态度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37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b720"/>
                </a:solidFill>
                <a:latin typeface="Arial"/>
                <a:ea typeface="华文新魏"/>
              </a:rPr>
              <a:t>知道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智”，智慧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07640" y="1125360"/>
            <a:ext cx="1079640" cy="79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125360"/>
            <a:ext cx="504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125360"/>
            <a:ext cx="2232000" cy="107964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437000"/>
            <a:ext cx="1726920" cy="936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437000"/>
            <a:ext cx="43344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7280" y="4437000"/>
            <a:ext cx="122400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000" y="4365720"/>
            <a:ext cx="2592360" cy="1008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16360" y="4365720"/>
            <a:ext cx="1429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见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思齐焉，见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内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3068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00280"/>
            <a:ext cx="20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人，有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才德的人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997360"/>
            <a:ext cx="549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976720" y="3787920"/>
            <a:ext cx="729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反省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916280"/>
            <a:ext cx="432000" cy="165708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68000" y="1773360"/>
            <a:ext cx="2519640" cy="17269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16720" y="1773360"/>
            <a:ext cx="79200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0792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7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三人行，必有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焉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择其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善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从之，其</a:t>
            </a:r>
            <a:r>
              <a:rPr b="1" lang="zh-CN" sz="4400" spc="-1" strike="noStrike">
                <a:solidFill>
                  <a:srgbClr val="2c9a16"/>
                </a:solidFill>
                <a:latin typeface="Arial"/>
                <a:ea typeface="华文新魏"/>
              </a:rPr>
              <a:t>不善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者而改之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56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老师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628640"/>
            <a:ext cx="21600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长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92360" y="3284640"/>
            <a:ext cx="0" cy="1800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短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579640" y="4292640"/>
            <a:ext cx="71640" cy="720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76500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8.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不可以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弘毅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任重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而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道远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仁以为己任，不亦重乎？死而后已，不亦远乎？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205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60c"/>
                </a:solidFill>
                <a:latin typeface="Arial"/>
                <a:ea typeface="华文新魏"/>
              </a:rPr>
              <a:t>士人，指有抱负或有特殊社会地位的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1413000"/>
            <a:ext cx="43164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91628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弘”，胸怀宽广；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毅”，意志坚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1413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4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才能接受重任，长期坚持奋斗。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341360"/>
            <a:ext cx="1295640" cy="100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30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把实现“仁”的理想看作自己的使命，不也很重大吗？到死为止，不也很遥远吗？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岁寒，然后知</a:t>
            </a:r>
            <a:r>
              <a:rPr b="1" lang="zh-CN" sz="48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松柏之后凋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4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松柏树是最后落叶的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80000" y="1700280"/>
            <a:ext cx="2736720" cy="5047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716280"/>
            <a:ext cx="75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这是借松柏之后凋比喻社会现象。古文云：大寒之岁，众木皆死，然后知松柏后凋伤；平岁，众木亦有不死者，故须岁寒而后别之。喻凡人处治世，亦能自修整，与君子同；在浊世，然后知君子之正不苟容。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朱熹引范氏曰：“小人之在治世，或与君子无异，唯临厉害，遇事变，然后君子之所守可见也。”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dd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10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贡问曰：“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有一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可以终身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行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？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曰：“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恕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！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己所不欲，勿施于人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奉行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实即问“道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7280" y="1484280"/>
            <a:ext cx="2737080" cy="18734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292360" y="1413000"/>
            <a:ext cx="2303640" cy="1224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父子之道，忠恕而已矣。“忠”和“恕“正是孔子”仁”的学说的两个方面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92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自己所讨厌的事情，不要施加在别人身上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5640" y="2133720"/>
            <a:ext cx="43164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133720"/>
            <a:ext cx="360360" cy="21589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c9a16"/>
                </a:solidFill>
                <a:latin typeface="Arial"/>
                <a:ea typeface="楷体_GB2312"/>
              </a:rPr>
              <a:t>分类整理：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8292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766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00060c"/>
                </a:solidFill>
                <a:uFillTx/>
                <a:latin typeface="Arial"/>
                <a:ea typeface="华文中宋"/>
              </a:rPr>
              <a:t>学习的态度和方法</a:t>
            </a:r>
            <a:r>
              <a:rPr b="1" i="1" lang="zh-CN" sz="3200" spc="-1" strike="noStrike">
                <a:solidFill>
                  <a:srgbClr val="00060c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思想品德修养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孔子思想体系的核心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　</a:t>
            </a:r>
            <a:r>
              <a:rPr b="1" i="1" lang="zh-CN" sz="3200" spc="-1" strike="noStrike" u="sng">
                <a:solidFill>
                  <a:srgbClr val="b20048"/>
                </a:solidFill>
                <a:uFillTx/>
                <a:latin typeface="Arial"/>
                <a:ea typeface="华文中宋"/>
              </a:rPr>
              <a:t>“仁”的概念：</a:t>
            </a: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包括１２３４５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997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06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包括１４５６７８９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501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包括８ 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两章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838080"/>
            <a:ext cx="2395440" cy="45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550960" cy="266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914400"/>
            <a:ext cx="6934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末期的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。鲁国陬邑人（今山东曲阜东南）人。他的成就主要在晚年，晚年他致力于教育，整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诗》《书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等古代文献，并把鲁国史官所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春秋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加以删修，使之成为我国第一部编年体历史著作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《论语》是主要记录孔子言行的一部书，是有关儒家思想的最重要的著作。从宋朝以来，它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大学》《中庸》《孟子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合称为“四书”，成为封建时代读书人的必读书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4165560" cy="32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590920" cy="203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            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说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乎？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身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人不知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不思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之乎！</a:t>
            </a:r>
            <a:r>
              <a:rPr b="1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之为知之，不知为不知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也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65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48428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学而</a:t>
            </a:r>
            <a:r>
              <a:rPr b="1" lang="zh-CN" sz="36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b20048"/>
                </a:solidFill>
                <a:latin typeface="楷体_GB2312"/>
                <a:ea typeface="楷体_GB2312"/>
              </a:rPr>
              <a:t>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，不亦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说（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276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按一定的时间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或“及时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35280" y="1628640"/>
            <a:ext cx="792000" cy="64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365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温习”或</a:t>
            </a:r>
            <a:r>
              <a:rPr b="0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“复习”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1628640"/>
            <a:ext cx="2087640" cy="2664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360" y="220500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愉快”或“高兴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628640"/>
            <a:ext cx="1942920" cy="2521080"/>
          </a:xfrm>
          <a:prstGeom prst="line">
            <a:avLst/>
          </a:prstGeom>
          <a:ln w="9360">
            <a:solidFill>
              <a:srgbClr val="166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5000"/>
            <a:ext cx="784836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朋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自远方来，不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人不</a:t>
            </a:r>
            <a:r>
              <a:rPr b="1" lang="zh-CN" sz="4000" spc="-1" strike="noStrike">
                <a:solidFill>
                  <a:srgbClr val="166810"/>
                </a:solidFill>
                <a:latin typeface="Arial"/>
                <a:ea typeface="华文新魏"/>
              </a:rPr>
              <a:t>知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(yùn),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不亦</a:t>
            </a:r>
            <a:r>
              <a:rPr b="1" lang="zh-CN" sz="4000" spc="-1" strike="noStrike">
                <a:solidFill>
                  <a:srgbClr val="2c9a16"/>
                </a:solidFill>
                <a:latin typeface="Arial"/>
                <a:ea typeface="华文新魏"/>
              </a:rPr>
              <a:t>君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志同道合的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413000"/>
            <a:ext cx="28764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20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愉快、高兴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84280"/>
            <a:ext cx="43164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9000"/>
            <a:ext cx="1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了解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道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怨恨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08464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品德高尚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　　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000" y="4005360"/>
            <a:ext cx="647640" cy="718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7280" y="4149720"/>
            <a:ext cx="288720" cy="5745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88000" y="4076640"/>
            <a:ext cx="216000" cy="1081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05264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5fb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人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谋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与朋友交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信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传不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205000"/>
            <a:ext cx="208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多次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不是确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反省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6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办事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669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尽心竭力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1557360"/>
            <a:ext cx="360360" cy="647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557360"/>
            <a:ext cx="720720" cy="576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5640" y="1557360"/>
            <a:ext cx="576360" cy="115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1557360"/>
            <a:ext cx="0" cy="792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诚实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温习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40000" y="4005360"/>
            <a:ext cx="129528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4005360"/>
            <a:ext cx="358560" cy="12952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20" y="446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温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知新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可以</a:t>
            </a:r>
            <a:r>
              <a:rPr b="1" lang="zh-CN" sz="4400" spc="-1" strike="noStrike">
                <a:solidFill>
                  <a:srgbClr val="f89400"/>
                </a:solidFill>
                <a:latin typeface="Arial"/>
                <a:ea typeface="华文新魏"/>
              </a:rPr>
              <a:t>为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矣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421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复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旧知识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141300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有新的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体会和发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成为老师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35280" y="3716280"/>
            <a:ext cx="57600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51280" y="2707920"/>
            <a:ext cx="360360" cy="1873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00720" y="2637000"/>
            <a:ext cx="1224000" cy="2016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7:16:54Z</dcterms:created>
  <dc:creator>liuhj</dc:creator>
  <dc:description/>
  <dc:language>en-US</dc:language>
  <cp:lastModifiedBy>Administrator</cp:lastModifiedBy>
  <dcterms:modified xsi:type="dcterms:W3CDTF">2005-09-29T01:28:45Z</dcterms:modified>
  <cp:revision>57</cp:revision>
  <dc:subject/>
  <dc:title>《论语》十则</dc:title>
</cp:coreProperties>
</file>