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type.wav" ContentType="audio/x-wav"/>
  <Override PartName="/ppt/media/image2.jpeg" ContentType="image/jpeg"/>
  <Override PartName="/ppt/media/image3.png" ContentType="image/png"/>
  <Override PartName="/ppt/media/image4.jpeg" ContentType="image/jpeg"/>
  <Override PartName="/ppt/media/chimes.wav" ContentType="audio/x-wav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170C-38D1-4EF0-A8F6-04BA7E7A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518C-6E4B-499E-AF66-C0CEAE53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EF76-AD3A-412E-B30F-93956043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328C-833B-449F-BC2D-7E7E39A58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00A0-129D-4DCD-90FB-65548BF39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280B-5FCB-4B2C-BB85-4EB9C011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3E74-6721-484E-97D0-E2AA26E1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E67B-D2AA-440E-9A02-9DAA92C8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7B15-4C9C-419E-86FD-4E6EBE56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D5CF-76DC-4A58-8E1B-3BE80CD7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9A62-2E60-4697-B971-692EB764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5FCD-D888-439F-94E3-DCEEA06B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1851-8824-4783-909B-972E2E17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7AFC-5C8A-47CE-B5D5-F0D5F1E4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9CAF-F8CA-4A4E-B554-CFE398AB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6026-3E8F-4865-B689-996D933A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7D45-69E3-4A13-809E-7329D7E7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50C1-D5B2-4EF3-B57F-1B6B55DA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7EBA-FCA8-4A86-A587-2B2073B5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0328-3BFD-4800-911D-518BAAB0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7A11-E37B-4624-AF2A-AFFE48B7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D015-F280-4C4E-8F62-F3B4FB5C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1821-C7B7-4BC7-90FA-F7B4811C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9400-7381-4CEA-BC0B-E1799F06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07FA-B684-4EB6-90B4-0B20D7E8FE8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EA2E-7763-4615-8796-2286114C72B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296280" cy="6856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09480" y="6019920"/>
            <a:ext cx="685800" cy="533160"/>
          </a:xfrm>
          <a:prstGeom prst="rightArrow">
            <a:avLst>
              <a:gd name="adj1" fmla="val 50000"/>
              <a:gd name="adj2" fmla="val 3215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33"/>
                  </a:outerShdw>
                </a:effectLst>
                <a:latin typeface="黑体"/>
              </a:rPr>
              <a:t>研读赏析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33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51" name=""/>
          <p:cNvSpPr/>
          <p:nvPr/>
        </p:nvSpPr>
        <p:spPr>
          <a:xfrm>
            <a:off x="520920" y="1905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范例２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00920" y="2611440"/>
            <a:ext cx="219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一颗从小飘来的种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却在我的心中扎下了深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30481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95480" y="3809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41440" y="3429000"/>
            <a:ext cx="2204640" cy="13737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后来“我”不懈努力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理想的树立也需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日积月累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72760" y="1928880"/>
            <a:ext cx="210096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童年的认识毕竟肤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05560" y="2593800"/>
            <a:ext cx="103428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比喻信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362320" y="2362320"/>
            <a:ext cx="15228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289548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3048120"/>
            <a:ext cx="615960" cy="126720"/>
          </a:xfrm>
          <a:custGeom>
            <a:avLst/>
            <a:gdLst/>
            <a:ahLst/>
            <a:rect l="l" t="t" r="r" b="b"/>
            <a:pathLst>
              <a:path w="388" h="80">
                <a:moveTo>
                  <a:pt x="0" y="24"/>
                </a:moveTo>
                <a:cubicBezTo>
                  <a:pt x="18" y="80"/>
                  <a:pt x="29" y="77"/>
                  <a:pt x="82" y="59"/>
                </a:cubicBezTo>
                <a:cubicBezTo>
                  <a:pt x="88" y="41"/>
                  <a:pt x="92" y="0"/>
                  <a:pt x="129" y="12"/>
                </a:cubicBezTo>
                <a:cubicBezTo>
                  <a:pt x="156" y="21"/>
                  <a:pt x="199" y="59"/>
                  <a:pt x="199" y="59"/>
                </a:cubicBezTo>
                <a:cubicBezTo>
                  <a:pt x="206" y="54"/>
                  <a:pt x="255" y="19"/>
                  <a:pt x="270" y="24"/>
                </a:cubicBezTo>
                <a:cubicBezTo>
                  <a:pt x="297" y="33"/>
                  <a:pt x="340" y="71"/>
                  <a:pt x="340" y="71"/>
                </a:cubicBezTo>
                <a:cubicBezTo>
                  <a:pt x="348" y="47"/>
                  <a:pt x="356" y="1"/>
                  <a:pt x="388" y="1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57600" y="3787920"/>
            <a:ext cx="671400" cy="206280"/>
          </a:xfrm>
          <a:custGeom>
            <a:avLst/>
            <a:gdLst/>
            <a:ahLst/>
            <a:rect l="l" t="t" r="r" b="b"/>
            <a:pathLst>
              <a:path w="423" h="130">
                <a:moveTo>
                  <a:pt x="0" y="36"/>
                </a:moveTo>
                <a:cubicBezTo>
                  <a:pt x="28" y="118"/>
                  <a:pt x="1" y="114"/>
                  <a:pt x="59" y="94"/>
                </a:cubicBezTo>
                <a:cubicBezTo>
                  <a:pt x="61" y="87"/>
                  <a:pt x="77" y="19"/>
                  <a:pt x="106" y="36"/>
                </a:cubicBezTo>
                <a:cubicBezTo>
                  <a:pt x="130" y="50"/>
                  <a:pt x="153" y="106"/>
                  <a:pt x="153" y="106"/>
                </a:cubicBezTo>
                <a:cubicBezTo>
                  <a:pt x="246" y="74"/>
                  <a:pt x="137" y="122"/>
                  <a:pt x="200" y="59"/>
                </a:cubicBezTo>
                <a:cubicBezTo>
                  <a:pt x="209" y="50"/>
                  <a:pt x="223" y="51"/>
                  <a:pt x="235" y="47"/>
                </a:cubicBezTo>
                <a:cubicBezTo>
                  <a:pt x="263" y="130"/>
                  <a:pt x="235" y="126"/>
                  <a:pt x="294" y="106"/>
                </a:cubicBezTo>
                <a:cubicBezTo>
                  <a:pt x="329" y="0"/>
                  <a:pt x="295" y="33"/>
                  <a:pt x="353" y="71"/>
                </a:cubicBezTo>
                <a:cubicBezTo>
                  <a:pt x="363" y="78"/>
                  <a:pt x="376" y="79"/>
                  <a:pt x="388" y="83"/>
                </a:cubicBezTo>
                <a:cubicBezTo>
                  <a:pt x="400" y="75"/>
                  <a:pt x="423" y="59"/>
                  <a:pt x="423" y="59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33"/>
                  </a:outerShdw>
                </a:effectLst>
                <a:latin typeface="黑体"/>
              </a:rPr>
              <a:t>研读赏析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33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64" name=""/>
          <p:cNvSpPr/>
          <p:nvPr/>
        </p:nvSpPr>
        <p:spPr>
          <a:xfrm>
            <a:off x="654120" y="1828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范例３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87520" y="2502000"/>
            <a:ext cx="790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是的，我曾一次又一次地失望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当我爬上那一座座诱惑着我的山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但我又一次次鼓起信心向前走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2971800"/>
            <a:ext cx="7596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38280" y="297180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43200" y="297180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8120" y="2971800"/>
            <a:ext cx="7596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52680" y="297180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3733920"/>
            <a:ext cx="7596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38280" y="3733920"/>
            <a:ext cx="7632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3733920"/>
            <a:ext cx="7632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4419720"/>
            <a:ext cx="7596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4419720"/>
            <a:ext cx="7632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4419720"/>
            <a:ext cx="7632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4419720"/>
            <a:ext cx="7596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23720" y="4038480"/>
            <a:ext cx="236016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强调 “我”的努力，不灰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83680" y="2438280"/>
            <a:ext cx="164376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强调失望次数多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02200" y="3200400"/>
            <a:ext cx="33012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说明遇到的困难非常多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33"/>
                  </a:outerShdw>
                </a:effectLst>
                <a:latin typeface="黑体"/>
              </a:rPr>
              <a:t>体验与反思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33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83" name=""/>
          <p:cNvSpPr/>
          <p:nvPr/>
        </p:nvSpPr>
        <p:spPr>
          <a:xfrm>
            <a:off x="1681560" y="1905120"/>
            <a:ext cx="4813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诗人成长的探 索一定早己打打动了成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的你，你的生活学习中，一定有无数座山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着你去征服或已被你征服，结合自己的生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经历说说这首诗给你的启示，把我们的人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经历与个人体验与同学们分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599480" y="457200"/>
            <a:ext cx="597636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作业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１、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仿照下面两个例子，描写一种景物表达自己的感情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          ①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河边的柳树，俯下身看着自己的倒影，还不忘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一扭腰肢。她一定高兴极了。是啊，春天来了，谁能不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兴呢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         ②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太阳发怒了，他把所有的光芒都掷到了地上，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光线像一把把利剑直刺向我，仿佛要挖出我那一颗自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自利的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仿句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、完成课后练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31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  <a:ea typeface="隶书"/>
              </a:rPr>
              <a:t>课堂小结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99ff66"/>
                </a:solidFill>
                <a:latin typeface="Arial"/>
              </a:rPr>
              <a:t>诗人在这首诗中所要告诉人们的诗自己的人生感悟与坚定信念，即奔向理想的人生征途是漫长的。但是，只要百折不挠地坚持奋斗，理想境界终将实现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我们知道，要翻过山，见到大海，就必须百折不挠，坚持奋斗。在今后的人生之路上，让我们永远牢记，心中要有个“海”，为了这个“海”，从现在开始，就要努力翻过一座座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1295280" y="1066680"/>
            <a:ext cx="6924960" cy="20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华文新魏"/>
              </a:rPr>
              <a:t>1.</a:t>
            </a:r>
            <a:r>
              <a:rPr b="0" lang="zh-CN" sz="96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华文新魏"/>
              </a:rPr>
              <a:t>在山的那边</a:t>
            </a:r>
            <a:endParaRPr b="0" lang="en-US" sz="96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华文新魏"/>
              <a:ea typeface="华文新魏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429000" y="3200400"/>
            <a:ext cx="1752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王家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4800" y="457200"/>
            <a:ext cx="1602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痴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想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隐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秘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铁青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凝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成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诱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惑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喧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腾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一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瞬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间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51680" y="5335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发呆地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59560" y="1143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隐藏，不外现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12880" y="1752480"/>
            <a:ext cx="3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青黑色，多形容人恐惧、盛怒或患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时发青的脸色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99400" y="29718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凝结而成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98480" y="3581280"/>
            <a:ext cx="359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使用手段，使人认识模糊而做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事；吸引，招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44440" y="4800600"/>
            <a:ext cx="17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喧闹，沸腾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04600" y="54100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一眨眼之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324480" y="0"/>
            <a:ext cx="2362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808080"/>
                  </a:outerShdw>
                </a:effectLst>
                <a:latin typeface="黑体"/>
              </a:rPr>
              <a:t>整体感知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80808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1219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m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6094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ch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2971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ní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09680" y="3581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hu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48006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xuā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54864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shù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724280" y="1295280"/>
            <a:ext cx="4114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当我爬上那一座座诱惑着我的山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但我又一次次鼓起信心向前走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因为我听到海依然在远方为我喧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──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那雪白的海潮啊，夜夜奔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一次次漫湿了我枯干的心灵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在山的那边，是海吗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是的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!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人们啊，请相信—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在不停地翻过无数座山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在一次次地战胜失望之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你终会攀上这样一座山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而在这座山的那边，就是海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是一个全新的世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在一瞬间照亮你的眼睛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配乐朗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90680" y="-156060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762120"/>
            <a:ext cx="40388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小时候，我常伏在窗口痴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──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山那边是什么呢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妈妈给我说过：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哦，山那边是海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于是，怀着一种隐秘的想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有一天我终于爬上了那个山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可是，我却几乎是哭着回来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──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在山的那边，依然是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山那边的山啊，铁青着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给我的幻想打了一个零分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妈妈，那个海呢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在山的那边，是海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是用信念凝成的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今天啊，我竟没想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一颗从小飘来的种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却在我的心中扎下了深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是的，我曾一次又一次地失望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304920"/>
            <a:ext cx="396252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在山的那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王家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71474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33"/>
                  </a:outerShdw>
                </a:effectLst>
                <a:latin typeface="黑体"/>
              </a:rPr>
              <a:t>研读赏析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33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9" name=""/>
          <p:cNvSpPr/>
          <p:nvPr/>
        </p:nvSpPr>
        <p:spPr>
          <a:xfrm>
            <a:off x="4274280" y="1881360"/>
            <a:ext cx="1400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讨论交流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　　请从不同角度概括诗歌两部分的内容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3124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从事情看：第一节写“我”渴望海      第二节写“我”追寻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41148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从时间看：第一节写我童年时期  第二节写我长大以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50292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从心理看：第一节写我的向往和困惑   第二节写我的感悟与信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617220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60958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从方式看：第一节写我与妈妈的对话     第二节写我与读者的对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33"/>
                  </a:outerShdw>
                </a:effectLst>
                <a:latin typeface="黑体"/>
              </a:rPr>
              <a:t>研读赏析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33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7" name=""/>
          <p:cNvSpPr/>
          <p:nvPr/>
        </p:nvSpPr>
        <p:spPr>
          <a:xfrm>
            <a:off x="1959480" y="1881360"/>
            <a:ext cx="6026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讨论交流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　　你认为本文仅仅是在写“山”与“海”吗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诗文表达了作者怎样的情感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33"/>
                  </a:outerShdw>
                </a:effectLst>
                <a:latin typeface="黑体"/>
              </a:rPr>
              <a:t>研读赏析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33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40" name=""/>
          <p:cNvSpPr/>
          <p:nvPr/>
        </p:nvSpPr>
        <p:spPr>
          <a:xfrm>
            <a:off x="1866960" y="1881360"/>
            <a:ext cx="57524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讨论交流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　　诗中的“山”与“海”蕴含着什么意思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并请从文中找出能点明中心的句子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合作探究</a:t>
            </a:r>
            <a:endParaRPr b="0" lang="en-US" sz="40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" name=""/>
          <p:cNvSpPr/>
          <p:nvPr/>
        </p:nvSpPr>
        <p:spPr>
          <a:xfrm>
            <a:off x="1924200" y="1881360"/>
            <a:ext cx="52099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讨论交流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　　诗歌的语言是非常凝练而又有丰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内涵的，请找出你喜欢的并认为含义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刻的诗句细细品味，你不理解的词语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句子也划下来一起讨论。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33"/>
                  </a:outerShdw>
                </a:effectLst>
                <a:latin typeface="黑体"/>
              </a:rPr>
              <a:t>研读赏析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33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46" name=""/>
          <p:cNvSpPr/>
          <p:nvPr/>
        </p:nvSpPr>
        <p:spPr>
          <a:xfrm>
            <a:off x="1120680" y="1828800"/>
            <a:ext cx="2527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范例１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山那边的山啊，铁青着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给我的幻想打了一个零分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75440" y="2338560"/>
            <a:ext cx="2009520" cy="1191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将山拟人化，表面写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的颜色，实际写自己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情难过，形象生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99960" y="3678120"/>
            <a:ext cx="91224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幻想破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land</cp:lastModifiedBy>
  <dcterms:modified xsi:type="dcterms:W3CDTF">2010-09-05T12:35:02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