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B586-631D-4EDB-8C3D-802AF5BE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953-B6AC-4D76-8AB9-2603CDA9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C51-0EA3-451F-BF02-AB542045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5CA-B544-4656-9C8F-82C90007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FF2-CF1F-4095-8889-544A7A5F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7B8-A402-46D4-AE0C-D2FA58B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67B-5C3F-4B33-A6D6-94D77C0D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CC5-C0F7-4816-B403-5DC29C5C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655-A198-47F9-9F1F-34A64661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65B-34C7-4610-8733-0B86875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3CE-C576-44AF-A8B1-15D21C53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339-1660-4963-8DF6-30E85FA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BABD-EB0D-4FC5-B56F-DB0C82285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35280" y="5013360"/>
            <a:ext cx="57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Verdana"/>
                <a:ea typeface="黑体"/>
              </a:rPr>
              <a:t>动物游戏之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840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珍贵的动植物已永远地沦为了标本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鲜活的生态活页从我们的视野中被硬硬撕掉，被生生扯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少诗词风景像“广陵散”般成为了遥远的绝响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蒹葭苍苍，白露为霜”，“呦呦鹿鸣，食野之苹”，“关关雎鸠，在河之洲”，“河水清且涟漪”……我在抚摸这些《诗经》句子的时候，除了对美的巨大感动，内心更有一份莫名的冰凉、疼痛和颤栗。因为就在模拟那份远古“现场”的同时，我骤然被一个念头惊醒：她已永远不属于我们了——永远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自然史上最纯真的童年风景、生命与自然最相爱最和谐的“蜜月之岁”，永远同我们告别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阅读竟成了告别，竟成了追悼。难道人类不应为此哭泣吗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03280" y="2602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认识自然    尊重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05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143000"/>
            <a:ext cx="4267080" cy="4352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296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46320" y="16477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世界未解之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853200">
            <a:off x="6268680" y="311940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9748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560" y="14479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8640" y="69228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鲸鱼自杀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0880" y="1339920"/>
            <a:ext cx="6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神秘的蚂蚁王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89120" y="26352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地球上还有活着的恐龙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1240" y="-270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动物未解之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1360" y="1987560"/>
            <a:ext cx="8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尼斯湖水怪之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6000" y="3357720"/>
            <a:ext cx="87487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457200"/>
            <a:ext cx="347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思路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141560"/>
            <a:ext cx="163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叶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渡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露脊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21752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15746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的各种游戏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19360"/>
            <a:ext cx="207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独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战斗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操纵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277164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7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3152880"/>
            <a:ext cx="340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游戏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1840" y="4067280"/>
            <a:ext cx="82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演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学习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锻炼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429588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753080"/>
            <a:ext cx="33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为什么会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23920" y="6005520"/>
            <a:ext cx="48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总结：有待更深入的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88000" y="2468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提出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97800" y="3375000"/>
            <a:ext cx="0" cy="990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59720" y="455616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分析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6360" y="5229360"/>
            <a:ext cx="1440" cy="5047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9720" y="5924520"/>
            <a:ext cx="1844640" cy="5205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04000" y="620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科学思维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428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整体感知，把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800" y="677880"/>
            <a:ext cx="49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简要概括每一自然段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1268280"/>
            <a:ext cx="82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叶猴在跳荡嬉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渡鸦在滑雪而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露脊鲸举起尾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们都在游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游戏的分类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单独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战斗游戏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操纵游戏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为什么要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上下段落间的过渡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演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自娱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说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锻炼说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总结对比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8000" y="1828800"/>
          <a:ext cx="5927760" cy="40147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67040"/>
                <a:gridCol w="24224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假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根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结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你的认同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演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自娱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学习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锻炼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115920"/>
            <a:ext cx="849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研读文本，深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找出四种假说的依据和结论，并谈自己的认同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08560" y="1773360"/>
            <a:ext cx="282744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6000" y="1447200"/>
            <a:ext cx="8748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课文为什么没有确定的结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7840" y="1159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动人之处   细细揣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3384720"/>
            <a:ext cx="874872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2920" y="180072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为什么没有确定的结论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，动物游戏行为是非常复杂的，不同动物的游戏可能有不同的原因，人类对动物了解得还不多，现在提出的各种假说都有其合理性，也有其局限性。必须深入研究，才能解开动物游戏之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、科学注重求实，即使作者倾向于某种假说，也要经过实验的证明，不能贸然下结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三、包容性是科学精神的重要内涵。作者列举各种假说，其本意就有这方面的含义。让各种观点在宽松、包容的学术氛围中自由碰撞、融合，最终才能辨伪存真，求得真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2205000"/>
            <a:ext cx="5310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大胆假设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小心求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精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指科学主体在长期的科学活动中所陶冶和积淀的价值观念、思维方式和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6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般认为科学精神包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求实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怀疑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批判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创新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践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包容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00" y="18900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作者说“动物在游戏行为中”，表现出超出估计的“智力潜能、自我克制能力、创造性、想像力、狡猾、计谋、丰富多彩的通信方式”，你能从课文中找出相应的例证吗？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87487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181080" y="115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智力潜能：具体如给黑猩猩棍子，它会用棍子做各种游戏，等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自我克制能力：战斗游戏，“看似激烈，其实极有分寸，它们配合默契，绝不会引起伤害。”“动物严格地自我控制，使游戏不会发展成真的战斗。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创造性和想像力：北极熊玩棍子或石头；野象“踢”草球等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狡猾、计谋：叶猴在树上互相推搡，攻守嬉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丰富多彩的通信方式：动物群体的游戏活动，必定有各种形式的交流通信方式，才能保证游戏的组织、进行。如北极渡鸦排队滑雪，没有沟通是不可能井然有序的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    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动物游戏中必然包含以上所说的各种能力，是综合性的能力，并不是说一种游戏只包含一种能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640" y="-18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zh-CN" sz="4200" spc="-1" strike="noStrike">
                <a:solidFill>
                  <a:srgbClr val="000000"/>
                </a:solidFill>
                <a:latin typeface="黑体"/>
                <a:ea typeface="黑体"/>
              </a:rPr>
              <a:t>流逝的古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样明亮的户外，那样的四季，那样的江河岳脉——若海德格尔之“诗意的栖居”成立的话，至少这洁净的山光水色乃必需的吧。可是，它们今天又在哪儿呢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那“人行明镜中，鸟度屏风里”的天光明澈，那“长安一片月，万户捣衣声”的皎月寂静……今安在？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从自然的角度讲，古人的世界要比现代人丰富得多，健康而优雅得多。地球上自几十亿年前出现生命以来，生物物种的诞生、进化、灭绝就不断上演，物种灭绝本属自然进化之正常，但人类进入工业社会以后，灭绝速度大大加快。自然状态下的物种灭绝极为缓慢，而在人类活动的干扰下，目前地球上的动植物灭绝速度要比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前快上近千倍。这是一种远高于自然速度的“工业速度”——这分明是“屠杀”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1:09:33Z</dcterms:created>
  <dc:creator>GHOSTXP</dc:creator>
  <dc:description/>
  <dc:language>en-US</dc:language>
  <cp:lastModifiedBy>GHOSTXP</cp:lastModifiedBy>
  <dcterms:modified xsi:type="dcterms:W3CDTF">2009-04-16T01:50:09Z</dcterms:modified>
  <cp:revision>78</cp:revision>
  <dc:subject/>
  <dc:title>幻灯片 1</dc:title>
</cp:coreProperties>
</file>