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3B9-645B-483B-BFE8-DE3B7CC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C80-B227-464F-9C90-0C09D791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CF3-9C5B-4162-9A10-ADAD1BB2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29C-C76E-4170-AA25-4B248676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A65-67CD-4E06-A7E2-4D2854A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A0D-BDD3-4374-960B-6FC7B87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954-2D6A-4E4B-8757-3C7F49EC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07A-C875-418A-9093-A852EF0A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ABB-77BD-4336-91EF-020E19B8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72F8-8CFE-41D6-BE4B-6F9ADCA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AC5-D0BC-4870-9E6A-FA6EEA7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BE5-73D6-43C8-B230-988D164A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3C37-73B4-4CC2-97E6-99F2917F2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19640" y="521028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4784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333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瞧我的尾巴！帅得真是没话说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40464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请看！老鼠玩猫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0120" y="861840"/>
            <a:ext cx="13993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天哪！味道不太好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805360"/>
            <a:ext cx="482436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加油！跳！真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200" y="981000"/>
            <a:ext cx="152100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美女耶！哪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9480" y="789120"/>
            <a:ext cx="401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练瑜伽呢！给点掌声吧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0000" y="476280"/>
            <a:ext cx="4537080" cy="1584360"/>
          </a:xfrm>
          <a:prstGeom prst="wedgeRoundRectCallout">
            <a:avLst>
              <a:gd name="adj1" fmla="val -6754"/>
              <a:gd name="adj2" fmla="val 207115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哇！人原来是这个样子！好丑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54936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看我秀一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336240" cy="8497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836640"/>
            <a:ext cx="793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16720" y="0"/>
            <a:ext cx="3527280" cy="1844640"/>
          </a:xfrm>
          <a:prstGeom prst="wedgeRoundRectCallout">
            <a:avLst>
              <a:gd name="adj1" fmla="val -31953"/>
              <a:gd name="adj2" fmla="val 9036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最看不惯扎堆。俗气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3360" y="47628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黑体"/>
              </a:rPr>
              <a:t>被人看见怪难为情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680" y="1125360"/>
            <a:ext cx="164268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Verdana"/>
                <a:ea typeface="黑体"/>
              </a:rPr>
              <a:t>早就想练练手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971640" y="5342040"/>
            <a:ext cx="65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情况有点不妙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20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280" y="0"/>
            <a:ext cx="954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Verdana"/>
                <a:ea typeface="黑体"/>
              </a:rPr>
              <a:t>都哪去了？走了也不说一声！真没劲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71960" y="260280"/>
            <a:ext cx="1155240" cy="6237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黑体"/>
              </a:rPr>
              <a:t>母亲，你是荷叶，我是红莲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33280" y="620640"/>
            <a:ext cx="1521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我们再也不吵架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60600" y="5516640"/>
            <a:ext cx="39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喂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跟你说个秘密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11640" y="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妈妈，让我下来，我还想多玩一会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4040" y="574560"/>
            <a:ext cx="139932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亲爱的，你慢慢飞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5950080"/>
            <a:ext cx="495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夕阳中的华尔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5640" y="40464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落霞与孤鹜齐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619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59280" y="5229360"/>
            <a:ext cx="50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向着蓝天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30280" y="5589720"/>
            <a:ext cx="329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扬鳍起航   乘风破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0:19:34Z</dcterms:created>
  <dc:creator>GHOSTXP</dc:creator>
  <dc:description/>
  <dc:language>en-US</dc:language>
  <cp:lastModifiedBy>GHOSTXP</cp:lastModifiedBy>
  <dcterms:modified xsi:type="dcterms:W3CDTF">2009-04-16T00:39:16Z</dcterms:modified>
  <cp:revision>52</cp:revision>
  <dc:subject/>
  <dc:title>幻灯片 1</dc:title>
</cp:coreProperties>
</file>