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AE6-9F0E-4757-B679-6CD1AD9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802-244A-45A2-ACA5-0D41D49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995-A701-422A-B5A0-ABAD31FD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EC7-41EE-4169-8406-C70D2B61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E70-7289-4D74-9BA9-43EBC369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8CE-0BD3-429E-9124-33630DFF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A3A-FE39-4C38-A131-A975CF7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3F7-13BD-457E-ABDA-8CDF3EC3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151-F05E-492C-BF5E-34D91BA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208-3461-4A57-93B0-5DFA871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BF-D267-4BA7-9AAD-7F24D62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8EA-CF71-45E2-AE3D-BD9BCED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860F-939D-4FA1-B773-E93E0BB4B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21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7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33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瞧我的尾巴！帅得真是没话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04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请看！老鼠玩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0120" y="861840"/>
            <a:ext cx="13993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哪！味道不太好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805360"/>
            <a:ext cx="482436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加油！跳！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200" y="981000"/>
            <a:ext cx="1521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美女耶！哪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9480" y="78912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练瑜伽呢！给点掌声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76280"/>
            <a:ext cx="4537080" cy="1584360"/>
          </a:xfrm>
          <a:prstGeom prst="wedgeRoundRectCallout">
            <a:avLst>
              <a:gd name="adj1" fmla="val -6754"/>
              <a:gd name="adj2" fmla="val 207115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哇！人原来是这个样子！好丑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549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看我秀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336240" cy="849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836640"/>
            <a:ext cx="79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0"/>
            <a:ext cx="3527280" cy="1844640"/>
          </a:xfrm>
          <a:prstGeom prst="wedgeRoundRectCallout">
            <a:avLst>
              <a:gd name="adj1" fmla="val -31953"/>
              <a:gd name="adj2" fmla="val 9036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最看不惯扎堆。俗气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3360" y="47628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被人看见怪难为情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680" y="1125360"/>
            <a:ext cx="16426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黑体"/>
              </a:rPr>
              <a:t>早就想练练手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53420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情况有点不妙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20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0"/>
            <a:ext cx="954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Verdana"/>
                <a:ea typeface="黑体"/>
              </a:rPr>
              <a:t>都哪去了？走了也不说一声！真没劲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960" y="260280"/>
            <a:ext cx="1155240" cy="6237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母亲，你是荷叶，我是红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3280" y="62064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我们再也不吵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600" y="5516640"/>
            <a:ext cx="39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跟你说个秘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1164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妈妈，让我下来，我还想多玩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4040" y="574560"/>
            <a:ext cx="139932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亲爱的，你慢慢飞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5950080"/>
            <a:ext cx="495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夕阳中的华尔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40464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落霞与孤鹜齐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522936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向着蓝天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30280" y="5589720"/>
            <a:ext cx="32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扬鳍起航   乘风破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0:19:34Z</dcterms:created>
  <dc:creator>GHOSTXP</dc:creator>
  <dc:description/>
  <dc:language>en-US</dc:language>
  <cp:lastModifiedBy>GHOSTXP</cp:lastModifiedBy>
  <dcterms:modified xsi:type="dcterms:W3CDTF">2009-04-16T00:39:16Z</dcterms:modified>
  <cp:revision>52</cp:revision>
  <dc:subject/>
  <dc:title>幻灯片 1</dc:title>
</cp:coreProperties>
</file>