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9.jpeg" ContentType="image/jpeg"/>
  <Override PartName="/ppt/media/image7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35CD2-D2D0-49FE-A4CC-87AE101501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41C05-CAA6-4439-A145-EBFDA7FA1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39850-DF7F-4A19-B4C6-BE7937C4C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8D74-26B1-463C-85BA-DB90A3439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A3A67-5D9A-4B99-AEFA-40AA343CA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89B2F-EDEE-4223-999B-555088C4E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848B-F173-45B6-B1FE-408E1ACAB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8364C-3EF8-46DE-99C0-BE33B4FBD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C60D4-A9BF-49D9-BF1A-578EF8C1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23FB2-876F-450B-BBEF-8DCD7A2D6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86156-D806-4B61-BA96-E435A3F66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BB837-DC2F-4046-81E8-A5900C14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7530B-F551-494E-ACE7-3FFD1EEF3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1938D-2446-4EB2-A891-D9447B0F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8074F-D51D-408D-B3B2-A47DB21ED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118C-F911-4D1D-ACA5-8E5B9008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0C8B0-42FF-40BF-8EBE-023741FE9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FD57-C186-4F2E-8A1E-223509257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34857-0400-4EB3-8E50-7C2EEB860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50FC0-1C6C-40B8-ABCD-42BBD0370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20E85-CDA7-4F45-B3EE-3F15E619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1B7BE-9549-438B-8265-A9AEA39F0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F01F-23F2-4000-8EA8-A2A63CE7D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823B-7E90-4AFE-9BA0-5B14C20D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086B-D8EE-4975-8B40-7CC4006B966B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5C3B2-126D-407C-AAB7-B18404EC7537}" type="slidenum">
              <a:rPr b="0" lang="zh-CN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3.xm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58560" y="2708280"/>
            <a:ext cx="7016760" cy="1270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66"/>
                </a:solidFill>
                <a:latin typeface="Comic Sans MS"/>
                <a:ea typeface="楷体_GB2312"/>
              </a:rPr>
              <a:t>《天上的街市》课件</a:t>
            </a:r>
            <a:endParaRPr b="0" lang="en-US" sz="5400" spc="-1" strike="noStrike">
              <a:solidFill>
                <a:srgbClr val="ff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5940360" y="1197000"/>
            <a:ext cx="2014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66cc"/>
                </a:solidFill>
                <a:latin typeface="Arial"/>
                <a:ea typeface="华文彩云"/>
              </a:rPr>
              <a:t>讨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050920" y="2421000"/>
            <a:ext cx="6481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诗人所想象的天上的街市是个怎样的世界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哪些是联想，哪些是想象？他的想象是怎么发展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395280" y="260280"/>
            <a:ext cx="4032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0033"/>
                </a:solidFill>
                <a:latin typeface="Arial"/>
                <a:ea typeface="楷体_GB2312"/>
              </a:rPr>
              <a:t>想象与联想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6000" y="112536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联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780000" y="1557360"/>
            <a:ext cx="2057400" cy="152280"/>
          </a:xfrm>
          <a:custGeom>
            <a:avLst/>
            <a:gdLst>
              <a:gd name="textAreaLeft" fmla="*/ 257040 w 2057400"/>
              <a:gd name="textAreaRight" fmla="*/ 1800360 w 2057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68360" y="112536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甲事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11640" y="1052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想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56360" y="119700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乙事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627280" y="1916280"/>
            <a:ext cx="6019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存在                              存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463160" y="836640"/>
            <a:ext cx="146016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因果联系相似关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27280" y="2852640"/>
            <a:ext cx="86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Arial"/>
              </a:rPr>
              <a:t>想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268360" y="393372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甲事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6720" y="4267080"/>
            <a:ext cx="1828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95640" y="4292640"/>
            <a:ext cx="2057400" cy="152280"/>
          </a:xfrm>
          <a:custGeom>
            <a:avLst/>
            <a:gdLst>
              <a:gd name="textAreaLeft" fmla="*/ 257040 w 2057400"/>
              <a:gd name="textAreaRight" fmla="*/ 1800360 w 20574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f66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27640" y="378936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Arial"/>
              </a:rPr>
              <a:t>创造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156360" y="3860640"/>
            <a:ext cx="2281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乙事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484360" y="4508640"/>
            <a:ext cx="6324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存在                            不存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463160" y="3716280"/>
            <a:ext cx="146016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来源于客观现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5292720" y="765000"/>
            <a:ext cx="18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cc0000"/>
                </a:solidFill>
                <a:latin typeface="Arial Black"/>
              </a:rPr>
              <a:t>   </a:t>
            </a: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隶书"/>
              </a:rPr>
              <a:t>街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08720" y="1916280"/>
            <a:ext cx="109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 Black"/>
                <a:ea typeface="隶书"/>
              </a:rPr>
              <a:t>明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45760" y="2421000"/>
            <a:ext cx="1399320" cy="30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隶书"/>
              </a:rPr>
              <a:t>天上的街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88000" y="2276640"/>
            <a:ext cx="228600" cy="3200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83160 h 3200400"/>
              <a:gd name="textAreaBottom" fmla="*/ 3117240 h 3200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08720" y="299736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隶书"/>
              </a:rPr>
              <a:t>物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093080" y="2997360"/>
            <a:ext cx="107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珍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508720" y="4076640"/>
            <a:ext cx="12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隶书"/>
              </a:rPr>
              <a:t>天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443640" y="4149720"/>
            <a:ext cx="270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浅浅、不甚宽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076720" y="51577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  <a:ea typeface="隶书"/>
              </a:rPr>
              <a:t>牛郎织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732720" y="5229360"/>
            <a:ext cx="3124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楷体_GB2312"/>
              </a:rPr>
              <a:t>来往、闲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40360" y="1413000"/>
            <a:ext cx="0" cy="45720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6084720" y="1412640"/>
            <a:ext cx="9720" cy="49212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012000" y="2492280"/>
            <a:ext cx="0" cy="45720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012000" y="3573360"/>
            <a:ext cx="0" cy="45720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12000" y="4653000"/>
            <a:ext cx="0" cy="457200"/>
          </a:xfrm>
          <a:prstGeom prst="line">
            <a:avLst/>
          </a:prstGeom>
          <a:ln w="19080">
            <a:solidFill>
              <a:srgbClr val="66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1557360"/>
            <a:ext cx="122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4572000" y="134136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联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116000" y="2852640"/>
            <a:ext cx="86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3058560" y="3068640"/>
            <a:ext cx="71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000000"/>
                </a:solidFill>
                <a:latin typeface="Arial"/>
              </a:rPr>
              <a:t>想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randomBar dir="vert"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7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02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395280" y="1628640"/>
            <a:ext cx="5977080" cy="39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cc"/>
                </a:solidFill>
                <a:latin typeface="华文新魏"/>
                <a:ea typeface="华文新魏"/>
              </a:rPr>
              <a:t>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展开联想和想象，体会诗歌思想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，大声的朗读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方正姚体"/>
                <a:ea typeface="方正姚体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250920" y="189000"/>
            <a:ext cx="3671640" cy="151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读出情感美：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ransition spd="med" advTm="5000">
    <p:split dir="out" orient="horz"/>
  </p:transition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900000" y="620640"/>
            <a:ext cx="2808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55640" y="836640"/>
            <a:ext cx="331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11280" y="404640"/>
            <a:ext cx="2743200" cy="141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试一试</a:t>
            </a:r>
            <a:endParaRPr b="0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213" name=""/>
          <p:cNvSpPr/>
          <p:nvPr/>
        </p:nvSpPr>
        <p:spPr>
          <a:xfrm>
            <a:off x="2987640" y="1125360"/>
            <a:ext cx="576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99"/>
                </a:solidFill>
                <a:latin typeface="Arial"/>
              </a:rPr>
              <a:t>请发挥你的奇思妙想，完成下列练习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0920" y="2637000"/>
            <a:ext cx="8893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根据示例，请同学们经过四至五步联想，使两个意义很远的词语联系起来。（任选其中两个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①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雪花     茶    ②钢笔   月亮    ③夏夜   鲜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示例；木头    足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木头——树林——田野——足球场——足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amond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2340000" y="2637000"/>
            <a:ext cx="468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Comic Sans MS"/>
                <a:ea typeface="叶根友蚕燕隶书(3500)"/>
              </a:rPr>
              <a:t>谢谢观看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2843280" y="2276280"/>
            <a:ext cx="4349520" cy="28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b200"/>
                </a:solidFill>
                <a:uFillTx/>
                <a:latin typeface="Comic Sans MS"/>
                <a:hlinkClick r:id="rId1" action="ppaction://hlinksldjump"/>
              </a:rPr>
              <a:t>课件内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 u="sng">
                <a:solidFill>
                  <a:srgbClr val="00b200"/>
                </a:solidFill>
                <a:uFillTx/>
                <a:latin typeface="Comic Sans MS"/>
                <a:hlinkClick r:id="rId2" action="ppaction://hlinksldjump"/>
              </a:rPr>
              <a:t>适用范围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3" name=""/>
          <p:cNvSpPr/>
          <p:nvPr/>
        </p:nvSpPr>
        <p:spPr>
          <a:xfrm>
            <a:off x="1258920" y="1341360"/>
            <a:ext cx="287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目录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39640" y="2565360"/>
            <a:ext cx="8377200" cy="22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本课件课文选自苏教版七年级（上册）语文教材第二十二课，用于第一课时授课。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1692360" y="333360"/>
            <a:ext cx="327636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想一想，说一说</a:t>
            </a:r>
            <a:endParaRPr b="0" lang="en-US" sz="18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156" name=""/>
          <p:cNvSpPr/>
          <p:nvPr/>
        </p:nvSpPr>
        <p:spPr>
          <a:xfrm>
            <a:off x="1908000" y="2997360"/>
            <a:ext cx="64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cc"/>
                </a:solidFill>
                <a:latin typeface="Arial"/>
                <a:ea typeface="楷体_GB2312"/>
              </a:rPr>
              <a:t>天上的世界是怎样的呢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547640" y="1484280"/>
            <a:ext cx="6985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00"/>
                </a:solidFill>
                <a:latin typeface="Arial"/>
                <a:ea typeface="华文行楷"/>
              </a:rPr>
              <a:t>天上的街市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759280" y="4508640"/>
            <a:ext cx="29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zh-CN" sz="4400" spc="-1" strike="noStrike">
                <a:solidFill>
                  <a:srgbClr val="000099"/>
                </a:solidFill>
                <a:latin typeface="Arial"/>
                <a:ea typeface="楷体_GB2312"/>
              </a:rPr>
              <a:t>郭沫若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horz"/>
  </p:transition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0" dur="20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619280" y="3789360"/>
            <a:ext cx="460836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郭沫若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(1892—197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Impact"/>
              </a:rPr>
              <a:t>      </a:t>
            </a:r>
            <a:r>
              <a:rPr b="1" lang="zh-CN" sz="2400" spc="-1" strike="noStrike">
                <a:solidFill>
                  <a:srgbClr val="000099"/>
                </a:solidFill>
                <a:latin typeface="Impact"/>
                <a:ea typeface="仿宋_GB2312"/>
              </a:rPr>
              <a:t>原名郭开贞，四川省乐山县人，我国著名的文学家、历史学家。他的著作很多，文学方面有诗集《女神》、话剧《屈原》等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>
            <a:lum bright="-6000"/>
          </a:blip>
          <a:stretch/>
        </p:blipFill>
        <p:spPr>
          <a:xfrm>
            <a:off x="3924360" y="189000"/>
            <a:ext cx="2965320" cy="345744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6084720" y="3933720"/>
            <a:ext cx="2743200" cy="189864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6804000" y="595008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郭沫若故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521000" y="476280"/>
            <a:ext cx="45864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21400" y="3645000"/>
            <a:ext cx="1399320" cy="23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66"/>
                </a:solidFill>
                <a:latin typeface="Arial"/>
                <a:ea typeface="楷体_GB2312"/>
              </a:rPr>
              <a:t>作者简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2627280" y="2133720"/>
            <a:ext cx="5832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一、节奏不宜强，声音不宜大，速度不宜快，做到轻松、柔和、舒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二、把握这首诗美好、恬静、自然、清新而略带忧郁的感情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三、读出诗歌的节奏和重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867280" y="620640"/>
            <a:ext cx="302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cc"/>
                </a:solidFill>
                <a:latin typeface="Arial"/>
                <a:ea typeface="楷体_GB2312"/>
              </a:rPr>
              <a:t>朗读要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hecker dir="vert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908000" y="0"/>
            <a:ext cx="6031080" cy="637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b200"/>
                </a:solidFill>
                <a:latin typeface="Arial"/>
                <a:ea typeface="楷体_GB2312"/>
              </a:rPr>
              <a:t>天上的街市</a:t>
            </a: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  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cc"/>
                </a:solidFill>
                <a:latin typeface="Arial"/>
              </a:rPr>
              <a:t>　　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远远的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街灯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明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好像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闪着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无数的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明星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天上的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明星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现了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好像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点着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无数的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街灯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我想那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缥渺的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空中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定然有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美丽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街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街市上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陈列的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一些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物品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定然是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世上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没有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的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珍奇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你看，那浅浅的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天河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定然是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不甚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宽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　       那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隔着河的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牛郎织女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　          定能够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骑着牛儿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来往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我想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他们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此刻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定然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在天街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闲游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不信，请看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那朵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流星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是他们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提着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灯笼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/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在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7451640" y="530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med" advTm="5000">
    <p:newsflash/>
  </p:transition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" dur="69480" fill="hold"/>
                                        <p:tgtEl>
                                          <p:spTgt spid="1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5508720" y="981000"/>
            <a:ext cx="273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Arial"/>
                <a:ea typeface="华文彩云"/>
              </a:rPr>
              <a:t>品味语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050920" y="2133720"/>
            <a:ext cx="640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语言是诗歌美丽的外衣，诗歌需要语言富有表现力，节奏和谐，富有音乐性。同学们认为诗中哪些词语使诗歌打扮得更加迷人，说说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19T02:16:02Z</dcterms:created>
  <dc:creator>h</dc:creator>
  <dc:description/>
  <dc:language>en-US</dc:language>
  <cp:lastModifiedBy>www.laptop.net.cn</cp:lastModifiedBy>
  <dcterms:modified xsi:type="dcterms:W3CDTF">2010-06-08T05:48:20Z</dcterms:modified>
  <cp:revision>25</cp:revision>
  <dc:subject/>
  <dc:title>幻灯片 1</dc:title>
</cp:coreProperties>
</file>