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type.wav" ContentType="audio/x-wav"/>
  <Override PartName="/ppt/media/image2.jpeg" ContentType="image/jpeg"/>
  <Override PartName="/ppt/media/image3.png" ContentType="image/png"/>
  <Override PartName="/ppt/media/image4.jpeg" ContentType="image/jpeg"/>
  <Override PartName="/ppt/media/chimes.wav" ContentType="audio/x-wav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D86E-D80C-41AC-907C-CFE26A62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33C-078B-420B-A039-D3EC2482B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D337-140A-44A4-B0FB-A30BBE06C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93B0-9CA0-4492-AAC2-BCE5D4C3C6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A0566-27A5-4955-B716-2E64C067F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D30F3-20A4-4DC5-8A9E-69AD17623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3C5C-414F-41DA-8BEA-5EB6CE5D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E3F3C-CD40-4BEF-B5BF-E7685154A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7BD1F-5660-435E-8252-791893B7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0825-0026-439C-8F55-8064ED6E2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B9F6E-A219-4E93-B39C-90FE72BE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C68A0-91B1-4EB7-A3C2-48B285370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606E-3E66-4780-B293-BEAF337D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B90C-16BF-475C-8B87-1472453A2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94C05-041C-46EF-BCD5-8EDCCB438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F6D0-6BAE-4313-89DB-665657E4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639C-9E35-4DF6-BBE8-7F8AF6335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5CF-D308-40B1-9933-7FEB53386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36B1-3E7D-4E78-952A-5107BE57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4C21-E208-4203-8304-2114C009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A8ED-A9B3-4E25-BA62-D73F3B99D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5587-98D9-4B50-9578-8B636FF7B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D89-79EA-4054-94A6-DB5D34D5E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FA5D0-287B-4B0E-B5D4-9CAD4A04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8EC75-3797-4926-9C13-FD04125AD0C2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5DA66-3E3A-4A31-8C52-C4EDD7861FA8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6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9296280" cy="6856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09480" y="6019920"/>
            <a:ext cx="685800" cy="533160"/>
          </a:xfrm>
          <a:prstGeom prst="rightArrow">
            <a:avLst>
              <a:gd name="adj1" fmla="val 50000"/>
              <a:gd name="adj2" fmla="val 3215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1" name=""/>
          <p:cNvSpPr/>
          <p:nvPr/>
        </p:nvSpPr>
        <p:spPr>
          <a:xfrm>
            <a:off x="520920" y="1905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范例２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00920" y="2611440"/>
            <a:ext cx="219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一颗从小飘来的种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却在我的心中扎下了深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286000" y="3048120"/>
            <a:ext cx="152280" cy="15228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895480" y="3809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41440" y="3429000"/>
            <a:ext cx="2204640" cy="13737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后来“我”不懈努力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理想的树立也需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日积月累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72760" y="1928880"/>
            <a:ext cx="210096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童年的认识毕竟肤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705560" y="2593800"/>
            <a:ext cx="1034280" cy="5205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比喻信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362320" y="2362320"/>
            <a:ext cx="152280" cy="304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09880" y="28954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048120" y="3048120"/>
            <a:ext cx="615960" cy="126720"/>
          </a:xfrm>
          <a:custGeom>
            <a:avLst/>
            <a:gdLst/>
            <a:ahLst/>
            <a:rect l="l" t="t" r="r" b="b"/>
            <a:pathLst>
              <a:path w="388" h="80">
                <a:moveTo>
                  <a:pt x="0" y="24"/>
                </a:moveTo>
                <a:cubicBezTo>
                  <a:pt x="18" y="80"/>
                  <a:pt x="29" y="77"/>
                  <a:pt x="82" y="59"/>
                </a:cubicBezTo>
                <a:cubicBezTo>
                  <a:pt x="88" y="41"/>
                  <a:pt x="92" y="0"/>
                  <a:pt x="129" y="12"/>
                </a:cubicBezTo>
                <a:cubicBezTo>
                  <a:pt x="156" y="21"/>
                  <a:pt x="199" y="59"/>
                  <a:pt x="199" y="59"/>
                </a:cubicBezTo>
                <a:cubicBezTo>
                  <a:pt x="206" y="54"/>
                  <a:pt x="255" y="19"/>
                  <a:pt x="270" y="24"/>
                </a:cubicBezTo>
                <a:cubicBezTo>
                  <a:pt x="297" y="33"/>
                  <a:pt x="340" y="71"/>
                  <a:pt x="340" y="71"/>
                </a:cubicBezTo>
                <a:cubicBezTo>
                  <a:pt x="348" y="47"/>
                  <a:pt x="356" y="1"/>
                  <a:pt x="388" y="1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57600" y="3787920"/>
            <a:ext cx="671400" cy="206280"/>
          </a:xfrm>
          <a:custGeom>
            <a:avLst/>
            <a:gdLst/>
            <a:ahLst/>
            <a:rect l="l" t="t" r="r" b="b"/>
            <a:pathLst>
              <a:path w="423" h="130">
                <a:moveTo>
                  <a:pt x="0" y="36"/>
                </a:moveTo>
                <a:cubicBezTo>
                  <a:pt x="28" y="118"/>
                  <a:pt x="1" y="114"/>
                  <a:pt x="59" y="94"/>
                </a:cubicBezTo>
                <a:cubicBezTo>
                  <a:pt x="61" y="87"/>
                  <a:pt x="77" y="19"/>
                  <a:pt x="106" y="36"/>
                </a:cubicBezTo>
                <a:cubicBezTo>
                  <a:pt x="130" y="50"/>
                  <a:pt x="153" y="106"/>
                  <a:pt x="153" y="106"/>
                </a:cubicBezTo>
                <a:cubicBezTo>
                  <a:pt x="246" y="74"/>
                  <a:pt x="137" y="122"/>
                  <a:pt x="200" y="59"/>
                </a:cubicBezTo>
                <a:cubicBezTo>
                  <a:pt x="209" y="50"/>
                  <a:pt x="223" y="51"/>
                  <a:pt x="235" y="47"/>
                </a:cubicBezTo>
                <a:cubicBezTo>
                  <a:pt x="263" y="130"/>
                  <a:pt x="235" y="126"/>
                  <a:pt x="294" y="106"/>
                </a:cubicBezTo>
                <a:cubicBezTo>
                  <a:pt x="329" y="0"/>
                  <a:pt x="295" y="33"/>
                  <a:pt x="353" y="71"/>
                </a:cubicBezTo>
                <a:cubicBezTo>
                  <a:pt x="363" y="78"/>
                  <a:pt x="376" y="79"/>
                  <a:pt x="388" y="83"/>
                </a:cubicBezTo>
                <a:cubicBezTo>
                  <a:pt x="400" y="75"/>
                  <a:pt x="423" y="59"/>
                  <a:pt x="423" y="59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7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64" name=""/>
          <p:cNvSpPr/>
          <p:nvPr/>
        </p:nvSpPr>
        <p:spPr>
          <a:xfrm>
            <a:off x="654120" y="18288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范例３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387520" y="2502000"/>
            <a:ext cx="79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是的，我曾一次又一次地失望过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当我爬上那一座座诱惑着我的山顶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</a:rPr>
              <a:t>但我又一次次鼓起信心向前走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33720" y="29718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3828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4320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8120" y="2971800"/>
            <a:ext cx="7596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352680" y="2971800"/>
            <a:ext cx="76320" cy="763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133720" y="37339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37339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743200" y="37339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219320" y="44197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44197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828800" y="4419720"/>
            <a:ext cx="7632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133720" y="4419720"/>
            <a:ext cx="75960" cy="7596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823720" y="4038480"/>
            <a:ext cx="236016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强调 “我”的努力，不灰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683680" y="2438280"/>
            <a:ext cx="164376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强调失望次数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02200" y="3200400"/>
            <a:ext cx="33012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说明遇到的困难非常多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7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0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体验与反思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83" name=""/>
          <p:cNvSpPr/>
          <p:nvPr/>
        </p:nvSpPr>
        <p:spPr>
          <a:xfrm>
            <a:off x="1681560" y="1905120"/>
            <a:ext cx="4813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诗人成长的探 索一定早己打打动了成长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的你，你的生活学习中，一定有无数座山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着你去征服或已被你征服，结合自己的生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经历说说这首诗给你的启示，把我们的人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楷体_GB2312"/>
                <a:ea typeface="楷体_GB2312"/>
              </a:rPr>
              <a:t>经历与个人体验与同学们分享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-52560"/>
            <a:ext cx="9144000" cy="6910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599480" y="457200"/>
            <a:ext cx="5976360" cy="50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作业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１、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仿照下面两个例子，描写一种景物表达自己的感情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          ①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河边的柳树，俯下身看着自己的倒影，还不忘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一扭腰肢。她一定高兴极了。是啊，春天来了，谁能不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兴呢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         ②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太阳发怒了，他把所有的光芒都掷到了地上，那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光线像一把把利剑直刺向我，仿佛要挖出我那一颗自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自利的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仿句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cc00"/>
                </a:solidFill>
                <a:latin typeface="Times New Roman"/>
              </a:rPr>
              <a:t>、完成课后练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3152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Arial Black"/>
                <a:ea typeface="隶书"/>
              </a:rPr>
              <a:t>课堂小结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240" y="114300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99ff66"/>
                </a:solidFill>
                <a:latin typeface="Arial"/>
              </a:rPr>
              <a:t>诗人在这首诗中所要告诉人们的诗自己的人生感悟与坚定信念，即奔向理想的人生征途是漫长的。但是，只要百折不挠地坚持奋斗，理想境界终将实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我们知道，要翻过山，见到大海，就必须百折不挠，坚持奋斗。在今后的人生之路上，让我们永远牢记，心中要有个“海”，为了这个“海”，从现在开始，就要努力翻过一座座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1295280" y="1066680"/>
            <a:ext cx="6924960" cy="20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新魏"/>
              </a:rPr>
              <a:t>1.</a:t>
            </a:r>
            <a:r>
              <a:rPr b="0" lang="zh-CN" sz="9600" spc="1" strike="noStrike">
                <a:ln cap="sq"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华文新魏"/>
              </a:rPr>
              <a:t>在山的那边</a:t>
            </a:r>
            <a:endParaRPr b="0" lang="en-US" sz="9600" spc="1" strike="noStrike">
              <a:ln cap="sq"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华文新魏"/>
              <a:ea typeface="华文新魏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429000" y="3200400"/>
            <a:ext cx="17524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王家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4800" y="457200"/>
            <a:ext cx="16027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痴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想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隐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秘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铁青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凝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成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诱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惑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喧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腾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一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瞬</a:t>
            </a: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间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51680" y="53352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发呆地想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59560" y="11430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隐藏，不外现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12880" y="1752480"/>
            <a:ext cx="37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青黑色，多形容人恐惧、盛怒或患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时发青的脸色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99400" y="297180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凝结而成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98480" y="3581280"/>
            <a:ext cx="359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使用手段，使人认识模糊而做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事；吸引，招引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44440" y="4800600"/>
            <a:ext cx="175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</a:rPr>
              <a:t>喧闹，沸腾</a:t>
            </a: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404600" y="5410080"/>
            <a:ext cx="98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Times New Roman"/>
              </a:rPr>
              <a:t>一眨眼之间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324480" y="0"/>
            <a:ext cx="2362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ff33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808080"/>
                  </a:outerShdw>
                </a:effectLst>
                <a:latin typeface="黑体"/>
              </a:rPr>
              <a:t>整体感知</a:t>
            </a:r>
            <a:endParaRPr b="1" lang="en-US" sz="1800" spc="1" strike="noStrike">
              <a:ln w="12600">
                <a:solidFill>
                  <a:srgbClr val="ff33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808080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14" name=""/>
          <p:cNvSpPr/>
          <p:nvPr/>
        </p:nvSpPr>
        <p:spPr>
          <a:xfrm>
            <a:off x="2362320" y="121932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m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609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ch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29718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ní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09680" y="35812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hu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48006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xuā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90920" y="5486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shù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3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5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0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2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724280" y="129528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当我爬上那一座座诱惑着我的山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但我又一次次鼓起信心向前走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因为我听到海依然在远方为我喧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─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那雪白的海潮啊，夜夜奔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一次次漫湿了我枯干的心灵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山的那边，是海吗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是的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!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人们啊，请相信——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不停地翻过无数座山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一次次地战胜失望之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你终会攀上这样一座山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而在这座山的那边，就是海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是一个全新的世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一瞬间照亮你的眼睛…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隶书"/>
              </a:rPr>
              <a:t>配乐朗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90680" y="-1560600"/>
            <a:ext cx="456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762120"/>
            <a:ext cx="403884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一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小时候，我常伏在窗口痴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─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山那边是什么呢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妈妈给我说过：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哦，山那边是海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于是，怀着一种隐秘的想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有一天我终于爬上了那个山顶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可是，我却几乎是哭着回来了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──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山的那边，依然是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山那边的山啊，铁青着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给我的幻想打了一个零分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妈妈，那个海呢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在山的那边，是海</a:t>
            </a: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是用信念凝成的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今天啊，我竟没想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一颗从小飘来的种子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却在我的心中扎下了深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Arial"/>
              </a:rPr>
              <a:t>是的，我曾一次又一次地失望过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304920"/>
            <a:ext cx="3962520" cy="9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在山的那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zh-CN" sz="1800" spc="-1" strike="noStrike">
                <a:solidFill>
                  <a:srgbClr val="ffff00"/>
                </a:solidFill>
                <a:latin typeface="Arial"/>
              </a:rPr>
              <a:t>王家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71474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29" name=""/>
          <p:cNvSpPr/>
          <p:nvPr/>
        </p:nvSpPr>
        <p:spPr>
          <a:xfrm>
            <a:off x="4274280" y="1881360"/>
            <a:ext cx="14000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请从不同角度概括诗歌两部分的内容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43000" y="3124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从事情看：第一节写“我”渴望海      第二节写“我”追寻海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43000" y="411480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从时间看：第一节写我童年时期  第二节写我长大以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19320" y="5029200"/>
            <a:ext cx="7619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从心理看：第一节写我的向往和困惑   第二节写我的感悟与信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19320" y="6172200"/>
            <a:ext cx="7315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60958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9900"/>
                </a:solidFill>
                <a:latin typeface="Arial"/>
              </a:rPr>
              <a:t>从方式看：第一节写我与妈妈的对话     第二节写我与读者的对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3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37" name=""/>
          <p:cNvSpPr/>
          <p:nvPr/>
        </p:nvSpPr>
        <p:spPr>
          <a:xfrm>
            <a:off x="1959480" y="1881360"/>
            <a:ext cx="602676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你认为本文仅仅是在写“山”与“海”吗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诗文表达了作者怎样的情感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8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0" name=""/>
          <p:cNvSpPr/>
          <p:nvPr/>
        </p:nvSpPr>
        <p:spPr>
          <a:xfrm>
            <a:off x="1866960" y="1881360"/>
            <a:ext cx="575244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诗中的“山”与“海”蕴含着什么意思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并请从文中找出能点明中心的句子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合作探究</a:t>
            </a:r>
            <a:endParaRPr b="0" lang="en-US" sz="4000" spc="1" strike="noStrike">
              <a:ln w="1908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3" name=""/>
          <p:cNvSpPr/>
          <p:nvPr/>
        </p:nvSpPr>
        <p:spPr>
          <a:xfrm>
            <a:off x="1924200" y="1881360"/>
            <a:ext cx="52099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黑体"/>
              </a:rPr>
              <a:t>讨论交流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　　诗歌的语言是非常凝练而又有丰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内涵的，请找出你喜欢的并认为含义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刻的诗句细细品味，你不理解的词语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00"/>
                </a:solidFill>
                <a:latin typeface="Times New Roman"/>
                <a:ea typeface="黑体"/>
              </a:rPr>
              <a:t>句子也划下来一起讨论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 txBox="1"/>
          <p:nvPr/>
        </p:nvSpPr>
        <p:spPr>
          <a:xfrm>
            <a:off x="380880" y="457200"/>
            <a:ext cx="22860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ff9933"/>
                  </a:outerShdw>
                </a:effectLst>
                <a:latin typeface="黑体"/>
              </a:rPr>
              <a:t>研读赏析</a:t>
            </a:r>
            <a:endParaRPr b="1" lang="en-US" sz="4000" spc="1" strike="noStrike">
              <a:ln w="1260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ff9933"/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46" name=""/>
          <p:cNvSpPr/>
          <p:nvPr/>
        </p:nvSpPr>
        <p:spPr>
          <a:xfrm>
            <a:off x="1120680" y="1828800"/>
            <a:ext cx="2527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范例１：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山那边的山啊，铁青着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给我的幻想打了一个零分</a:t>
            </a:r>
            <a:r>
              <a:rPr b="1" lang="zh-CN" sz="2800" spc="-1" strike="noStrike">
                <a:solidFill>
                  <a:srgbClr val="ffcc00"/>
                </a:solidFill>
                <a:latin typeface="宋体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275440" y="2338560"/>
            <a:ext cx="2009520" cy="1191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将山拟人化，表面写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的颜色，实际写自己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幼圆"/>
                <a:ea typeface="幼圆"/>
              </a:rPr>
              <a:t>情难过，形象生动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899960" y="3678120"/>
            <a:ext cx="912240" cy="459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幻想破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sland</cp:lastModifiedBy>
  <dcterms:modified xsi:type="dcterms:W3CDTF">2010-09-05T12:35:02Z</dcterms:modified>
  <cp:revision>2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