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F84-5E6A-4091-BA04-FD5F5834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BEE-FDD5-44D8-9800-5F69307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7FC-24C5-4415-8FB0-D18AAF4E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7A1-1213-45CB-8BCE-A9F5414F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1C5-81B8-445E-9ED1-AA919D3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881-A272-4CE5-B4B7-2C2DBDA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216-9EDE-4D98-A7F8-D6F3D73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603-1BCB-47BE-B889-D3E44847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35C-1140-4EBD-A993-1F6E73DC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388-4971-4803-993A-1C3B8E1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4AC-26A7-4297-92A7-06551C8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56F-4CAD-4982-925B-F75B96A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6C8C-2CA6-4CB5-862F-89A57E3ED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5013360"/>
            <a:ext cx="57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珍贵的动植物已永远地沦为了标本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鲜活的生态活页从我们的视野中被硬硬撕掉，被生生扯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诗词风景像“广陵散”般成为了遥远的绝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蒹葭苍苍，白露为霜”，“呦呦鹿鸣，食野之苹”，“关关雎鸠，在河之洲”，“河水清且涟漪”……我在抚摸这些《诗经》句子的时候，除了对美的巨大感动，内心更有一份莫名的冰凉、疼痛和颤栗。因为就在模拟那份远古“现场”的同时，我骤然被一个念头惊醒：她已永远不属于我们了——永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自然史上最纯真的童年风景、生命与自然最相爱最和谐的“蜜月之岁”，永远同我们告别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竟成了告别，竟成了追悼。难道人类不应为此哭泣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6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认识自然    尊重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267080" cy="435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29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6320" y="1647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界未解之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53200">
            <a:off x="6268680" y="31194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74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1447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8640" y="69228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鲸鱼自杀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1339920"/>
            <a:ext cx="6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神秘的蚂蚁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120" y="2635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地球上还有活着的恐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-27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物未解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98756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尼斯湖水怪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000" y="3357720"/>
            <a:ext cx="87487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路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141560"/>
            <a:ext cx="163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露脊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175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746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的各种游戏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19360"/>
            <a:ext cx="207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独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战斗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操纵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7716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15288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游戏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406728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锻炼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9588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75308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为什么会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3920" y="600552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总结：有待更深入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468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7800" y="3375000"/>
            <a:ext cx="0" cy="99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55616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229360"/>
            <a:ext cx="1440" cy="504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5924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0" y="62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学思维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整体感知，把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800" y="677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简要概括每一自然段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1268280"/>
            <a:ext cx="82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叶猴在跳荡嬉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渡鸦在滑雪而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露脊鲸举起尾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们都在游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游戏的分类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独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战斗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纵游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上下段落间的过渡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演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锻炼说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对比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828800"/>
          <a:ext cx="5927760" cy="40147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2422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假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根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你的认同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演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自娱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学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锻炼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1592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文本，深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四种假说的依据和结论，并谈自己的认同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08560" y="177336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1447200"/>
            <a:ext cx="87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课文为什么没有确定的结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840" y="1159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人之处   细细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384720"/>
            <a:ext cx="87487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920" y="180072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没有确定的结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，动物游戏行为是非常复杂的，不同动物的游戏可能有不同的原因，人类对动物了解得还不多，现在提出的各种假说都有其合理性，也有其局限性。必须深入研究，才能解开动物游戏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、科学注重求实，即使作者倾向于某种假说，也要经过实验的证明，不能贸然下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、包容性是科学精神的重要内涵。作者列举各种假说，其本意就有这方面的含义。让各种观点在宽松、包容的学术氛围中自由碰撞、融合，最终才能辨伪存真，求得真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2205000"/>
            <a:ext cx="531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大胆假设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小心求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科学主体在长期的科学活动中所陶冶和积淀的价值观念、思维方式和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般认为科学精神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怀疑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批判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新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践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包容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00" y="18900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748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181080" y="11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力潜能：具体如给黑猩猩棍子，它会用棍子做各种游戏，等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自我克制能力：战斗游戏，“看似激烈，其实极有分寸，它们配合默契，绝不会引起伤害。”“动物严格地自我控制，使游戏不会发展成真的战斗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创造性和想像力：北极熊玩棍子或石头；野象“踢”草球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狡猾、计谋：叶猴在树上互相推搡，攻守嬉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丰富多彩的通信方式：动物群体的游戏活动，必定有各种形式的交流通信方式，才能保证游戏的组织、进行。如北极渡鸦排队滑雪，没有沟通是不可能井然有序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物游戏中必然包含以上所说的各种能力，是综合性的能力，并不是说一种游戏只包含一种能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-18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流逝的古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样明亮的户外，那样的四季，那样的江河岳脉——若海德格尔之“诗意的栖居”成立的话，至少这洁净的山光水色乃必需的吧。可是，它们今天又在哪儿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“人行明镜中，鸟度屏风里”的天光明澈，那“长安一片月，万户捣衣声”的皎月寂静……今安在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自然的角度讲，古人的世界要比现代人丰富得多，健康而优雅得多。地球上自几十亿年前出现生命以来，生物物种的诞生、进化、灭绝就不断上演，物种灭绝本属自然进化之正常，但人类进入工业社会以后，灭绝速度大大加快。自然状态下的物种灭绝极为缓慢，而在人类活动的干扰下，目前地球上的动植物灭绝速度要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前快上近千倍。这是一种远高于自然速度的“工业速度”——这分明是“屠杀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09:33Z</dcterms:created>
  <dc:creator>GHOSTXP</dc:creator>
  <dc:description/>
  <dc:language>en-US</dc:language>
  <cp:lastModifiedBy>GHOSTXP</cp:lastModifiedBy>
  <dcterms:modified xsi:type="dcterms:W3CDTF">2009-04-16T01:50:09Z</dcterms:modified>
  <cp:revision>78</cp:revision>
  <dc:subject/>
  <dc:title>幻灯片 1</dc:title>
</cp:coreProperties>
</file>