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F38-2434-4ABA-8482-65EFB2D9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233-3E15-4F49-8A86-9F9F1AE8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579-C249-45FD-A609-E3F108AB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1CE-E71B-45C7-B2F0-126CF8D2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8BB-A8F9-4BDD-9675-DB90EC2E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AC8-E08C-4F3D-8E28-F96E7FA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CE1-F549-4750-8404-3035A6F2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9C2-2F5B-475F-A07E-62A3229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325-DB7B-4F4B-BEC3-10C393B1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50B-9536-4A1C-BE12-5E02759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CFF-AD2F-44B9-80B3-47BF180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C91-82A3-4D2A-A033-63CA820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D561-6980-432F-A5B6-3C40C8746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210280"/>
            <a:ext cx="59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7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33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瞧我的尾巴！帅得真是没话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0464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请看！老鼠玩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0120" y="861840"/>
            <a:ext cx="13993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哪！味道不太好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805360"/>
            <a:ext cx="482436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加油！跳！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200" y="981000"/>
            <a:ext cx="15210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美女耶！哪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9480" y="789120"/>
            <a:ext cx="40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练瑜伽呢！给点掌声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76280"/>
            <a:ext cx="4537080" cy="1584360"/>
          </a:xfrm>
          <a:prstGeom prst="wedgeRoundRectCallout">
            <a:avLst>
              <a:gd name="adj1" fmla="val -6754"/>
              <a:gd name="adj2" fmla="val 207115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哇！人原来是这个样子！好丑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549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看我秀一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336240" cy="849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836640"/>
            <a:ext cx="79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0"/>
            <a:ext cx="3527280" cy="1844640"/>
          </a:xfrm>
          <a:prstGeom prst="wedgeRoundRectCallout">
            <a:avLst>
              <a:gd name="adj1" fmla="val -31953"/>
              <a:gd name="adj2" fmla="val 9036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最看不惯扎堆。俗气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3360" y="47628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被人看见怪难为情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680" y="1125360"/>
            <a:ext cx="16426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黑体"/>
              </a:rPr>
              <a:t>早就想练练手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53420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情况有点不妙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620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0"/>
            <a:ext cx="954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Verdana"/>
                <a:ea typeface="黑体"/>
              </a:rPr>
              <a:t>都哪去了？走了也不说一声！真没劲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960" y="260280"/>
            <a:ext cx="1155240" cy="62373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母亲，你是荷叶，我是红莲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3280" y="620640"/>
            <a:ext cx="1521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我们再也不吵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60600" y="5516640"/>
            <a:ext cx="39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跟你说个秘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11640" y="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妈妈，让我下来，我还想多玩一会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4040" y="574560"/>
            <a:ext cx="139932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亲爱的，你慢慢飞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5950080"/>
            <a:ext cx="495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夕阳中的华尔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5640" y="40464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落霞与孤鹜齐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59280" y="522936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向着蓝天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30280" y="5589720"/>
            <a:ext cx="32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扬鳍起航   乘风破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0:19:34Z</dcterms:created>
  <dc:creator>GHOSTXP</dc:creator>
  <dc:description/>
  <dc:language>en-US</dc:language>
  <cp:lastModifiedBy>GHOSTXP</cp:lastModifiedBy>
  <dcterms:modified xsi:type="dcterms:W3CDTF">2009-04-16T00:39:16Z</dcterms:modified>
  <cp:revision>52</cp:revision>
  <dc:subject/>
  <dc:title>幻灯片 1</dc:title>
</cp:coreProperties>
</file>