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24.png" ContentType="image/png"/>
  <Override PartName="/ppt/media/image19.gif" ContentType="image/gif"/>
  <Override PartName="/ppt/media/image23.gif" ContentType="image/gif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  <p:custShowLst>
    <p:custShow name="自定义放映 1" id="0">
      <p:sldLst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90CC-CC82-41AF-A93A-5A00DE6A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1411-EED7-441B-8ADF-6516819E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C717-8F2E-4A50-960A-5837AE5C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4D2A-C82E-49C9-BAF5-6301BA340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17DF-E535-406C-9429-F5016AC1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735AC-E08D-4A9F-955E-EC4CE486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21C6-0A75-48C0-988F-02D5F369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44CC-2681-46AA-88B6-86AE6D29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37CD-F585-4A21-8DDF-1B964A3D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033C-815F-433B-B7F5-FF7395ED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120C-EAAD-4461-A2A1-F1BB8FE2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A456-4F34-4793-A117-D1E6B4DB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13B7-8CE2-40DF-BBF2-A538DD05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067B-190A-4BDC-B4E3-3AEFC408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CE90-EDD3-405F-A274-078258AE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E9BD-1888-4F3F-9F0D-6350C6065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21D2-55FF-4BEB-A9C7-A5B10763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4899-6BCF-41E7-A1D8-31BCD427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EFFB-E61F-4845-93C6-F0A5B56E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909E-F3FB-41ED-9288-AF31CC36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8F20-9658-4B2E-B701-8122C955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AE67-075A-467C-BE6A-F6FB79F6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7D0F-56C8-4F73-B04F-A3BF5D45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F036-605B-49B1-97D3-A41E4D3B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E2E3-6A94-49D5-A9BF-EBC1E704B403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5ECF-C105-4FEC-9B7F-874C0940016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872320" y="3500280"/>
            <a:ext cx="32716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b200"/>
                </a:solidFill>
                <a:latin typeface="Comic Sans MS"/>
                <a:ea typeface="隶书"/>
              </a:rPr>
              <a:t>冰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p:transition advTm="3000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404640"/>
            <a:ext cx="769608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753480" cy="6840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872320" y="3500280"/>
            <a:ext cx="32716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b200"/>
                </a:solidFill>
                <a:latin typeface="Comic Sans MS"/>
                <a:ea typeface="隶书"/>
              </a:rPr>
              <a:t>冰心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360" y="692280"/>
            <a:ext cx="39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教学目标：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1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积累重点字词，理解课文内容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2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熟读、背诵精美的篇段，培养学生对语言文字的感悟、理解能力。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3</a:t>
            </a:r>
            <a:r>
              <a:rPr b="0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通过学习，帮助学生树立热爱生活、热爱生命的观念。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划出文中的</a:t>
            </a:r>
            <a:r>
              <a:rPr b="0" lang="zh-CN" sz="4400" spc="-1" strike="noStrike" u="sng">
                <a:solidFill>
                  <a:srgbClr val="00b200"/>
                </a:solidFill>
                <a:uFillTx/>
                <a:latin typeface="Comic Sans MS"/>
                <a:ea typeface="华文行楷"/>
                <a:hlinkClick r:id="rId2" action="ppaction://hlinksldjump"/>
              </a:rPr>
              <a:t>生字生词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本文都把生命比做什么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Comic Sans MS"/>
                <a:ea typeface="华文行楷"/>
              </a:rPr>
              <a:t>分别经历了哪几个生命历程或哪几种生命状态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/>
          <p:nvPr/>
        </p:nvSpPr>
        <p:spPr>
          <a:xfrm>
            <a:off x="935280" y="1573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199604"/>
                </a:solidFill>
                <a:latin typeface="Comic Sans MS"/>
                <a:ea typeface="华文行楷"/>
              </a:rPr>
              <a:t>听读感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067280" y="260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朗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8748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云翳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ì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巉岩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chán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羞怯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qiè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心魂惊骇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hài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休憩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qì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骄奢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hē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枭鸟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iāo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荫庇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yìn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芳馨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īn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朔风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shuò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 丛莽（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ǎng</a:t>
            </a:r>
            <a:r>
              <a:rPr b="0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br>
              <a:rPr sz="4800"/>
            </a:br>
            <a:br>
              <a:rPr sz="4800"/>
            </a:br>
            <a:r>
              <a:rPr b="0" lang="zh-CN" sz="4800" spc="-1" strike="noStrike">
                <a:solidFill>
                  <a:srgbClr val="ff0000"/>
                </a:solidFill>
                <a:latin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8360" y="1628640"/>
            <a:ext cx="74883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66"/>
                </a:solidFill>
                <a:latin typeface="Times New Roman"/>
                <a:ea typeface="幼圆"/>
              </a:rPr>
              <a:t>        </a:t>
            </a:r>
            <a:r>
              <a:rPr b="0" lang="zh-CN" sz="4800" spc="-1" strike="noStrike">
                <a:solidFill>
                  <a:srgbClr val="ff0000"/>
                </a:solidFill>
                <a:latin typeface="Tahoma"/>
                <a:ea typeface="华文行楷"/>
              </a:rPr>
              <a:t>选出文中你认为用得非常好的句子或段落，有感情的大声朗读出来。并试着背诵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14560" y="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华文行楷"/>
              </a:rPr>
              <a:t>跳读品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804000" y="522936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5822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Music"/>
          <p:cNvSpPr/>
          <p:nvPr/>
        </p:nvSpPr>
        <p:spPr>
          <a:xfrm>
            <a:off x="7596360" y="981000"/>
            <a:ext cx="906120" cy="79236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cover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3851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8724d"/>
                </a:solidFill>
                <a:latin typeface="Comic Sans MS"/>
                <a:ea typeface="华文行楷"/>
              </a:rPr>
              <a:t>分组探究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769608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1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以小组为单位分别探究“一江春水”、“一棵小树”部分；   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 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2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各个小组向全班同学汇报本组探究成果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,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提出问题。</a:t>
            </a:r>
            <a:br>
              <a:rPr sz="4000"/>
            </a:b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 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3</a:t>
            </a:r>
            <a:r>
              <a:rPr b="0" lang="zh-CN" sz="4000" spc="-1" strike="noStrike">
                <a:solidFill>
                  <a:srgbClr val="ff0000"/>
                </a:solidFill>
                <a:latin typeface="Comic Sans MS"/>
                <a:ea typeface="华文行楷"/>
              </a:rPr>
              <a:t>、每个小组就各自探究的内容接受其他小组的提问，并作出解答。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11280" y="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5c335"/>
                </a:solidFill>
                <a:latin typeface="Tahoma"/>
                <a:ea typeface="华文行楷"/>
              </a:rPr>
              <a:t>深化理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200" y="838080"/>
            <a:ext cx="78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最能表达课文主题的思想的是哪一句或哪几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7200" y="2757600"/>
            <a:ext cx="849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你从课文中领悟到生命的本质是什么 生命的规律又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6320" y="914400"/>
            <a:ext cx="304560" cy="2286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8120" y="1557360"/>
            <a:ext cx="6224400" cy="947160"/>
          </a:xfrm>
          <a:prstGeom prst="rect">
            <a:avLst/>
          </a:prstGeom>
          <a:noFill/>
          <a:ln w="9360">
            <a:solidFill>
              <a:srgbClr val="35c3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生命中不是永远快乐，也不是永远痛苦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快乐和痛苦是相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相成的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.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在快乐中我们感谢生命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在痛苦中我们也要感谢生命</a:t>
            </a:r>
            <a:r>
              <a:rPr b="0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-76320" y="2743200"/>
            <a:ext cx="304920" cy="228600"/>
          </a:xfrm>
          <a:prstGeom prst="smileyFace">
            <a:avLst>
              <a:gd name="adj" fmla="val 928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19000" y="3755880"/>
            <a:ext cx="52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生命的本质—蓬勃成长，奋勇前进，任何力量也无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阻碍它压制它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08480" y="4973760"/>
            <a:ext cx="220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生命的规律—始而渺小、微弱，继而强健、壮大，终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归于消亡，其间幸福与苦难、顺利与曲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相伴相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349960" cy="411480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 flipH="1" rot="10800000">
            <a:off x="1447920" y="129528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943840" cy="9907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2133720" y="609480"/>
            <a:ext cx="5029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学有所获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4" name=""/>
          <p:cNvSpPr/>
          <p:nvPr/>
        </p:nvSpPr>
        <p:spPr>
          <a:xfrm>
            <a:off x="1295280" y="259092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Tahoma"/>
                <a:ea typeface="华文行楷"/>
              </a:rPr>
              <a:t>       </a:t>
            </a:r>
            <a:r>
              <a:rPr b="1" lang="zh-CN" sz="4400" spc="-1" strike="noStrike">
                <a:solidFill>
                  <a:srgbClr val="9900cc"/>
                </a:solidFill>
                <a:latin typeface="Tahoma"/>
                <a:ea typeface="华文行楷"/>
              </a:rPr>
              <a:t>作者对生命的感性认识与理性思考一定对你有所触动，请你结合自己十几年的生活经历以“生命像——”开头谈谈自己对生命的认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-438840" y="2362320"/>
            <a:ext cx="1826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ahoma"/>
                <a:ea typeface="华文彩云"/>
              </a:rPr>
              <a:t>心灵广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3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advTm="2000"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3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p:transition advTm="3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0T14:06:32Z</dcterms:created>
  <dc:creator>Zhou Chao</dc:creator>
  <dc:description/>
  <dc:language>en-US</dc:language>
  <cp:lastModifiedBy>MS User</cp:lastModifiedBy>
  <dcterms:modified xsi:type="dcterms:W3CDTF">2010-01-12T13:26:18Z</dcterms:modified>
  <cp:revision>80</cp:revision>
  <dc:subject/>
  <dc:title>幻灯片 1</dc:title>
</cp:coreProperties>
</file>