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B580-DABF-4C55-83E8-EFBA1E03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BC44-4953-4606-BA07-5DD27AAD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F5C-67C4-4FED-9423-74F654356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AC45-117F-462C-BF13-3F74AA0D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A8F7-75FC-4209-AFBB-F7CD98B1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EE35-A287-4A86-8E5A-6C2404D6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3274-53CF-4C58-A8F2-FAF6EDE6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391A-6DA0-4DB1-96F9-EAB4F838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D16F-D6A1-4437-B969-7ED937DB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6B08C-565D-49C1-8521-F21A8686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906E-A524-4A79-9E44-4ADE1372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479-3D09-4065-B995-A6127B0D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2D66-EE65-4962-B583-2BE5F2D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348E-E8A6-40C7-B0B7-E10C284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4C8A9-2E2F-46A9-B309-B915A940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9DD4-3BB4-4F5B-8A54-B218B123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E3D1B-A22A-473E-A6EB-CE9A8BC4D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52A9-DD2E-471C-B2B5-0E8B41AE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A3B-1019-405E-BF45-F50DC403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3994-2026-488F-8C9B-ECCA1F500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9730-D980-40B4-8E34-AFE50D80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A9E-A316-4319-8153-6706D38C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2279-A7F6-4345-9A9B-B7E59427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AFA-2AA1-427D-9E55-0809C43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E6D7A-7594-4EFB-8AA0-D86380FC27A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BCD6-FF7F-40CA-B9D0-E2FA453CABB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753480" cy="68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39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积累重点字词，理解课文内容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熟读、背诵精美的篇段，培养学生对语言文字的感悟、理解能力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通过学习，帮助学生树立热爱生活、热爱生命的观念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划出文中的</a:t>
            </a:r>
            <a:r>
              <a:rPr b="0" lang="zh-CN" sz="4400" spc="-1" strike="noStrike" u="sng">
                <a:solidFill>
                  <a:srgbClr val="00b200"/>
                </a:solidFill>
                <a:uFillTx/>
                <a:latin typeface="Comic Sans MS"/>
                <a:ea typeface="华文行楷"/>
                <a:hlinkClick r:id="rId2" action="ppaction://hlinksldjump"/>
              </a:rPr>
              <a:t>生字生词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本文都把生命比做什么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分别经历了哪几个生命历程或哪几种生命状态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935280" y="1573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99604"/>
                </a:solidFill>
                <a:latin typeface="Comic Sans MS"/>
                <a:ea typeface="华文行楷"/>
              </a:rPr>
              <a:t>听读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60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翳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巉岩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chá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羞怯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i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心魂惊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ài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休憩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骄奢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ē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枭鸟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āo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荫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芳馨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ī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朔风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uò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丛莽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ǎng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628640"/>
            <a:ext cx="7488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66"/>
                </a:solidFill>
                <a:latin typeface="Times New Roman"/>
                <a:ea typeface="幼圆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行楷"/>
              </a:rPr>
              <a:t>选出文中你认为用得非常好的句子或段落，有感情的大声朗读出来。并试着背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456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华文行楷"/>
              </a:rPr>
              <a:t>跳读品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804000" y="5229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22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Music"/>
          <p:cNvSpPr/>
          <p:nvPr/>
        </p:nvSpPr>
        <p:spPr>
          <a:xfrm>
            <a:off x="7596360" y="981000"/>
            <a:ext cx="906120" cy="7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85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8724d"/>
                </a:solidFill>
                <a:latin typeface="Comic Sans MS"/>
                <a:ea typeface="华文行楷"/>
              </a:rPr>
              <a:t>分组探究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以小组为单位分别探究“一江春水”、“一棵小树”部分；   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各个小组向全班同学汇报本组探究成果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提出问题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每个小组就各自探究的内容接受其他小组的提问，并作出解答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5c335"/>
                </a:solidFill>
                <a:latin typeface="Tahoma"/>
                <a:ea typeface="华文行楷"/>
              </a:rPr>
              <a:t>深化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00" y="838080"/>
            <a:ext cx="78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最能表达课文主题的思想的是哪一句或哪几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200" y="2757600"/>
            <a:ext cx="84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从课文中领悟到生命的本质是什么 生命的规律又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14400"/>
            <a:ext cx="30456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8120" y="1557360"/>
            <a:ext cx="6224400" cy="947160"/>
          </a:xfrm>
          <a:prstGeom prst="rect">
            <a:avLst/>
          </a:prstGeom>
          <a:noFill/>
          <a:ln w="9360">
            <a:solidFill>
              <a:srgbClr val="35c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中不是永远快乐，也不是永远痛苦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快乐和痛苦是相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成的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快乐中我们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痛苦中我们也要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76320" y="27432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19000" y="3755880"/>
            <a:ext cx="52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本质—蓬勃成长，奋勇前进，任何力量也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阻碍它压制它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08480" y="4973760"/>
            <a:ext cx="220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规律—始而渺小、微弱，继而强健、壮大，终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归于消亡，其间幸福与苦难、顺利与曲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伴相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349960" cy="411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flipH="1" rot="10800000">
            <a:off x="1447920" y="1295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943840" cy="99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133720" y="60948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有所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5909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作者对生命的感性认识与理性思考一定对你有所触动，请你结合自己十几年的生活经历以“生命像——”开头谈谈自己对生命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438840" y="2362320"/>
            <a:ext cx="182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心灵广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4:06:32Z</dcterms:created>
  <dc:creator>Zhou Chao</dc:creator>
  <dc:description/>
  <dc:language>en-US</dc:language>
  <cp:lastModifiedBy>MS User</cp:lastModifiedBy>
  <dcterms:modified xsi:type="dcterms:W3CDTF">2010-01-12T13:26:18Z</dcterms:modified>
  <cp:revision>80</cp:revision>
  <dc:subject/>
  <dc:title>幻灯片 1</dc:title>
</cp:coreProperties>
</file>