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1F1C-5D45-4DBB-83FE-EC927BE8EA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7FA-C00B-4596-A7EA-1E598A78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B97-AD3C-45D2-BCFA-0BF2D38C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775-0839-4A58-AACD-18D31589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3C6-2159-404C-B845-0C66D2D5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8070-B8BF-4D13-9A3C-1B7DAABB0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613E-427C-4DBC-B715-56BAE034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2C93-38C2-43DF-8D6C-94157102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1F26-A057-45DB-9CCB-5A951BDF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5AF2-C73E-45D8-9A5A-79A0F6A8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62D5-5B7F-43E6-AA9C-F9A6DFDA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BEF-79D4-4237-8BEA-76381581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F6E-B797-4EFD-993D-C43B81C9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32F9-CB15-4CAB-B29F-9266DB9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38C0-060F-49C1-8B10-C271B87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9DCB-D9F0-4C89-90DC-7F488C09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E027-6816-48DD-8EBB-352B21FD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5801-76D3-4B1D-A8A0-7E0D691C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FB2-5C9F-4BA9-ABCF-67B22571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AAB3-6F23-4B5B-9846-4DC203CE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C4B-7FE2-4841-8FEC-4CA4D479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58B-69F3-4DE9-BCBA-81016673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88B-1C05-46BB-94AB-E3653FAA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59D-B79B-4A82-B32F-7B863BDE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0E9-CFF8-4644-8648-62E6043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0048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9400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9400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2004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5fbe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fb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FE8F-7CF4-4249-B738-9184091AD9F3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588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5f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5f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551B-95B5-4063-AB51-6DA38A5BB3AA}" type="slidenum">
              <a:rPr b="0" lang="zh-CN" sz="1400" spc="-1" strike="noStrike">
                <a:solidFill>
                  <a:srgbClr val="005f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4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2c5884"/>
                </a:solidFill>
                <a:latin typeface="Arial"/>
                <a:ea typeface="隶书"/>
              </a:rPr>
              <a:t>《论语》十则</a:t>
            </a:r>
            <a:endParaRPr b="0" lang="en-US" sz="9600" spc="-1" strike="noStrike">
              <a:solidFill>
                <a:srgbClr val="2c588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47242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康大外语学校：袁倩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07920"/>
            <a:ext cx="9685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学而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wăng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，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思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不学则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(dài)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637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思考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2349360"/>
            <a:ext cx="26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迷惑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无所得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5445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（陷入邪说的）危险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5373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空想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484000" y="1628640"/>
            <a:ext cx="1295640" cy="1008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1700280"/>
            <a:ext cx="503280" cy="649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4581360"/>
            <a:ext cx="79200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4724280"/>
            <a:ext cx="1727280" cy="792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54936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由，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rŭ)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!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为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之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zhì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19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教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20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汝”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205000"/>
            <a:ext cx="23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对待知与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0048"/>
                </a:solidFill>
                <a:latin typeface="Arial"/>
                <a:ea typeface="华文新魏"/>
              </a:rPr>
              <a:t>不知的态度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537372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7b720"/>
                </a:solidFill>
                <a:latin typeface="Arial"/>
                <a:ea typeface="华文新魏"/>
              </a:rPr>
              <a:t>知道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5516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通“智”，智慧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907640" y="1125360"/>
            <a:ext cx="1079640" cy="79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1125360"/>
            <a:ext cx="504720" cy="93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1125360"/>
            <a:ext cx="2232000" cy="107964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437000"/>
            <a:ext cx="1726920" cy="936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4437000"/>
            <a:ext cx="43344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27280" y="4437000"/>
            <a:ext cx="1224000" cy="86364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00000" y="4365720"/>
            <a:ext cx="2592360" cy="1008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516360" y="4365720"/>
            <a:ext cx="1429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见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思齐焉，见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内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306864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3500280"/>
            <a:ext cx="2089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贤人，有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才德的人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0360" y="2997360"/>
            <a:ext cx="549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 rot="10800000">
            <a:off x="5976720" y="3787920"/>
            <a:ext cx="7290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反省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1916280"/>
            <a:ext cx="432000" cy="165708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268000" y="1773360"/>
            <a:ext cx="2519640" cy="17269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516720" y="1773360"/>
            <a:ext cx="792000" cy="20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0792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7.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三人行，必有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焉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择其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善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从之，其</a:t>
            </a:r>
            <a:r>
              <a:rPr b="1" lang="zh-CN" sz="4400" spc="-1" strike="noStrike">
                <a:solidFill>
                  <a:srgbClr val="2c9a16"/>
                </a:solidFill>
                <a:latin typeface="Arial"/>
                <a:ea typeface="华文新魏"/>
              </a:rPr>
              <a:t>不善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者而改之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2565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老师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1628640"/>
            <a:ext cx="21600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70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长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692360" y="3284640"/>
            <a:ext cx="0" cy="1800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3716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短处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579640" y="4292640"/>
            <a:ext cx="71640" cy="72072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765000"/>
            <a:ext cx="8893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8.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不可以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弘毅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任重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而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道远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仁以为己任，不亦重乎？死而后已，不亦远乎？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22050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60c"/>
                </a:solidFill>
                <a:latin typeface="Arial"/>
                <a:ea typeface="华文新魏"/>
              </a:rPr>
              <a:t>士人，指有抱负或有特殊社会地位的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1413000"/>
            <a:ext cx="431640" cy="863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191628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弘”，胸怀宽广；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毅”，意志坚强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1413000"/>
            <a:ext cx="21600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24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才能接受重任，长期坚持奋斗。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1341360"/>
            <a:ext cx="1295640" cy="100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5300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把实现“仁”的理想看作自己的使命，不也很重大吗？到死为止，不也很遥远吗？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9.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岁寒，然后知</a:t>
            </a:r>
            <a:r>
              <a:rPr b="1" lang="zh-CN" sz="48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松柏之后凋</a:t>
            </a:r>
            <a:r>
              <a:rPr b="1" lang="zh-CN" sz="4800" spc="-1" strike="noStrike">
                <a:solidFill>
                  <a:srgbClr val="005fbe"/>
                </a:solidFill>
                <a:latin typeface="Arial"/>
                <a:ea typeface="华文新魏"/>
              </a:rPr>
              <a:t>也。</a:t>
            </a:r>
            <a:endParaRPr b="0" lang="en-US" sz="4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2205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松柏树是最后落叶的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780000" y="1700280"/>
            <a:ext cx="2736720" cy="5047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3716280"/>
            <a:ext cx="75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这是借松柏之后凋比喻社会现象。古文云：大寒之岁，众木皆死，然后知松柏后凋伤；平岁，众木亦有不死者，故须岁寒而后别之。喻凡人处治世，亦能自修整，与君子同；在浊世，然后知君子之正不苟容。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朱熹引范氏曰：“小人之在治世，或与君子无异，唯临厉害，遇事变，然后君子之所守可见也。”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65000"/>
            <a:ext cx="9144000" cy="1477080"/>
          </a:xfrm>
          <a:prstGeom prst="rect">
            <a:avLst/>
          </a:prstGeom>
          <a:solidFill>
            <a:srgbClr val="ffffdd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10.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贡问曰：“</a:t>
            </a:r>
            <a:r>
              <a:rPr b="1" lang="zh-CN" sz="36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有一言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可以终身</a:t>
            </a:r>
            <a:r>
              <a:rPr b="1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行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？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子曰：“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恕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！</a:t>
            </a:r>
            <a:r>
              <a:rPr b="1" lang="zh-CN" sz="3600" spc="-1" strike="noStrike" u="sng">
                <a:solidFill>
                  <a:srgbClr val="005fbe"/>
                </a:solidFill>
                <a:uFillTx/>
                <a:latin typeface="Arial"/>
                <a:ea typeface="华文新魏"/>
              </a:rPr>
              <a:t>己所不欲，勿施于人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。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63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c9a16"/>
                </a:solidFill>
                <a:latin typeface="Arial"/>
                <a:ea typeface="华文新魏"/>
              </a:rPr>
              <a:t>奉行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3357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实即问“道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547280" y="1484280"/>
            <a:ext cx="2737080" cy="18734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292360" y="1413000"/>
            <a:ext cx="2303640" cy="1224000"/>
          </a:xfrm>
          <a:prstGeom prst="line">
            <a:avLst/>
          </a:prstGeom>
          <a:ln w="9360">
            <a:solidFill>
              <a:srgbClr val="07b7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父子之道，忠恕而已矣。“忠”和“恕“正是孔子”仁”的学说的两个方面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429264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自己所讨厌的事情，不要施加在别人身上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555640" y="2133720"/>
            <a:ext cx="431640" cy="25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88000" y="2133720"/>
            <a:ext cx="360360" cy="215892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1052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2c9a16"/>
                </a:solidFill>
                <a:latin typeface="Arial"/>
                <a:ea typeface="楷体_GB2312"/>
              </a:rPr>
              <a:t>分类整理：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482920"/>
            <a:ext cx="432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276640"/>
            <a:ext cx="47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00060c"/>
                </a:solidFill>
                <a:uFillTx/>
                <a:latin typeface="Arial"/>
                <a:ea typeface="华文中宋"/>
              </a:rPr>
              <a:t>学习的态度和方法</a:t>
            </a:r>
            <a:r>
              <a:rPr b="1" i="1" lang="zh-CN" sz="3200" spc="-1" strike="noStrike">
                <a:solidFill>
                  <a:srgbClr val="00060c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思想品德修养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：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关于孔子思想体系的核心，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　</a:t>
            </a:r>
            <a:r>
              <a:rPr b="1" i="1" lang="zh-CN" sz="3200" spc="-1" strike="noStrike" u="sng">
                <a:solidFill>
                  <a:srgbClr val="b20048"/>
                </a:solidFill>
                <a:uFillTx/>
                <a:latin typeface="Arial"/>
                <a:ea typeface="华文中宋"/>
              </a:rPr>
              <a:t>“仁”的概念：</a:t>
            </a:r>
            <a:r>
              <a:rPr b="1" i="1" lang="zh-CN" sz="3200" spc="-1" strike="noStrike">
                <a:solidFill>
                  <a:srgbClr val="005fbe"/>
                </a:solidFill>
                <a:latin typeface="Arial"/>
                <a:ea typeface="华文中宋"/>
              </a:rPr>
              <a:t>　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59280" y="2349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60c"/>
                </a:solidFill>
                <a:uFillTx/>
                <a:latin typeface="Arial"/>
                <a:ea typeface="华文新魏"/>
              </a:rPr>
              <a:t>包括１２３４５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2997360"/>
            <a:ext cx="45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3068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包括１４５６７８９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章；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11640" y="501336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包括８ 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10</a:t>
            </a:r>
            <a:r>
              <a:rPr b="1" lang="zh-CN" sz="2800" spc="-1" strike="noStrike" u="sng">
                <a:solidFill>
                  <a:srgbClr val="b20048"/>
                </a:solidFill>
                <a:uFillTx/>
                <a:latin typeface="Arial"/>
                <a:ea typeface="华文新魏"/>
              </a:rPr>
              <a:t>两章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48520" y="838080"/>
            <a:ext cx="2395440" cy="450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2550960" cy="266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7200" y="266688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914400"/>
            <a:ext cx="69343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孔子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（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51~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前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79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春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末期的思想家、政治家、教育家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儒家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创始人。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丘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仲尼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。鲁国陬邑人（今山东曲阜东南）人。他的成就主要在晚年，晚年他致力于教育，整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诗》《书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等古代文献，并把鲁国史官所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春秋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加以删修，使之成为我国第一部编年体历史著作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《论语》是主要记录孔子言行的一部书，是有关儒家思想的最重要的著作。从宋朝以来，它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《大学》《中庸》《孟子》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合称为“四书”，成为封建时代读书人的必读书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4165560" cy="32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2590920" cy="2035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172200" y="3505320"/>
            <a:ext cx="2590920" cy="2035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1430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fbe"/>
                </a:solidFill>
                <a:latin typeface="Arial"/>
                <a:ea typeface="华文新魏"/>
              </a:rPr>
              <a:t>                               </a:t>
            </a:r>
            <a:endParaRPr b="0" lang="en-US" sz="24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时习之，不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说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乎？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日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省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吾身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人不知而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学而不思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罔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，思而不学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殆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女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之乎！</a:t>
            </a:r>
            <a:r>
              <a:rPr b="1" lang="zh-CN" sz="2800" spc="-1" strike="noStrike">
                <a:solidFill>
                  <a:srgbClr val="005fbe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之为知之，不知为不知，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知</a:t>
            </a:r>
            <a:r>
              <a:rPr b="1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也。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65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03280" y="148428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学而</a:t>
            </a:r>
            <a:r>
              <a:rPr b="1" lang="zh-CN" sz="3600" spc="-1" strike="noStrike">
                <a:solidFill>
                  <a:srgbClr val="005fbe"/>
                </a:solidFill>
                <a:latin typeface="楷体_GB2312"/>
                <a:ea typeface="楷体_GB2312"/>
              </a:rPr>
              <a:t>时</a:t>
            </a:r>
            <a:r>
              <a:rPr b="1" lang="zh-CN" sz="3600" spc="-1" strike="noStrike">
                <a:solidFill>
                  <a:srgbClr val="b20048"/>
                </a:solidFill>
                <a:latin typeface="楷体_GB2312"/>
                <a:ea typeface="楷体_GB2312"/>
              </a:rPr>
              <a:t>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，不亦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说（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yuè</a:t>
            </a:r>
            <a:r>
              <a:rPr b="1" lang="zh-CN" sz="3600" spc="-1" strike="noStrike">
                <a:solidFill>
                  <a:srgbClr val="166810"/>
                </a:solidFill>
                <a:latin typeface="楷体_GB2312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276640"/>
            <a:ext cx="35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按一定的时间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5fbe"/>
                </a:solidFill>
                <a:latin typeface="Arial"/>
                <a:ea typeface="华文新魏"/>
              </a:rPr>
              <a:t>或“及时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835280" y="1628640"/>
            <a:ext cx="792000" cy="648000"/>
          </a:xfrm>
          <a:prstGeom prst="line">
            <a:avLst/>
          </a:prstGeom>
          <a:ln w="9360">
            <a:solidFill>
              <a:srgbClr val="005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365720"/>
            <a:ext cx="216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温习”或</a:t>
            </a:r>
            <a:r>
              <a:rPr b="0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“复习”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1628640"/>
            <a:ext cx="2087640" cy="2664000"/>
          </a:xfrm>
          <a:prstGeom prst="line">
            <a:avLst/>
          </a:prstGeom>
          <a:ln w="9360">
            <a:solidFill>
              <a:srgbClr val="b2004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43360" y="2205000"/>
            <a:ext cx="729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166810"/>
                </a:solidFill>
                <a:latin typeface="Arial"/>
                <a:ea typeface="华文新魏"/>
              </a:rPr>
              <a:t>愉快”或“高兴”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08720" y="1628640"/>
            <a:ext cx="1942920" cy="2521080"/>
          </a:xfrm>
          <a:prstGeom prst="line">
            <a:avLst/>
          </a:prstGeom>
          <a:ln w="9360">
            <a:solidFill>
              <a:srgbClr val="166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765000"/>
            <a:ext cx="7848360" cy="33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有</a:t>
            </a:r>
            <a:r>
              <a:rPr b="1" lang="zh-CN" sz="4000" spc="-1" strike="noStrike">
                <a:solidFill>
                  <a:srgbClr val="b20048"/>
                </a:solidFill>
                <a:latin typeface="Arial"/>
                <a:ea typeface="华文新魏"/>
              </a:rPr>
              <a:t>朋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自远方来，不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人不</a:t>
            </a:r>
            <a:r>
              <a:rPr b="1" lang="zh-CN" sz="4000" spc="-1" strike="noStrike">
                <a:solidFill>
                  <a:srgbClr val="166810"/>
                </a:solidFill>
                <a:latin typeface="Arial"/>
                <a:ea typeface="华文新魏"/>
              </a:rPr>
              <a:t>知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(yùn),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不亦</a:t>
            </a:r>
            <a:r>
              <a:rPr b="1" lang="zh-CN" sz="4000" spc="-1" strike="noStrike">
                <a:solidFill>
                  <a:srgbClr val="2c9a16"/>
                </a:solidFill>
                <a:latin typeface="Arial"/>
                <a:ea typeface="华文新魏"/>
              </a:rPr>
              <a:t>君子</a:t>
            </a:r>
            <a:r>
              <a:rPr b="1" lang="zh-CN" sz="4000" spc="-1" strike="noStrike">
                <a:solidFill>
                  <a:srgbClr val="005fbe"/>
                </a:solidFill>
                <a:latin typeface="Arial"/>
                <a:ea typeface="华文新魏"/>
              </a:rPr>
              <a:t>乎？</a:t>
            </a:r>
            <a:endParaRPr b="0" lang="en-US" sz="40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49228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志同道合的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1413000"/>
            <a:ext cx="28764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20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愉快、高兴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484280"/>
            <a:ext cx="43164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4869000"/>
            <a:ext cx="129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了解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知道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465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怨恨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084640"/>
            <a:ext cx="25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品德高尚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的　　人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76000" y="4005360"/>
            <a:ext cx="647640" cy="718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067280" y="4149720"/>
            <a:ext cx="288720" cy="5745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588000" y="4076640"/>
            <a:ext cx="216000" cy="1081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26920" y="1052640"/>
            <a:ext cx="741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98100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5fb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三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省</a:t>
            </a: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华文新魏"/>
              </a:rPr>
              <a:t>(xĭng)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吾身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为人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谋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与朋友交而不</a:t>
            </a:r>
            <a:r>
              <a:rPr b="1" lang="zh-CN" sz="3600" spc="-1" strike="noStrike">
                <a:solidFill>
                  <a:srgbClr val="07b720"/>
                </a:solidFill>
                <a:latin typeface="Arial"/>
                <a:ea typeface="华文新魏"/>
              </a:rPr>
              <a:t>信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 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传不</a:t>
            </a:r>
            <a:r>
              <a:rPr b="1" lang="zh-CN" sz="3600" spc="-1" strike="noStrike">
                <a:solidFill>
                  <a:srgbClr val="b20048"/>
                </a:solidFill>
                <a:latin typeface="Arial"/>
                <a:ea typeface="华文新魏"/>
              </a:rPr>
              <a:t>习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乎</a:t>
            </a:r>
            <a:r>
              <a:rPr b="1" lang="zh-CN" sz="3600" spc="-1" strike="noStrike">
                <a:solidFill>
                  <a:srgbClr val="005fbe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205000"/>
            <a:ext cx="208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多次”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不是确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198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60c"/>
                </a:solidFill>
                <a:latin typeface="Arial"/>
                <a:ea typeface="华文新魏"/>
              </a:rPr>
              <a:t>反省</a:t>
            </a:r>
            <a:endParaRPr b="0" lang="en-US" sz="2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63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办事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48360" y="226692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尽心竭力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907640" y="1557360"/>
            <a:ext cx="360360" cy="64764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1557360"/>
            <a:ext cx="720720" cy="57636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95640" y="1557360"/>
            <a:ext cx="576360" cy="11509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1557360"/>
            <a:ext cx="0" cy="792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诚实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温习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40000" y="4005360"/>
            <a:ext cx="1295280" cy="1008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4005360"/>
            <a:ext cx="358560" cy="12952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4920" y="446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温故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而</a:t>
            </a:r>
            <a:r>
              <a:rPr b="1" lang="zh-CN" sz="4400" spc="-1" strike="noStrike">
                <a:solidFill>
                  <a:srgbClr val="b20048"/>
                </a:solidFill>
                <a:latin typeface="Arial"/>
                <a:ea typeface="华文新魏"/>
              </a:rPr>
              <a:t>知新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可以</a:t>
            </a:r>
            <a:r>
              <a:rPr b="1" lang="zh-CN" sz="4400" spc="-1" strike="noStrike">
                <a:solidFill>
                  <a:srgbClr val="f89400"/>
                </a:solidFill>
                <a:latin typeface="Arial"/>
                <a:ea typeface="华文新魏"/>
              </a:rPr>
              <a:t>为师</a:t>
            </a:r>
            <a:r>
              <a:rPr b="1" lang="zh-CN" sz="4400" spc="-1" strike="noStrike">
                <a:solidFill>
                  <a:srgbClr val="005fbe"/>
                </a:solidFill>
                <a:latin typeface="Arial"/>
                <a:ea typeface="华文新魏"/>
              </a:rPr>
              <a:t>矣。</a:t>
            </a:r>
            <a:endParaRPr b="0" lang="en-US" sz="44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6000" y="2421000"/>
            <a:ext cx="172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复习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旧知识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1413000"/>
            <a:ext cx="23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有新的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60c"/>
                </a:solidFill>
                <a:latin typeface="Arial"/>
                <a:ea typeface="华文新魏"/>
              </a:rPr>
              <a:t>体会和发现</a:t>
            </a:r>
            <a:endParaRPr b="0" lang="en-US" sz="32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1916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60c"/>
                </a:solidFill>
                <a:latin typeface="Arial"/>
                <a:ea typeface="华文新魏"/>
              </a:rPr>
              <a:t>成为老师</a:t>
            </a:r>
            <a:endParaRPr b="0" lang="en-US" sz="36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835280" y="3716280"/>
            <a:ext cx="576000" cy="93672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51280" y="2707920"/>
            <a:ext cx="360360" cy="187308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00720" y="2637000"/>
            <a:ext cx="1224000" cy="2016000"/>
          </a:xfrm>
          <a:prstGeom prst="line">
            <a:avLst/>
          </a:prstGeom>
          <a:ln w="9360">
            <a:solidFill>
              <a:srgbClr val="0006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fbe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7:16:54Z</dcterms:created>
  <dc:creator>liuhj</dc:creator>
  <dc:description/>
  <dc:language>en-US</dc:language>
  <cp:lastModifiedBy>Administrator</cp:lastModifiedBy>
  <dcterms:modified xsi:type="dcterms:W3CDTF">2005-09-29T01:28:45Z</dcterms:modified>
  <cp:revision>57</cp:revision>
  <dc:subject/>
  <dc:title>《论语》十则</dc:title>
</cp:coreProperties>
</file>