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79F-5264-40BD-A29E-DD69C444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ACD-434C-46B4-B078-05681BB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FCE-7C67-40F9-B4F0-47DA2292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624-010B-4792-9EB6-185743F7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C7D-93B3-4D64-BFD2-5D38EAB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995-BF00-451E-9825-2642D35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CDF-5E55-44ED-BF88-D462740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2C4-DEA1-4AF3-A5D9-CF6E4A2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413-3F6B-400F-A52E-D7785911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13D1-D6B1-4D03-99B2-0AE300A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105-12C0-43E7-950E-51DD7A7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D3B-B04E-4D07-A694-2F505E0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12F-EECC-4ADD-A8FC-B76778A0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AE5E-C747-47D3-88A3-C88D17C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5BD7-F313-4852-A35A-FCC8DCF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C5E8-7EAE-4001-B5D0-E9F83CEB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A92-BD9C-4D77-B085-3E176BDE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4C-00A3-465E-B102-D2F25DF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1AF-6E4E-4D7C-A561-19D29AE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0D5-F73F-4122-81F5-ABB9D6E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471-4F7C-4885-827F-2D1A0D0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DF0-0D3A-43AD-834E-9458A44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DE4-93D2-40FC-9D6C-DB8A6F7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7A7-2D04-4AD2-A992-8AB8CEA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7CD-5C53-42BF-9094-E48DFA7ADD9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0320-22FD-4B1E-A4D8-1BEEC2002D7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2708280"/>
            <a:ext cx="701676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《天上的街市》课件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940360" y="1197000"/>
            <a:ext cx="20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cc"/>
                </a:solidFill>
                <a:latin typeface="Arial"/>
                <a:ea typeface="华文彩云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421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所想象的天上的街市是个怎样的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联想，哪些是想象？他的想象是怎么发展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26028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想象与联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155736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11253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10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197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  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3160" y="836640"/>
            <a:ext cx="1460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果联系相似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267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29264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3789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38606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5086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3160" y="3716280"/>
            <a:ext cx="146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源于客观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92720" y="76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街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916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明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5760" y="2421000"/>
            <a:ext cx="1399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天上的街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27664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99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99736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珍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40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天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149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浅浅、不甚宽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157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229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来往、闲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1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084720" y="1412640"/>
            <a:ext cx="9720" cy="49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49228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57336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65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852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5856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628640"/>
            <a:ext cx="5977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联想和想象，体会诗歌思想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，大声的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89000"/>
            <a:ext cx="367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出情感美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5000">
    <p:split dir="out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00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836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1280" y="404640"/>
            <a:ext cx="27432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125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请发挥你的奇思妙想，完成下列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63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示例，请同学们经过四至五步联想，使两个意义很远的词语联系起来。（任选其中两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雪花     茶    ②钢笔   月亮    ③夏夜 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；木头    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木头——树林——田野——足球场——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263700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叶根友蚕燕隶书(3500)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43280" y="2276280"/>
            <a:ext cx="43495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课件内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适用范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377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本课件课文选自苏教版七年级（上册）语文教材第二十二课，用于第一课时授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92360" y="33336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，说一说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997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天上的世界是怎样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484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天上的街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19280" y="3789360"/>
            <a:ext cx="460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郭沫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892—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Impact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Impact"/>
                <a:ea typeface="仿宋_GB2312"/>
              </a:rPr>
              <a:t>原名郭开贞，四川省乐山县人，我国著名的文学家、历史学家。他的著作很多，文学方面有诗集《女神》、话剧《屈原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24360" y="189000"/>
            <a:ext cx="2965320" cy="345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2743200" cy="189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04000" y="595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郭沫若故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476280"/>
            <a:ext cx="458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1400" y="3645000"/>
            <a:ext cx="1399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27280" y="213372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节奏不宜强，声音不宜大，速度不宜快，做到轻松、柔和、舒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把握这首诗美好、恬静、自然、清新而略带忧郁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读出诗歌的节奏和重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620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朗读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8000" y="0"/>
            <a:ext cx="603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天上的街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　　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远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明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闪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上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现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点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缥渺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空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陈列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物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世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珍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看，那浅浅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宽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隔着河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牛郎织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   定能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骑着牛儿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来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此刻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天街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闲游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不信，请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朵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流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提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灯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6948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508720" y="98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品味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13372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言是诗歌美丽的外衣，诗歌需要语言富有表现力，节奏和谐，富有音乐性。同学们认为诗中哪些词语使诗歌打扮得更加迷人，说说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2:16:02Z</dcterms:created>
  <dc:creator>h</dc:creator>
  <dc:description/>
  <dc:language>en-US</dc:language>
  <cp:lastModifiedBy>www.laptop.net.cn</cp:lastModifiedBy>
  <dcterms:modified xsi:type="dcterms:W3CDTF">2010-06-08T05:48:20Z</dcterms:modified>
  <cp:revision>25</cp:revision>
  <dc:subject/>
  <dc:title>幻灯片 1</dc:title>
</cp:coreProperties>
</file>