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DFB-46D3-472A-A8CF-FA76953E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D62-5ABA-413E-BE0E-68E35FB4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5E4-FF71-472C-A0C3-B1C90BBB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3AE-8910-46FF-96C7-0BE3FF52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8A6E-44B6-44AB-AA84-6687AA83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63BA-969E-4596-B4BD-C1AF7085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5994-6DB0-4287-86C2-72AE6DC4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9563-F660-465E-B312-80D68D98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F0C2-529A-4EA0-932C-CA7DC989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B30E-5B45-4164-8050-7A60E0A9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68FF-63C4-474B-B824-2337B8D5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A1E-EAF0-4546-A968-169CCAAC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DB20-AA48-46DA-85F6-56B1C01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F96A-44DB-4CF6-84C0-A614ACE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1282-0E54-4D94-89B6-3DEE5F20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4265-33B3-4BC0-ADB6-7E322C8B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D83C-03B1-4885-A200-5ACF563B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829-4C3D-469B-BA8D-075212B9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BDC-48A0-4866-B422-82534E49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C58-73CD-49F0-A0F2-28FDCD88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23C-39BD-4FE0-933E-5EFCB639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951-2637-436D-A359-799F47C2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319-281C-431E-81CA-2A2E269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5FE-0372-4B44-8B27-408E287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B0BA-A9AE-4986-8D6B-7326F3D7988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04B6-D934-47D0-A3EB-1E1901D2DB1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753480" cy="68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39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积累重点字词，理解课文内容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熟读、背诵精美的篇段，培养学生对语言文字的感悟、理解能力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通过学习，帮助学生树立热爱生活、热爱生命的观念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划出文中的</a:t>
            </a:r>
            <a:r>
              <a:rPr b="0" lang="zh-CN" sz="4400" spc="-1" strike="noStrike" u="sng">
                <a:solidFill>
                  <a:srgbClr val="00b200"/>
                </a:solidFill>
                <a:uFillTx/>
                <a:latin typeface="Comic Sans MS"/>
                <a:ea typeface="华文行楷"/>
                <a:hlinkClick r:id="rId2" action="ppaction://hlinksldjump"/>
              </a:rPr>
              <a:t>生字生词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本文都把生命比做什么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分别经历了哪几个生命历程或哪几种生命状态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935280" y="1573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99604"/>
                </a:solidFill>
                <a:latin typeface="Comic Sans MS"/>
                <a:ea typeface="华文行楷"/>
              </a:rPr>
              <a:t>听读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60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翳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巉岩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chá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羞怯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i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心魂惊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ài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休憩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骄奢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ē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枭鸟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āo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荫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芳馨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ī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朔风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uò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丛莽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ǎng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628640"/>
            <a:ext cx="7488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66"/>
                </a:solidFill>
                <a:latin typeface="Times New Roman"/>
                <a:ea typeface="幼圆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行楷"/>
              </a:rPr>
              <a:t>选出文中你认为用得非常好的句子或段落，有感情的大声朗读出来。并试着背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456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华文行楷"/>
              </a:rPr>
              <a:t>跳读品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804000" y="5229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22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Music"/>
          <p:cNvSpPr/>
          <p:nvPr/>
        </p:nvSpPr>
        <p:spPr>
          <a:xfrm>
            <a:off x="7596360" y="981000"/>
            <a:ext cx="906120" cy="7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85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8724d"/>
                </a:solidFill>
                <a:latin typeface="Comic Sans MS"/>
                <a:ea typeface="华文行楷"/>
              </a:rPr>
              <a:t>分组探究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以小组为单位分别探究“一江春水”、“一棵小树”部分；   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各个小组向全班同学汇报本组探究成果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提出问题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每个小组就各自探究的内容接受其他小组的提问，并作出解答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5c335"/>
                </a:solidFill>
                <a:latin typeface="Tahoma"/>
                <a:ea typeface="华文行楷"/>
              </a:rPr>
              <a:t>深化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00" y="838080"/>
            <a:ext cx="78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最能表达课文主题的思想的是哪一句或哪几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200" y="2757600"/>
            <a:ext cx="84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从课文中领悟到生命的本质是什么 生命的规律又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14400"/>
            <a:ext cx="30456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8120" y="1557360"/>
            <a:ext cx="6224400" cy="947160"/>
          </a:xfrm>
          <a:prstGeom prst="rect">
            <a:avLst/>
          </a:prstGeom>
          <a:noFill/>
          <a:ln w="9360">
            <a:solidFill>
              <a:srgbClr val="35c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中不是永远快乐，也不是永远痛苦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快乐和痛苦是相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成的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快乐中我们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痛苦中我们也要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76320" y="27432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19000" y="3755880"/>
            <a:ext cx="52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本质—蓬勃成长，奋勇前进，任何力量也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阻碍它压制它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08480" y="4973760"/>
            <a:ext cx="220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规律—始而渺小、微弱，继而强健、壮大，终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归于消亡，其间幸福与苦难、顺利与曲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伴相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349960" cy="411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flipH="1" rot="10800000">
            <a:off x="1447920" y="1295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943840" cy="99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133720" y="60948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有所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5909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作者对生命的感性认识与理性思考一定对你有所触动，请你结合自己十几年的生活经历以“生命像——”开头谈谈自己对生命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438840" y="2362320"/>
            <a:ext cx="182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心灵广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4:06:32Z</dcterms:created>
  <dc:creator>Zhou Chao</dc:creator>
  <dc:description/>
  <dc:language>en-US</dc:language>
  <cp:lastModifiedBy>MS User</cp:lastModifiedBy>
  <dcterms:modified xsi:type="dcterms:W3CDTF">2010-01-12T13:26:18Z</dcterms:modified>
  <cp:revision>80</cp:revision>
  <dc:subject/>
  <dc:title>幻灯片 1</dc:title>
</cp:coreProperties>
</file>