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gif" ContentType="image/gif"/>
  <Override PartName="/ppt/media/chimes.wav" ContentType="audio/x-wav"/>
  <Override PartName="/ppt/media/image16.jpeg" ContentType="image/jpeg"/>
  <Override PartName="/ppt/media/image12.gif" ContentType="image/gif"/>
  <Override PartName="/ppt/media/image11.gif" ContentType="image/gif"/>
  <Override PartName="/ppt/media/image14.png" ContentType="image/png"/>
  <Override PartName="/ppt/media/image20.jpeg" ContentType="image/jpeg"/>
  <Override PartName="/ppt/media/image15.jpeg" ContentType="image/jpeg"/>
  <Override PartName="/ppt/media/image9.gif" ContentType="image/gif"/>
  <Override PartName="/ppt/media/image19.jpeg" ContentType="image/jpeg"/>
  <Override PartName="/ppt/media/image18.gif" ContentType="image/gif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912-9873-412F-AB11-59F972E7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AD9-7D03-46FD-B7B7-BB3E936B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02BE-0FA1-4789-9E19-59FD9FF4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AD14-B7A7-40BB-B65D-36C25F45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0FC1-72F1-428B-BA68-30E1896B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15EC-82EE-4722-8866-FF9CB2F2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B0BB-20BD-4616-A508-42425D16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406D-1C91-43A3-BF88-7A82724D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55EF-37D2-47E0-B1B8-5B74F7ED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9761-15D6-4396-A7D7-409F1B13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F7DC-02FD-4B43-BE2F-9935FB87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F23-EA27-4E51-8C06-7E201745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86E2-48FD-4B15-9479-97E27894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AA94-8DAA-4F1C-A7C1-88A4E11C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1BBA-A44E-472F-9E31-47D7C198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2594-B4E1-4C81-989E-F30E3968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5165-1585-4409-8AEA-59EF06CC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128D-8117-478A-8481-34F545CB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FF03C-B330-454F-89DA-7290D1FA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14F4-6D4A-4BC4-8B4F-BB0D00AC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64BF2-20E5-4208-A523-5E99B8B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1B66-CDDF-40FE-9218-F8F3DE72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77C-C8C1-4018-AB04-5F76E3C1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43FA1-3C89-4D2B-BD50-4F174D23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FF495-EAAC-43E3-A596-155B16BF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6240E-D395-4E1C-A94F-846D2C9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E31D-CB91-4D52-AC5F-E4DB3728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4C39-A399-4AD0-B817-90229E97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2E03-1B49-4BF6-B1E7-686666FD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98EE8-8621-49DC-AF71-901CCA6F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2D9-7E29-4447-8FBB-FA03FA27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CE5A-9AA1-46E9-A66B-2ADED009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170-08FF-4CC5-B4BB-63384D05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E9271-3827-4DB8-A559-FDFF36D1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926BD-B839-44DD-81C8-F9F7CABF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2F5A3-C434-49AE-8A27-9ED4CC4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80CF-A7CA-453B-9B83-EAC982CF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48AB4-7D9F-4E05-8BC7-0E916DBE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E88B-F482-4730-9A0C-3F1C7386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F2F01-3506-4A4D-80BD-C5D01326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47D24-E6C9-41A8-857B-CB0A3736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3458D-700A-4F33-AF79-38BF6686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16F7-7670-4889-AC8B-940FC608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A16-AB64-4AFE-9E70-01CCD757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BFE23-B703-4D16-918B-BE46B703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EB8-930C-432A-B453-9377F667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031-8F3A-4767-A102-FB5CB4DF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A09-565B-412F-8487-F7756A02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2C98-14A9-4534-A069-10D9680F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380880"/>
            <a:ext cx="779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826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19320" indent="-1227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491400" indent="-982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687960" indent="-982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884520" indent="-982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884520" indent="-982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6C3F-2BC0-4BC4-B425-7F784A71DA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83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87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1257-B3C6-4C2D-93BF-35FDD73DBF4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7D21-8F38-40BA-B5F4-F5A2461DC4B3}" type="slidenum">
              <a:rPr b="0" lang="en-US" sz="1400" spc="-1" strike="noStrike">
                <a:solidFill>
                  <a:srgbClr val="2a3d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5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403280" y="40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我与父亲不相见已二年余了，我最不能忘记的是他的背景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7636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他用两手攀着上面，两脚再向上缩；他肥胖的身子向左微倾，显出努力的样子，这时我看见他的背影，我的泪很快地流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16000" y="3500280"/>
            <a:ext cx="802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等他的背影混入来来往往的人里，再找不着了，我便进来坐下，我的眼泪又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332000" y="486900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我读到此处，在晶莹的泪光中，又看见那肥胖的、青布棉袍黑布马褂的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 flipH="1" rot="10800000">
            <a:off x="324000" y="83592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80880" y="152388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中一共写了父亲四次背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72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9780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0720" y="2276640"/>
            <a:ext cx="1066680" cy="28954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64000" y="2349360"/>
            <a:ext cx="1067040" cy="28958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50000">
                <a:srgbClr val="ffccff"/>
              </a:gs>
              <a:gs pos="100000">
                <a:srgbClr val="99cc00"/>
              </a:gs>
            </a:gsLst>
            <a:lin ang="5400000"/>
          </a:gra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思念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5638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父子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67480" y="5653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别后怀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1905120" y="5791320"/>
            <a:ext cx="1295280" cy="2635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42670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781680" y="5791320"/>
            <a:ext cx="1295640" cy="263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96720" y="4941720"/>
            <a:ext cx="8458200" cy="7621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219320" y="685800"/>
            <a:ext cx="51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合作探究   交流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09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10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13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55640" y="2133720"/>
            <a:ext cx="7920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再读课文 找出课文中着重描写了哪一次背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547640" y="170028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章着重描写了父亲买橘子爬月台的时候的背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772640" y="446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Arial"/>
                <a:ea typeface="隶书"/>
              </a:rPr>
              <a:t>朗读与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32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32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32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843280" y="1773360"/>
            <a:ext cx="590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我看见他戴着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穿着黑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深青布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，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地走到铁道边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慢慢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身下去，尚不大难。可是他穿过铁道 ，要爬上那边月台 ，就不容易了 。他用两手  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着上面 ，两脚再向上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；他肥胖的身子向左微</a:t>
            </a:r>
            <a:r>
              <a:rPr b="1" lang="en-US" sz="2800" spc="-1" strike="noStrike" u="sng">
                <a:solidFill>
                  <a:srgbClr val="5b5249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5b524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5b5249"/>
                </a:solidFill>
                <a:latin typeface="宋体"/>
              </a:rPr>
              <a:t>显出努力的样子，这时我看见他的背影 ，我的泪很快地流下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2054160" cy="4753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6443640" y="219384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7672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黑布小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2133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马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036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棉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4360" y="2205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蹒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0000" y="2637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4000" y="35053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27640" y="38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16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0" y="765000"/>
            <a:ext cx="9009000" cy="1052640"/>
            <a:chOff x="0" y="765000"/>
            <a:chExt cx="9009000" cy="1052640"/>
          </a:xfrm>
        </p:grpSpPr>
        <p:grpSp>
          <p:nvGrpSpPr>
            <p:cNvPr id="348" name=""/>
            <p:cNvGrpSpPr/>
            <p:nvPr/>
          </p:nvGrpSpPr>
          <p:grpSpPr>
            <a:xfrm>
              <a:off x="290520" y="873000"/>
              <a:ext cx="711360" cy="474480"/>
              <a:chOff x="290520" y="873000"/>
              <a:chExt cx="711360" cy="474480"/>
            </a:xfrm>
          </p:grpSpPr>
          <p:sp>
            <p:nvSpPr>
              <p:cNvPr id="349" name=""/>
              <p:cNvSpPr/>
              <p:nvPr/>
            </p:nvSpPr>
            <p:spPr>
              <a:xfrm>
                <a:off x="290520" y="873000"/>
                <a:ext cx="437400" cy="474480"/>
              </a:xfrm>
              <a:prstGeom prst="rect">
                <a:avLst/>
              </a:prstGeom>
              <a:solidFill>
                <a:srgbClr val="c3e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3560" y="8730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c3e68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414360" y="1295280"/>
              <a:ext cx="737640" cy="474480"/>
              <a:chOff x="414360" y="1295280"/>
              <a:chExt cx="737640" cy="474480"/>
            </a:xfrm>
          </p:grpSpPr>
          <p:sp>
            <p:nvSpPr>
              <p:cNvPr id="352" name=""/>
              <p:cNvSpPr/>
              <p:nvPr/>
            </p:nvSpPr>
            <p:spPr>
              <a:xfrm>
                <a:off x="414360" y="1295280"/>
                <a:ext cx="421560" cy="474480"/>
              </a:xfrm>
              <a:prstGeom prst="rect">
                <a:avLst/>
              </a:prstGeom>
              <a:solidFill>
                <a:srgbClr val="fac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83360" y="12952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ac16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12222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0ae6a"/>
                </a:gs>
                <a:gs pos="100000">
                  <a:srgbClr val="99ff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040" y="765000"/>
              <a:ext cx="31680" cy="1052640"/>
            </a:xfrm>
            <a:prstGeom prst="rect">
              <a:avLst/>
            </a:prstGeom>
            <a:solidFill>
              <a:srgbClr val="cec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16080" y="1586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cec8b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1703160" y="714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a3d7a"/>
                </a:solidFill>
                <a:latin typeface="Arial"/>
                <a:ea typeface="隶书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35280" y="2059560"/>
            <a:ext cx="48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读父亲过铁道的部分，哪些地方令你感动？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42920" y="2851560"/>
            <a:ext cx="396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ａ、父亲的穿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ｂ、走路的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宋体"/>
              </a:rPr>
              <a:t>ｃ、爬月台时的动作</a:t>
            </a:r>
            <a:r>
              <a:rPr b="1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03640" y="292428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宋体"/>
              </a:rPr>
              <a:t>黑、深青</a:t>
            </a: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71760" y="385992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蹒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50960" y="4796640"/>
            <a:ext cx="79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探、攀、缩、倾</a:t>
            </a:r>
            <a:r>
              <a:rPr b="1" lang="en-US" sz="18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34320" y="2666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家境不好，心情忧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3886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年龄大，腿脚不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行动不便，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  <p:sndAc>
      <p:stSnd>
        <p:snd r:embed="rId2" name="chimes.wav"/>
      </p:stSnd>
    </p:sndAc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57200" y="1066680"/>
            <a:ext cx="886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这一自然段写父亲主要通过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肖像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）描写和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动作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）描写来写父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514600"/>
            <a:ext cx="1130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◆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是扑扑身上的泥土，心里很轻松似的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父亲为什么会给儿子这样的感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03000" y="4191120"/>
            <a:ext cx="517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父亲尽到了自己的责任，所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心里很轻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0600" y="6037200"/>
            <a:ext cx="38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373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374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377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304920" y="1628640"/>
            <a:ext cx="8458200" cy="11527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亲送儿子上车的过程说的四句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7696080" y="5867280"/>
            <a:ext cx="1143000" cy="6858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066680" y="3141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要紧，他们去不好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407664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买几个橘子去，你就在此地，不要走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71640" y="5229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走了，到那边来信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5805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去吧，里边没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39640" y="3309840"/>
            <a:ext cx="625680" cy="3351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33520" y="4221000"/>
            <a:ext cx="625320" cy="3351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468360" y="5302080"/>
            <a:ext cx="625320" cy="333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533520" y="5950080"/>
            <a:ext cx="625320" cy="334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7236000" y="2276640"/>
            <a:ext cx="1218960" cy="14475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8683" y="209"/>
                </a:moveTo>
                <a:arcTo wR="-10800" hR="-10800" stAng="-6078223" swAng="-11585606"/>
                <a:lnTo>
                  <a:pt x="6339" y="964"/>
                </a:lnTo>
                <a:arcTo wR="10800" hR="10800" stAng="-6863828" swAng="11585606"/>
                <a:lnTo>
                  <a:pt x="13446" y="24038"/>
                </a:lnTo>
                <a:lnTo>
                  <a:pt x="10269" y="21920"/>
                </a:lnTo>
                <a:lnTo>
                  <a:pt x="12388" y="18743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从文中找出，并体会其中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195640" y="1484280"/>
            <a:ext cx="3744720" cy="110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怜爱儿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95" name=""/>
          <p:cNvSpPr/>
          <p:nvPr/>
        </p:nvSpPr>
        <p:spPr>
          <a:xfrm>
            <a:off x="1116000" y="9190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事已如此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不必难过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</a:rPr>
              <a:t>好在天无绝人之路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612720" y="981000"/>
            <a:ext cx="625680" cy="335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5797440" y="1557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亲的安慰体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076720" y="3213000"/>
            <a:ext cx="35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放心不下的心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292720" y="458136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想得十分周到，怕他旅程辛苦，口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41800" y="5661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临别时的谆谆嘱咐，惦念儿子旅途的平安之心跃然纸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找到父亲为儿子做的几件事。</a:t>
            </a:r>
            <a:endParaRPr b="1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97164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安慰儿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送儿子上火车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看行李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过铁道买橘子；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写信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33720" y="1676520"/>
            <a:ext cx="1643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隶书"/>
              </a:rPr>
              <a:t>慈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6237360"/>
            <a:ext cx="63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此我受到了很大的感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0"/>
            <a:ext cx="4038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 flipH="1" rot="10800000">
            <a:off x="304920" y="1142280"/>
            <a:ext cx="8076960" cy="228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0" y="1341360"/>
            <a:ext cx="8458200" cy="129564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316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课文写了“我”几次流泪？我流泪的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2971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悲哀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40384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感动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9640" y="5805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伤心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352680" y="30481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见父亲，睹家境，想祖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406872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望父买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48000" y="595008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现背影，泪光莹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9640" y="48690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华文行楷"/>
              </a:rPr>
              <a:t>依恋之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492360" y="4941720"/>
            <a:ext cx="2303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父子离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4000" y="40464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724200" cy="4886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24360" y="185760"/>
            <a:ext cx="489564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朱自清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898—194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字佩弦，现代著名诗人，散文家，学者，  民主战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一生勤奋，共有诗歌、散文、评论、学术研究等著作，约二百多万字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有诗文集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踪迹》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欧旅杂记》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散文代表作有《春》、《荷塘月色》、《背影》、《绿》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导学达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0" y="762120"/>
            <a:ext cx="9009000" cy="1052280"/>
            <a:chOff x="0" y="762120"/>
            <a:chExt cx="9009000" cy="1052280"/>
          </a:xfrm>
        </p:grpSpPr>
        <p:grpSp>
          <p:nvGrpSpPr>
            <p:cNvPr id="420" name=""/>
            <p:cNvGrpSpPr/>
            <p:nvPr/>
          </p:nvGrpSpPr>
          <p:grpSpPr>
            <a:xfrm>
              <a:off x="290520" y="869760"/>
              <a:ext cx="711360" cy="474120"/>
              <a:chOff x="290520" y="869760"/>
              <a:chExt cx="711360" cy="474120"/>
            </a:xfrm>
          </p:grpSpPr>
          <p:sp>
            <p:nvSpPr>
              <p:cNvPr id="421" name=""/>
              <p:cNvSpPr/>
              <p:nvPr/>
            </p:nvSpPr>
            <p:spPr>
              <a:xfrm>
                <a:off x="290520" y="869760"/>
                <a:ext cx="437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73560" y="869760"/>
                <a:ext cx="3283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414360" y="1292040"/>
              <a:ext cx="737640" cy="474120"/>
              <a:chOff x="414360" y="1292040"/>
              <a:chExt cx="737640" cy="474120"/>
            </a:xfrm>
          </p:grpSpPr>
          <p:sp>
            <p:nvSpPr>
              <p:cNvPr id="424" name=""/>
              <p:cNvSpPr/>
              <p:nvPr/>
            </p:nvSpPr>
            <p:spPr>
              <a:xfrm>
                <a:off x="414360" y="1292040"/>
                <a:ext cx="42156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83360" y="1292040"/>
                <a:ext cx="368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0" y="1218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5040" y="762120"/>
              <a:ext cx="3168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16080" y="158364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7200" y="2133720"/>
            <a:ext cx="8001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请简要概括课文的中心意思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11280" y="3068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课文通过对父亲背影的描写，于叙事中表现了父亲疼爱儿子，儿子怜爱父亲，父子情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0" y="0"/>
            <a:ext cx="20160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126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课文第五段中，作者一再说自己“聪明过分”“太聪明”，为什么这样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44720" y="24922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语，对当时不理解父爱的自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720" y="3213000"/>
            <a:ext cx="752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有人说，本文失之伤感。“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岁的大男孩是不是还要父亲这么照顾，而面临离分别，是不是会这么容易流泪，我很怀疑。”你的看法呢？可以与大家讨论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16000" y="1267920"/>
            <a:ext cx="7772400" cy="20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《背影》写的虽只是“芝麻黄豆大的事”，却称得上是朱自清先生“精神产品的独创”因其品味之高，感人之深，备受推崇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627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774072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8172360" y="6400800"/>
            <a:ext cx="457200" cy="457200"/>
          </a:xfrm>
          <a:custGeom>
            <a:avLst/>
            <a:gdLst>
              <a:gd name="textAreaLeft" fmla="*/ 28440 w 457200"/>
              <a:gd name="textAreaRight" fmla="*/ 428760 w 4572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3756"/>
                </a:moveTo>
                <a:lnTo>
                  <a:pt x="19645" y="10800"/>
                </a:lnTo>
                <a:lnTo>
                  <a:pt x="5558" y="17844"/>
                </a:lnTo>
                <a:close/>
              </a:path>
            </a:pathLst>
          </a:custGeom>
          <a:solidFill>
            <a:srgbClr val="fac164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00000" y="0"/>
            <a:ext cx="7010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bf7d"/>
                </a:solidFill>
                <a:latin typeface="黑体"/>
                <a:ea typeface="黑体"/>
              </a:rPr>
              <a:t>父亲是一座山，伟大而坚强。严酷的现实扭曲了情感，沉重的负担压弯了脊背，他从无怨言，默默地用点点血汗，以透支的生命为儿女们开出一条成功之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世间的情千万种，只有爱最崇高；世间的爱千万种，惟有父母之爱最无私。时间的长河可以带走一切，但带不走父母的爱。它已深入我们的骨髓，溶入我们的血液。这爱留在我们的心中，时刻温暖我们的生命历程。</a:t>
            </a:r>
            <a:endParaRPr b="1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图片1nm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476360" y="836640"/>
            <a:ext cx="69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学习本文的写法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以一侧面来写人物的方法，如以“爸爸的手”、“妈妈的笑” ……为话题，写一篇练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7160" y="231840"/>
            <a:ext cx="8910360" cy="66261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28800" y="380880"/>
            <a:ext cx="374796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Verdana"/>
                <a:ea typeface="华文新魏"/>
              </a:rPr>
              <a:t>写作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00000" y="1628640"/>
            <a:ext cx="6858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《背影》写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，当时作者在清华大学任教。本文是作者追忆八年前的往事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17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冬，作者祖母去世，父亲朱鸿钧原任徐州烟酒公卖局局长，被解职。文中的“祸不单行”正是指这两件事。作者当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岁，在北大哲学系读书，得知祖母去世，从北京赶到徐州与父亲一道回扬州奔丧。丧事完毕，父亲到南京找工作，作者回北京念书，父子在浦口车站惜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43280" y="5877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xz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244000" y="6308640"/>
            <a:ext cx="900000" cy="549360"/>
          </a:xfrm>
          <a:prstGeom prst="rightArrow">
            <a:avLst>
              <a:gd name="adj1" fmla="val 50000"/>
              <a:gd name="adj2" fmla="val 409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有声读物-背影" descr=""/>
          <p:cNvPicPr/>
          <p:nvPr/>
        </p:nvPicPr>
        <p:blipFill>
          <a:blip r:embed="rId2"/>
          <a:stretch/>
        </p:blipFill>
        <p:spPr>
          <a:xfrm>
            <a:off x="468360" y="5950080"/>
            <a:ext cx="1150920" cy="647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134440" y="-23760"/>
            <a:ext cx="5690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记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散文，写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曾说：“我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，就因为文中所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父亲的来信那句话。当时读了父亲的信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是泪如泉涌。我父亲待我的许多好处，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背影》里所叙述的那一回，想起来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前一般无二。我这篇文只是写实，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图片1nm" descr=""/>
          <p:cNvPicPr/>
          <p:nvPr/>
        </p:nvPicPr>
        <p:blipFill>
          <a:blip r:embed="rId1"/>
          <a:stretch/>
        </p:blipFill>
        <p:spPr>
          <a:xfrm>
            <a:off x="0" y="1440"/>
            <a:ext cx="9036000" cy="6813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33164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交卸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奔丧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 狼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簌簌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典质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赋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颓唐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琐屑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蹒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踌躇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触目伤怀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情郁于中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祸不单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68360" y="1125360"/>
            <a:ext cx="64789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iè            sāng             j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ù                            f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uí           suǒxiè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pánsh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60199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4653000"/>
            <a:ext cx="6767280" cy="519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2240" y="419040"/>
            <a:ext cx="49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读下列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2200" y="2602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9999"/>
                </a:solidFill>
                <a:latin typeface="Tahoma"/>
              </a:rPr>
              <a:t>思      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981000"/>
            <a:ext cx="59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《背影》这篇散文因其成功地描述了“父爱”这一主题而被人们广为传诵。读完这篇散文之后，你觉得作者是通过选取什么角度来表达“父爱”这一主题的？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5013360"/>
            <a:ext cx="5327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作者是通过选取“背影”这个角度来表达“父爱”这一主题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1752480"/>
            <a:ext cx="1219320" cy="3810240"/>
          </a:xfrm>
          <a:prstGeom prst="upDownArrow">
            <a:avLst>
              <a:gd name="adj1" fmla="val 50000"/>
              <a:gd name="adj2" fmla="val 62498"/>
            </a:avLst>
          </a:prstGeom>
          <a:gradFill rotWithShape="0">
            <a:gsLst>
              <a:gs pos="0">
                <a:srgbClr val="ccecff"/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1981080"/>
            <a:ext cx="81532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8288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1752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开篇设疑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思念父亲）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悲凉气氛 别时家境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2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铺垫背影 细心关照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4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　　　　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刻画背影 </a:t>
            </a:r>
            <a:r>
              <a:rPr b="1" lang="zh-CN" sz="2800" spc="-1" strike="noStrike">
                <a:solidFill>
                  <a:srgbClr val="b74e07"/>
                </a:solidFill>
                <a:latin typeface="黑体"/>
                <a:ea typeface="黑体"/>
              </a:rPr>
              <a:t>望父买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　　　 </a:t>
            </a:r>
            <a:r>
              <a:rPr b="1" lang="zh-CN" sz="3600" spc="-1" strike="noStrike">
                <a:solidFill>
                  <a:srgbClr val="b74e07"/>
                </a:solidFill>
                <a:latin typeface="Arial"/>
              </a:rPr>
              <a:t>父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惜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别后思念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现背影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7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44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45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48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段落层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 rot="5400000">
            <a:off x="189720" y="3390840"/>
            <a:ext cx="175284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父子情深</a:t>
            </a:r>
            <a:endParaRPr b="1" lang="en-US" sz="20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828800" y="342900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忆往事</a:t>
            </a:r>
            <a:endParaRPr b="1" lang="en-US" sz="1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010280" y="3962520"/>
            <a:ext cx="1335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宋体"/>
              </a:rPr>
              <a:t>6</a:t>
            </a:r>
            <a:endParaRPr b="0" lang="en-US" sz="2000" spc="-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宋体"/>
              <a:ea typeface="宋体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11280" y="1628640"/>
            <a:ext cx="815328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读课文感知主要内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下列各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眼”就是“揭全文主旨”的关键句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读出了文眼，就读出了中心。文眼常常出现在开头或结尾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59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60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63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476360" y="476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4360" y="1700280"/>
            <a:ext cx="8227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请找出本文的文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55640" y="1844640"/>
            <a:ext cx="708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35000" y="457200"/>
            <a:ext cx="9009000" cy="1052640"/>
            <a:chOff x="135000" y="457200"/>
            <a:chExt cx="9009000" cy="1052640"/>
          </a:xfrm>
        </p:grpSpPr>
        <p:grpSp>
          <p:nvGrpSpPr>
            <p:cNvPr id="273" name=""/>
            <p:cNvGrpSpPr/>
            <p:nvPr/>
          </p:nvGrpSpPr>
          <p:grpSpPr>
            <a:xfrm>
              <a:off x="425520" y="565200"/>
              <a:ext cx="711360" cy="474480"/>
              <a:chOff x="425520" y="565200"/>
              <a:chExt cx="711360" cy="474480"/>
            </a:xfrm>
          </p:grpSpPr>
          <p:sp>
            <p:nvSpPr>
              <p:cNvPr id="274" name=""/>
              <p:cNvSpPr/>
              <p:nvPr/>
            </p:nvSpPr>
            <p:spPr>
              <a:xfrm>
                <a:off x="425520" y="565200"/>
                <a:ext cx="437400" cy="47448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8560" y="56520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549360" y="987480"/>
              <a:ext cx="737640" cy="474480"/>
              <a:chOff x="549360" y="987480"/>
              <a:chExt cx="737640" cy="474480"/>
            </a:xfrm>
          </p:grpSpPr>
          <p:sp>
            <p:nvSpPr>
              <p:cNvPr id="277" name=""/>
              <p:cNvSpPr/>
              <p:nvPr/>
            </p:nvSpPr>
            <p:spPr>
              <a:xfrm>
                <a:off x="549360" y="987480"/>
                <a:ext cx="421560" cy="4744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18360" y="98748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135000" y="91440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0040" y="45720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1080" y="12783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457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42920" y="23493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我最不能忘记的是他的背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3213000"/>
            <a:ext cx="678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8720" y="3502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中一共写了父亲几次背影？请同学们找出句子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2:38:46Z</dcterms:created>
  <dc:creator>user</dc:creator>
  <dc:description/>
  <dc:language>en-US</dc:language>
  <cp:lastModifiedBy>User</cp:lastModifiedBy>
  <cp:lastPrinted>1900-01-04T05:08:28Z</cp:lastPrinted>
  <dcterms:modified xsi:type="dcterms:W3CDTF">2010-10-13T00:37:45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