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3.gif" ContentType="image/gif"/>
  <Override PartName="/ppt/media/chimes.wav" ContentType="audio/x-wav"/>
  <Override PartName="/ppt/media/image16.jpeg" ContentType="image/jpeg"/>
  <Override PartName="/ppt/media/image12.gif" ContentType="image/gif"/>
  <Override PartName="/ppt/media/image11.gif" ContentType="image/gif"/>
  <Override PartName="/ppt/media/image14.png" ContentType="image/png"/>
  <Override PartName="/ppt/media/image20.jpeg" ContentType="image/jpeg"/>
  <Override PartName="/ppt/media/image15.jpeg" ContentType="image/jpeg"/>
  <Override PartName="/ppt/media/image9.gif" ContentType="image/gif"/>
  <Override PartName="/ppt/media/image19.jpeg" ContentType="image/jpeg"/>
  <Override PartName="/ppt/media/image18.gif" ContentType="image/gif"/>
  <Override PartName="/ppt/media/image4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17.gif" ContentType="image/gif"/>
  <Override PartName="/ppt/media/image2.jpeg" ContentType="image/jpeg"/>
  <Override PartName="/ppt/media/image3.png" ContentType="image/png"/>
  <Override PartName="/ppt/media/image1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4CC6-5990-4BD6-8466-27F51DD02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F91C-D16E-425C-BFBC-D4D9C29F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57C2-E8E7-4C05-9268-9B96A28DA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3B58-9F19-4744-BEDE-0604B1B25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982BF-19F5-4637-A998-68B3EFB64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4D3E4-C381-48C2-BECD-772B82EA7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D9796-C561-4990-BF3F-5365365D3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01987-4E2E-4CDA-BEC6-D3580E8DE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D49B0-37F7-42BD-B4E3-2D8E75CF0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0F086-9CB9-4B11-B653-C4B649D94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42B46-59B1-4BA8-9E6C-2F6FB934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5883-8311-4036-81C5-863308238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E7150-FE91-4770-A03D-36DB52FC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6A3F2-7C67-4D8D-983B-C32EA5BE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64C6C-D61B-48CD-A939-1A9F0EDA6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11568-78F6-4170-9942-2D33A2D8E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84229-5BFA-4C16-BA59-BD419FFA0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AF74D-191D-4AFF-833D-C5F93D273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A9244-EEE4-450B-894E-22907B696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AC1DF-3CCF-4A3E-9F51-4A3322A1B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22195-D340-4030-828C-53BAE6E44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7FE74-104D-4E86-83A8-39EB11100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7298-4719-4C83-800D-E539C5555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118A2-BE56-4806-B463-BACB85CA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1FD92-B8DB-4016-BFE1-0BE1044D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ACBA2-6BDC-4406-88C1-10BB0B97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80325-2D40-4F10-BDEE-3D245F59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B3316-31B8-4804-A244-B3CABF775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ACDC7-2766-45A8-AAF4-46C119557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F2507-A994-4130-87EC-68AD14C76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2732-E531-4960-9C5B-7B5DD3D95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61F76-5B6B-45C5-8D32-3E00BD22D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5389-0CF4-4584-B034-36C0ABF63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3918B-3577-461B-B634-453F30038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60F1E-3529-4FCE-B72E-F94FB6CCB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70046-D245-451A-8EA9-D505C8D25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653E7-6F27-44A8-A4A1-F9C87FBE4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DBBCB-BBA9-44CD-885A-E669DA30E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9C262-1002-41B5-8D7B-E9E9B1A8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42D20-3ED1-4379-8B0C-E50DD282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5B567-7728-4924-9A07-0FF4E646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315E2-1AF6-42F0-BA7F-7B1E114C5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F1D67-9CF5-4E11-A5FE-BDB1BFBBC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912F-1B57-4321-A686-42DF33D8E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F570D-869A-4542-AE7F-055A6446F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A900-29EA-4CB5-AC1C-74768958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2B2C-AF1F-4F12-953B-694B2FAE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A70F-F449-448B-AC6C-7E958F61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33CE1-F4E8-4E7E-A31B-DF1EBB74E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38088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82600" y="19051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-1472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19320" indent="-1227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491400" indent="-982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687960" indent="-982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884520" indent="-982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884520" indent="-982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884520" indent="-982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4CB04-E569-418D-997B-EFF6EBA08F5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83" name=""/>
            <p:cNvGrpSpPr/>
            <p:nvPr/>
          </p:nvGrpSpPr>
          <p:grpSpPr>
            <a:xfrm>
              <a:off x="290520" y="2546280"/>
              <a:ext cx="711360" cy="474480"/>
              <a:chOff x="290520" y="2546280"/>
              <a:chExt cx="711360" cy="474480"/>
            </a:xfrm>
          </p:grpSpPr>
          <p:sp>
            <p:nvSpPr>
              <p:cNvPr id="84" name=""/>
              <p:cNvSpPr/>
              <p:nvPr/>
            </p:nvSpPr>
            <p:spPr>
              <a:xfrm>
                <a:off x="290520" y="254628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73560" y="254628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414360" y="2968560"/>
              <a:ext cx="737640" cy="474480"/>
              <a:chOff x="414360" y="2968560"/>
              <a:chExt cx="737640" cy="474480"/>
            </a:xfrm>
          </p:grpSpPr>
          <p:sp>
            <p:nvSpPr>
              <p:cNvPr id="87" name=""/>
              <p:cNvSpPr/>
              <p:nvPr/>
            </p:nvSpPr>
            <p:spPr>
              <a:xfrm>
                <a:off x="414360" y="296856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83360" y="296856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316080" y="325944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F2CB5-88A6-425F-9B2A-4BF5D59519F3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dt" idx="10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ftr" idx="1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1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F91BE-2BB8-4EB0-9B0F-90B649DE89C6}" type="slidenum">
              <a:rPr b="0" lang="en-US" sz="1400" spc="-1" strike="noStrike">
                <a:solidFill>
                  <a:srgbClr val="2a3d7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jpeg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2.gif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50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jpe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843280" y="587700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xz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8244000" y="6308640"/>
            <a:ext cx="900000" cy="549360"/>
          </a:xfrm>
          <a:prstGeom prst="rightArrow">
            <a:avLst>
              <a:gd name="adj1" fmla="val 50000"/>
              <a:gd name="adj2" fmla="val 409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图片1nm" descr=""/>
          <p:cNvPicPr/>
          <p:nvPr/>
        </p:nvPicPr>
        <p:blipFill>
          <a:blip r:embed="rId1"/>
          <a:stretch/>
        </p:blipFill>
        <p:spPr>
          <a:xfrm>
            <a:off x="0" y="1440"/>
            <a:ext cx="9036000" cy="681372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1403280" y="40464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我与父亲不相见已二年余了，我最不能忘记的是他的背景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476360" y="148428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他用两手攀着上面，两脚再向上缩；他肥胖的身子向左微倾，显出努力的样子，这时我看见他的背影，我的泪很快地流下来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116000" y="3500280"/>
            <a:ext cx="8028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等他的背影混入来来往往的人里，再找不着了，我便进来坐下，我的眼泪又来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332000" y="4869000"/>
            <a:ext cx="78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我读到此处，在晶莹的泪光中，又看见那肥胖的、青布棉袍黑布马褂的背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609480" y="0"/>
            <a:ext cx="4038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思考讨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 flipH="1" rot="10800000">
            <a:off x="324000" y="835920"/>
            <a:ext cx="8076960" cy="2286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380880" y="1523880"/>
            <a:ext cx="8458200" cy="76212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316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文中一共写了父亲四次背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96720" y="2349360"/>
            <a:ext cx="1067040" cy="28958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99cc00"/>
              </a:gs>
              <a:gs pos="50000">
                <a:srgbClr val="ffccff"/>
              </a:gs>
              <a:gs pos="100000">
                <a:srgbClr val="99cc00"/>
              </a:gs>
            </a:gsLst>
            <a:lin ang="5400000"/>
          </a:gradFill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597800" y="2276640"/>
            <a:ext cx="1066680" cy="28954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99cc00"/>
              </a:gs>
              <a:gs pos="50000">
                <a:srgbClr val="ffccff"/>
              </a:gs>
              <a:gs pos="100000">
                <a:srgbClr val="99cc00"/>
              </a:gs>
            </a:gsLst>
            <a:lin ang="5400000"/>
          </a:gradFill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060720" y="2276640"/>
            <a:ext cx="1066680" cy="28954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99cc00"/>
              </a:gs>
              <a:gs pos="50000">
                <a:srgbClr val="ffccff"/>
              </a:gs>
              <a:gs pos="100000">
                <a:srgbClr val="99cc00"/>
              </a:gs>
            </a:gsLst>
            <a:lin ang="5400000"/>
          </a:gradFill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364000" y="2349360"/>
            <a:ext cx="1067040" cy="28958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99cc00"/>
              </a:gs>
              <a:gs pos="50000">
                <a:srgbClr val="ffccff"/>
              </a:gs>
              <a:gs pos="100000">
                <a:srgbClr val="99cc00"/>
              </a:gs>
            </a:gsLst>
            <a:lin ang="5400000"/>
          </a:gradFill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" y="56386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思念父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666880" y="5653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望父买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257800" y="56386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父子分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467480" y="5653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别后怀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1905120" y="5791320"/>
            <a:ext cx="1295280" cy="26352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4267080" y="5791320"/>
            <a:ext cx="1295640" cy="2635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5"/>
          <a:stretch/>
        </p:blipFill>
        <p:spPr>
          <a:xfrm>
            <a:off x="6781680" y="5791320"/>
            <a:ext cx="1295640" cy="263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0" y="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396720" y="4941720"/>
            <a:ext cx="8458200" cy="7621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stretch/>
          </a:blipFill>
          <a:ln w="316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别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1219320" y="685800"/>
            <a:ext cx="51530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合作探究   交流讨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0" y="762120"/>
            <a:ext cx="9009000" cy="1052280"/>
            <a:chOff x="0" y="762120"/>
            <a:chExt cx="9009000" cy="1052280"/>
          </a:xfrm>
        </p:grpSpPr>
        <p:grpSp>
          <p:nvGrpSpPr>
            <p:cNvPr id="309" name=""/>
            <p:cNvGrpSpPr/>
            <p:nvPr/>
          </p:nvGrpSpPr>
          <p:grpSpPr>
            <a:xfrm>
              <a:off x="290520" y="869760"/>
              <a:ext cx="711360" cy="474120"/>
              <a:chOff x="290520" y="869760"/>
              <a:chExt cx="711360" cy="474120"/>
            </a:xfrm>
          </p:grpSpPr>
          <p:sp>
            <p:nvSpPr>
              <p:cNvPr id="310" name=""/>
              <p:cNvSpPr/>
              <p:nvPr/>
            </p:nvSpPr>
            <p:spPr>
              <a:xfrm>
                <a:off x="290520" y="869760"/>
                <a:ext cx="437400" cy="4741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73560" y="869760"/>
                <a:ext cx="328320" cy="47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414360" y="1292040"/>
              <a:ext cx="737640" cy="474120"/>
              <a:chOff x="414360" y="1292040"/>
              <a:chExt cx="737640" cy="474120"/>
            </a:xfrm>
          </p:grpSpPr>
          <p:sp>
            <p:nvSpPr>
              <p:cNvPr id="313" name=""/>
              <p:cNvSpPr/>
              <p:nvPr/>
            </p:nvSpPr>
            <p:spPr>
              <a:xfrm>
                <a:off x="414360" y="1292040"/>
                <a:ext cx="421560" cy="47412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83360" y="1292040"/>
                <a:ext cx="368640" cy="47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0" y="12189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35040" y="762120"/>
              <a:ext cx="31680" cy="1052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16080" y="15836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755640" y="2133720"/>
            <a:ext cx="7920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再读课文 找出课文中着重描写了哪一次背影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7391520" y="5334120"/>
            <a:ext cx="1120680" cy="94932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324000" y="148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547640" y="1700280"/>
            <a:ext cx="69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文章着重描写了父亲买橘子爬月台的时候的背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772640" y="44604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5249"/>
                </a:solidFill>
                <a:latin typeface="Arial"/>
                <a:ea typeface="隶书"/>
              </a:rPr>
              <a:t>朗读与欣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35000" y="457200"/>
            <a:ext cx="9009000" cy="1052640"/>
            <a:chOff x="135000" y="457200"/>
            <a:chExt cx="9009000" cy="1052640"/>
          </a:xfrm>
        </p:grpSpPr>
        <p:grpSp>
          <p:nvGrpSpPr>
            <p:cNvPr id="324" name=""/>
            <p:cNvGrpSpPr/>
            <p:nvPr/>
          </p:nvGrpSpPr>
          <p:grpSpPr>
            <a:xfrm>
              <a:off x="425520" y="565200"/>
              <a:ext cx="711360" cy="474480"/>
              <a:chOff x="425520" y="565200"/>
              <a:chExt cx="711360" cy="474480"/>
            </a:xfrm>
          </p:grpSpPr>
          <p:sp>
            <p:nvSpPr>
              <p:cNvPr id="325" name=""/>
              <p:cNvSpPr/>
              <p:nvPr/>
            </p:nvSpPr>
            <p:spPr>
              <a:xfrm>
                <a:off x="425520" y="565200"/>
                <a:ext cx="437400" cy="474480"/>
              </a:xfrm>
              <a:prstGeom prst="rect">
                <a:avLst/>
              </a:prstGeom>
              <a:solidFill>
                <a:srgbClr val="c3e6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808560" y="56520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c3e68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549360" y="987480"/>
              <a:ext cx="737640" cy="474480"/>
              <a:chOff x="549360" y="987480"/>
              <a:chExt cx="737640" cy="474480"/>
            </a:xfrm>
          </p:grpSpPr>
          <p:sp>
            <p:nvSpPr>
              <p:cNvPr id="328" name=""/>
              <p:cNvSpPr/>
              <p:nvPr/>
            </p:nvSpPr>
            <p:spPr>
              <a:xfrm>
                <a:off x="549360" y="987480"/>
                <a:ext cx="421560" cy="474480"/>
              </a:xfrm>
              <a:prstGeom prst="rect">
                <a:avLst/>
              </a:prstGeom>
              <a:solidFill>
                <a:srgbClr val="fac1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918360" y="98748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ac16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>
              <a:off x="135000" y="9144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b0ae6a"/>
                </a:gs>
                <a:gs pos="100000">
                  <a:srgbClr val="99ff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70040" y="457200"/>
              <a:ext cx="31680" cy="1052640"/>
            </a:xfrm>
            <a:prstGeom prst="rect">
              <a:avLst/>
            </a:prstGeom>
            <a:solidFill>
              <a:srgbClr val="cec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451080" y="127836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cec8b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2843280" y="1773360"/>
            <a:ext cx="5905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我看见他戴着</a:t>
            </a:r>
            <a:r>
              <a:rPr b="1" lang="en-US" sz="2800" spc="-1" strike="noStrike" u="sng">
                <a:solidFill>
                  <a:srgbClr val="5b5249"/>
                </a:solidFill>
                <a:uFillTx/>
                <a:latin typeface="宋体"/>
              </a:rPr>
              <a:t>         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，穿着黑</a:t>
            </a:r>
            <a:r>
              <a:rPr b="1" lang="en-US" sz="2800" spc="-1" strike="noStrike" u="sng">
                <a:solidFill>
                  <a:srgbClr val="5b5249"/>
                </a:solidFill>
                <a:uFillTx/>
                <a:latin typeface="宋体"/>
              </a:rPr>
              <a:t>   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布</a:t>
            </a:r>
            <a:r>
              <a:rPr b="1" lang="en-US" sz="2800" spc="-1" strike="noStrike" u="sng">
                <a:solidFill>
                  <a:srgbClr val="5b5249"/>
                </a:solidFill>
                <a:uFillTx/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，深青布</a:t>
            </a:r>
            <a:r>
              <a:rPr b="1" lang="en-US" sz="2800" spc="-1" strike="noStrike" u="sng">
                <a:solidFill>
                  <a:srgbClr val="5b5249"/>
                </a:solidFill>
                <a:uFillTx/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，</a:t>
            </a:r>
            <a:r>
              <a:rPr b="1" lang="en-US" sz="2800" spc="-1" strike="noStrike" u="sng">
                <a:solidFill>
                  <a:srgbClr val="5b5249"/>
                </a:solidFill>
                <a:uFillTx/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地走到铁道边</a:t>
            </a:r>
            <a:r>
              <a:rPr b="1" lang="en-US" sz="2800" spc="-1" strike="noStrike">
                <a:solidFill>
                  <a:srgbClr val="5b5249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慢慢</a:t>
            </a:r>
            <a:r>
              <a:rPr b="1" lang="en-US" sz="2800" spc="-1" strike="noStrike" u="sng">
                <a:solidFill>
                  <a:srgbClr val="5b5249"/>
                </a:solidFill>
                <a:uFillTx/>
                <a:latin typeface="宋体"/>
              </a:rPr>
              <a:t>   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身下去，尚不大难。可是他穿过铁道 ，要爬上那边月台 ，就不容易了 。他用两手      </a:t>
            </a:r>
            <a:r>
              <a:rPr b="1" lang="en-US" sz="2800" spc="-1" strike="noStrike" u="sng">
                <a:solidFill>
                  <a:srgbClr val="5b5249"/>
                </a:solidFill>
                <a:uFillTx/>
                <a:latin typeface="宋体"/>
              </a:rPr>
              <a:t>         </a:t>
            </a:r>
            <a:r>
              <a:rPr b="1" lang="en-US" sz="2800" spc="-1" strike="noStrike">
                <a:solidFill>
                  <a:srgbClr val="5b5249"/>
                </a:solidFill>
                <a:latin typeface="宋体"/>
              </a:rPr>
              <a:t>   </a:t>
            </a:r>
            <a:r>
              <a:rPr b="1" lang="en-US" sz="2800" spc="-1" strike="noStrike" u="sng">
                <a:solidFill>
                  <a:srgbClr val="5b5249"/>
                </a:solidFill>
                <a:uFillTx/>
                <a:latin typeface="宋体"/>
              </a:rPr>
              <a:t>     </a:t>
            </a:r>
            <a:r>
              <a:rPr b="1" lang="en-US" sz="2800" spc="-1" strike="noStrike">
                <a:solidFill>
                  <a:srgbClr val="5b5249"/>
                </a:solidFill>
                <a:latin typeface="宋体"/>
              </a:rPr>
              <a:t>    </a:t>
            </a:r>
            <a:r>
              <a:rPr b="1" lang="en-US" sz="2800" spc="-1" strike="noStrike" u="sng">
                <a:solidFill>
                  <a:srgbClr val="5b5249"/>
                </a:solidFill>
                <a:uFillTx/>
                <a:latin typeface="宋体"/>
              </a:rPr>
              <a:t>                 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着上面 ，两脚再向上</a:t>
            </a:r>
            <a:r>
              <a:rPr b="1" lang="en-US" sz="2800" spc="-1" strike="noStrike" u="sng">
                <a:solidFill>
                  <a:srgbClr val="5b5249"/>
                </a:solidFill>
                <a:uFillTx/>
                <a:latin typeface="宋体"/>
              </a:rPr>
              <a:t>  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；他肥胖的身子向左微</a:t>
            </a:r>
            <a:r>
              <a:rPr b="1" lang="en-US" sz="2800" spc="-1" strike="noStrike" u="sng">
                <a:solidFill>
                  <a:srgbClr val="5b5249"/>
                </a:solidFill>
                <a:uFillTx/>
                <a:latin typeface="宋体"/>
              </a:rPr>
              <a:t>   </a:t>
            </a:r>
            <a:r>
              <a:rPr b="1" lang="en-US" sz="2800" spc="-1" strike="noStrike">
                <a:solidFill>
                  <a:srgbClr val="5b5249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显出努力的样子，这时我看见他的背影 ，我的泪很快地流下来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2054160" cy="475308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6443640" y="2193840"/>
            <a:ext cx="86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76720" y="170028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黑布小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276720" y="213372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大马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940360" y="220500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棉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164360" y="22050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蹒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580000" y="2637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244000" y="350532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227640" y="3860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716360" y="4292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740720" y="6400800"/>
            <a:ext cx="457200" cy="457200"/>
          </a:xfrm>
          <a:custGeom>
            <a:avLst/>
            <a:gdLst>
              <a:gd name="textAreaLeft" fmla="*/ 28440 w 457200"/>
              <a:gd name="textAreaRight" fmla="*/ 428760 w 45720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10800" y="3756"/>
                </a:moveTo>
                <a:arcTo wR="7044" hR="7044" stAng="16200000" swAng="-5400000"/>
                <a:arcTo wR="7044" hR="7044" stAng="10800000" swAng="-5400000"/>
                <a:arcTo wR="7044" hR="7044" stAng="5400000" swAng="-5400000"/>
                <a:arcTo wR="7044" hR="7044" stAng="0" swAng="-5400000"/>
                <a:close/>
              </a:path>
              <a:path fill="lighten" w="21600" h="21600">
                <a:moveTo>
                  <a:pt x="10800" y="4133"/>
                </a:moveTo>
                <a:arcTo wR="1803" hR="1803" stAng="16200000" swAng="-5400000"/>
                <a:arcTo wR="1803" hR="1803" stAng="10800000" swAng="-5400000"/>
                <a:arcTo wR="1803" hR="1803" stAng="5400000" swAng="-5400000"/>
                <a:arcTo wR="1803" hR="1803" stAng="0" swAng="-5400000"/>
                <a:close/>
              </a:path>
              <a:path fill="lighten" w="21600" h="21600">
                <a:moveTo>
                  <a:pt x="8210" y="8210"/>
                </a:moveTo>
                <a:lnTo>
                  <a:pt x="12095" y="8210"/>
                </a:lnTo>
                <a:lnTo>
                  <a:pt x="12095" y="15245"/>
                </a:lnTo>
                <a:lnTo>
                  <a:pt x="13390" y="15245"/>
                </a:lnTo>
                <a:lnTo>
                  <a:pt x="13390" y="16173"/>
                </a:lnTo>
                <a:lnTo>
                  <a:pt x="8210" y="16173"/>
                </a:lnTo>
                <a:lnTo>
                  <a:pt x="8210" y="15245"/>
                </a:lnTo>
                <a:lnTo>
                  <a:pt x="9505" y="15245"/>
                </a:lnTo>
                <a:lnTo>
                  <a:pt x="9505" y="9120"/>
                </a:lnTo>
                <a:lnTo>
                  <a:pt x="8210" y="9120"/>
                </a:lnTo>
                <a:close/>
              </a:path>
            </a:pathLst>
          </a:custGeom>
          <a:solidFill>
            <a:srgbClr val="fac164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>
            <a:hlinkClick r:id="" action="ppaction://hlinkshowjump?jump=previousslide"/>
          </p:cNvPr>
          <p:cNvSpPr/>
          <p:nvPr/>
        </p:nvSpPr>
        <p:spPr>
          <a:xfrm>
            <a:off x="8172360" y="6400800"/>
            <a:ext cx="457200" cy="457200"/>
          </a:xfrm>
          <a:custGeom>
            <a:avLst/>
            <a:gdLst>
              <a:gd name="textAreaLeft" fmla="*/ 28440 w 457200"/>
              <a:gd name="textAreaRight" fmla="*/ 428760 w 45720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10800"/>
                </a:moveTo>
                <a:lnTo>
                  <a:pt x="17844" y="3756"/>
                </a:lnTo>
                <a:lnTo>
                  <a:pt x="17844" y="17844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>
            <a:hlinkClick r:id="" action="ppaction://hlinkshowjump?jump=next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8440 w 533520"/>
              <a:gd name="textAreaRight" fmla="*/ 505080 w 53352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53" y="1350"/>
                </a:lnTo>
                <a:lnTo>
                  <a:pt x="1350" y="135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53" y="20250"/>
                </a:lnTo>
                <a:lnTo>
                  <a:pt x="23853" y="135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3853" y="2025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5203" h="21600">
                <a:moveTo>
                  <a:pt x="5558" y="3756"/>
                </a:moveTo>
                <a:lnTo>
                  <a:pt x="19645" y="10800"/>
                </a:lnTo>
                <a:lnTo>
                  <a:pt x="5558" y="17844"/>
                </a:lnTo>
                <a:close/>
              </a:path>
            </a:pathLst>
          </a:custGeom>
          <a:solidFill>
            <a:srgbClr val="fac16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  <p:sndAc>
      <p:stSnd>
        <p:snd r:embed="rId2" name="chimes.wav"/>
      </p:stSnd>
    </p:sndAc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"/>
          <p:cNvGrpSpPr/>
          <p:nvPr/>
        </p:nvGrpSpPr>
        <p:grpSpPr>
          <a:xfrm>
            <a:off x="0" y="765000"/>
            <a:ext cx="9009000" cy="1052640"/>
            <a:chOff x="0" y="765000"/>
            <a:chExt cx="9009000" cy="1052640"/>
          </a:xfrm>
        </p:grpSpPr>
        <p:grpSp>
          <p:nvGrpSpPr>
            <p:cNvPr id="348" name=""/>
            <p:cNvGrpSpPr/>
            <p:nvPr/>
          </p:nvGrpSpPr>
          <p:grpSpPr>
            <a:xfrm>
              <a:off x="290520" y="873000"/>
              <a:ext cx="711360" cy="474480"/>
              <a:chOff x="290520" y="873000"/>
              <a:chExt cx="711360" cy="474480"/>
            </a:xfrm>
          </p:grpSpPr>
          <p:sp>
            <p:nvSpPr>
              <p:cNvPr id="349" name=""/>
              <p:cNvSpPr/>
              <p:nvPr/>
            </p:nvSpPr>
            <p:spPr>
              <a:xfrm>
                <a:off x="290520" y="873000"/>
                <a:ext cx="437400" cy="474480"/>
              </a:xfrm>
              <a:prstGeom prst="rect">
                <a:avLst/>
              </a:prstGeom>
              <a:solidFill>
                <a:srgbClr val="c3e6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73560" y="87300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c3e68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414360" y="1295280"/>
              <a:ext cx="737640" cy="474480"/>
              <a:chOff x="414360" y="1295280"/>
              <a:chExt cx="737640" cy="474480"/>
            </a:xfrm>
          </p:grpSpPr>
          <p:sp>
            <p:nvSpPr>
              <p:cNvPr id="352" name=""/>
              <p:cNvSpPr/>
              <p:nvPr/>
            </p:nvSpPr>
            <p:spPr>
              <a:xfrm>
                <a:off x="414360" y="1295280"/>
                <a:ext cx="421560" cy="474480"/>
              </a:xfrm>
              <a:prstGeom prst="rect">
                <a:avLst/>
              </a:prstGeom>
              <a:solidFill>
                <a:srgbClr val="fac1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83360" y="129528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ac16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>
              <a:off x="0" y="12222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b0ae6a"/>
                </a:gs>
                <a:gs pos="100000">
                  <a:srgbClr val="99ff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35040" y="765000"/>
              <a:ext cx="31680" cy="1052640"/>
            </a:xfrm>
            <a:prstGeom prst="rect">
              <a:avLst/>
            </a:prstGeom>
            <a:solidFill>
              <a:srgbClr val="cec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316080" y="158616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cec8b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1703160" y="71424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a3d7a"/>
                </a:solidFill>
                <a:latin typeface="Arial"/>
                <a:ea typeface="隶书"/>
              </a:rPr>
              <a:t>思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735280" y="2059560"/>
            <a:ext cx="487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Arial"/>
              </a:rPr>
              <a:t>读父亲过铁道的部分，哪些地方令你感动？</a:t>
            </a:r>
            <a:r>
              <a:rPr b="1" lang="en-US" sz="1800" spc="-1" strike="noStrike">
                <a:solidFill>
                  <a:srgbClr val="5b524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042920" y="2851560"/>
            <a:ext cx="3960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宋体"/>
              </a:rPr>
              <a:t>ａ、父亲的穿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宋体"/>
              </a:rPr>
              <a:t>ｂ、走路的姿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宋体"/>
              </a:rPr>
              <a:t>ｃ、爬月台时的动作</a:t>
            </a:r>
            <a:r>
              <a:rPr b="1" lang="en-US" sz="3200" spc="-1" strike="noStrike">
                <a:solidFill>
                  <a:srgbClr val="5b5249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003640" y="2924280"/>
            <a:ext cx="43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宋体"/>
              </a:rPr>
              <a:t>黑、深青</a:t>
            </a:r>
            <a:r>
              <a:rPr b="0" lang="en-US" sz="3200" spc="-1" strike="noStrike">
                <a:solidFill>
                  <a:srgbClr val="5b5249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171760" y="3859920"/>
            <a:ext cx="7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蹒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150960" y="4796640"/>
            <a:ext cx="79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探、攀、缩、倾</a:t>
            </a:r>
            <a:r>
              <a:rPr b="1" lang="en-US" sz="1800" spc="-1" strike="noStrike">
                <a:solidFill>
                  <a:srgbClr val="5b524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>
            <a:hlinkClick r:id="" action="ppaction://hlinkshowjump?jump=previousslide"/>
          </p:cNvPr>
          <p:cNvSpPr/>
          <p:nvPr/>
        </p:nvSpPr>
        <p:spPr>
          <a:xfrm>
            <a:off x="8172360" y="6400800"/>
            <a:ext cx="457200" cy="457200"/>
          </a:xfrm>
          <a:custGeom>
            <a:avLst/>
            <a:gdLst>
              <a:gd name="textAreaLeft" fmla="*/ 28440 w 457200"/>
              <a:gd name="textAreaRight" fmla="*/ 428760 w 45720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10800"/>
                </a:moveTo>
                <a:lnTo>
                  <a:pt x="17844" y="3756"/>
                </a:lnTo>
                <a:lnTo>
                  <a:pt x="17844" y="17844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>
            <a:hlinkClick r:id="" action="ppaction://hlinkshowjump?jump=next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8440 w 533520"/>
              <a:gd name="textAreaRight" fmla="*/ 505080 w 53352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53" y="1350"/>
                </a:lnTo>
                <a:lnTo>
                  <a:pt x="1350" y="135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53" y="20250"/>
                </a:lnTo>
                <a:lnTo>
                  <a:pt x="23853" y="135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3853" y="2025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5203" h="21600">
                <a:moveTo>
                  <a:pt x="5558" y="3756"/>
                </a:moveTo>
                <a:lnTo>
                  <a:pt x="19645" y="10800"/>
                </a:lnTo>
                <a:lnTo>
                  <a:pt x="5558" y="17844"/>
                </a:lnTo>
                <a:close/>
              </a:path>
            </a:pathLst>
          </a:custGeom>
          <a:solidFill>
            <a:srgbClr val="fac16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34320" y="2666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家境不好，心情忧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172200" y="38862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年龄大，腿脚不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257800" y="58672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行动不便，艰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  <p:sndAc>
      <p:stSnd>
        <p:snd r:embed="rId2" name="chimes.wav"/>
      </p:stSnd>
    </p:sndAc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457200" y="1066680"/>
            <a:ext cx="886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  ◆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这一自然段写父亲主要通过（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肖像 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    ）描写和（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动作  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 ）描写来写父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2514600"/>
            <a:ext cx="1130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◆“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于是扑扑身上的泥土，心里很轻松似的”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父亲为什么会给儿子这样的感觉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503000" y="4191120"/>
            <a:ext cx="517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隶书"/>
                <a:ea typeface="隶书"/>
              </a:rPr>
              <a:t>   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父亲尽到了自己的责任，所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心里很轻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190600" y="6037200"/>
            <a:ext cx="382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语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"/>
          <p:cNvGrpSpPr/>
          <p:nvPr/>
        </p:nvGrpSpPr>
        <p:grpSpPr>
          <a:xfrm>
            <a:off x="0" y="762120"/>
            <a:ext cx="9009000" cy="1052280"/>
            <a:chOff x="0" y="762120"/>
            <a:chExt cx="9009000" cy="1052280"/>
          </a:xfrm>
        </p:grpSpPr>
        <p:grpSp>
          <p:nvGrpSpPr>
            <p:cNvPr id="373" name=""/>
            <p:cNvGrpSpPr/>
            <p:nvPr/>
          </p:nvGrpSpPr>
          <p:grpSpPr>
            <a:xfrm>
              <a:off x="290520" y="869760"/>
              <a:ext cx="711360" cy="474120"/>
              <a:chOff x="290520" y="869760"/>
              <a:chExt cx="711360" cy="474120"/>
            </a:xfrm>
          </p:grpSpPr>
          <p:sp>
            <p:nvSpPr>
              <p:cNvPr id="374" name=""/>
              <p:cNvSpPr/>
              <p:nvPr/>
            </p:nvSpPr>
            <p:spPr>
              <a:xfrm>
                <a:off x="290520" y="869760"/>
                <a:ext cx="437400" cy="4741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73560" y="869760"/>
                <a:ext cx="328320" cy="47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414360" y="1292040"/>
              <a:ext cx="737640" cy="474120"/>
              <a:chOff x="414360" y="1292040"/>
              <a:chExt cx="737640" cy="474120"/>
            </a:xfrm>
          </p:grpSpPr>
          <p:sp>
            <p:nvSpPr>
              <p:cNvPr id="377" name=""/>
              <p:cNvSpPr/>
              <p:nvPr/>
            </p:nvSpPr>
            <p:spPr>
              <a:xfrm>
                <a:off x="414360" y="1292040"/>
                <a:ext cx="421560" cy="47412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83360" y="1292040"/>
                <a:ext cx="368640" cy="47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0" y="12189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5040" y="762120"/>
              <a:ext cx="31680" cy="1052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316080" y="15836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304920" y="1628640"/>
            <a:ext cx="8458200" cy="1152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316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父亲送儿子上车的过程说的四句话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7696080" y="5867280"/>
            <a:ext cx="1143000" cy="68580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1066680" y="3141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要紧，他们去不好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066680" y="407664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买几个橘子去，你就在此地，不要走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971640" y="522936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走了，到那边来信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066680" y="580536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进去吧，里边没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539640" y="3309840"/>
            <a:ext cx="625680" cy="33516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4"/>
          <a:stretch/>
        </p:blipFill>
        <p:spPr>
          <a:xfrm>
            <a:off x="533520" y="4221000"/>
            <a:ext cx="625320" cy="33516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5"/>
          <a:stretch/>
        </p:blipFill>
        <p:spPr>
          <a:xfrm>
            <a:off x="468360" y="5302080"/>
            <a:ext cx="625320" cy="33372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6"/>
          <a:stretch/>
        </p:blipFill>
        <p:spPr>
          <a:xfrm>
            <a:off x="533520" y="5950080"/>
            <a:ext cx="625320" cy="33480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7236000" y="2276640"/>
            <a:ext cx="1218960" cy="1447560"/>
          </a:xfrm>
          <a:custGeom>
            <a:avLst/>
            <a:gdLst>
              <a:gd name="textAreaLeft" fmla="*/ 0 w 1218960"/>
              <a:gd name="textAreaRight" fmla="*/ 1219320 w 121896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8683" y="209"/>
                </a:moveTo>
                <a:arcTo wR="-10800" hR="-10800" stAng="-6078223" swAng="-11585606"/>
                <a:lnTo>
                  <a:pt x="6339" y="964"/>
                </a:lnTo>
                <a:arcTo wR="10800" hR="10800" stAng="-6863828" swAng="11585606"/>
                <a:lnTo>
                  <a:pt x="13446" y="24038"/>
                </a:lnTo>
                <a:lnTo>
                  <a:pt x="10269" y="21920"/>
                </a:lnTo>
                <a:lnTo>
                  <a:pt x="12388" y="18743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971640" y="2602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请从文中找出，并体会其中的情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2195640" y="1484280"/>
            <a:ext cx="3744720" cy="110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隶书"/>
              </a:rPr>
              <a:t>怜爱儿子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95" name=""/>
          <p:cNvSpPr/>
          <p:nvPr/>
        </p:nvSpPr>
        <p:spPr>
          <a:xfrm>
            <a:off x="1116000" y="91908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99"/>
                </a:solidFill>
                <a:latin typeface="Arial"/>
              </a:rPr>
              <a:t>事已如此</a:t>
            </a:r>
            <a:r>
              <a:rPr b="0" lang="zh-CN" sz="3600" spc="-1" strike="noStrike">
                <a:solidFill>
                  <a:srgbClr val="990099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990099"/>
                </a:solidFill>
                <a:latin typeface="Arial"/>
              </a:rPr>
              <a:t>不必难过</a:t>
            </a:r>
            <a:r>
              <a:rPr b="0" lang="zh-CN" sz="3600" spc="-1" strike="noStrike">
                <a:solidFill>
                  <a:srgbClr val="990099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990099"/>
                </a:solidFill>
                <a:latin typeface="Arial"/>
              </a:rPr>
              <a:t>好在天无绝人之路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7"/>
          <a:stretch/>
        </p:blipFill>
        <p:spPr>
          <a:xfrm>
            <a:off x="612720" y="981000"/>
            <a:ext cx="625680" cy="33516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5797440" y="155736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父亲的安慰体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076720" y="3213000"/>
            <a:ext cx="354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放心不下的心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292720" y="4581360"/>
            <a:ext cx="42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想得十分周到，怕他旅程辛苦，口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141800" y="566100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临别时的谆谆嘱咐，惦念儿子旅途的平安之心跃然纸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4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4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9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找到父亲为儿子做的几件事。</a:t>
            </a:r>
            <a:endParaRPr b="1" lang="en-US" sz="6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971640" y="2781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、安慰儿子；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、送儿子上火车；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、看行李；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、过铁道买橘子；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、写信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633720" y="1676520"/>
            <a:ext cx="1643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Arial"/>
                <a:ea typeface="隶书"/>
              </a:rPr>
              <a:t>慈父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187280" y="6237360"/>
            <a:ext cx="635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为此我受到了很大的感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  <p:sndAc>
      <p:stSnd>
        <p:snd r:embed="rId2" name="chimes.wav"/>
      </p:stSnd>
    </p:sndAc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1676520" y="175248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09480" y="0"/>
            <a:ext cx="4038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思考讨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 flipH="1" rot="10800000">
            <a:off x="304920" y="1142280"/>
            <a:ext cx="8076960" cy="22860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0" y="1341360"/>
            <a:ext cx="8458200" cy="129564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316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课文写了“我”几次流泪？我流泪的原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09480" y="297180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ff"/>
                </a:solidFill>
                <a:latin typeface="Times New Roman"/>
                <a:ea typeface="华文行楷"/>
              </a:rPr>
              <a:t>悲哀之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09480" y="403848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ff"/>
                </a:solidFill>
                <a:latin typeface="Times New Roman"/>
                <a:ea typeface="华文行楷"/>
              </a:rPr>
              <a:t>感动之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39640" y="580536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ff"/>
                </a:solidFill>
                <a:latin typeface="Times New Roman"/>
                <a:ea typeface="华文行楷"/>
              </a:rPr>
              <a:t>伤心之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352680" y="304812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见父亲，睹家境，想祖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352680" y="406872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望父买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348000" y="595008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再现背影，泪光莹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539640" y="486900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ff"/>
                </a:solidFill>
                <a:latin typeface="Times New Roman"/>
                <a:ea typeface="华文行楷"/>
              </a:rPr>
              <a:t>依恋之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492360" y="4941720"/>
            <a:ext cx="23036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父子离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24000" y="404640"/>
            <a:ext cx="36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3724200" cy="48862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3924360" y="185760"/>
            <a:ext cx="4895640" cy="38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朱自清（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898—1948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字佩弦，现代著名诗人，散文家，学者，  民主战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他一生勤奋，共有诗歌、散文、评论、学术研究等著作，约二百多万字。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有诗文集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踪迹》、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欧旅杂记》。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散文代表作有《春》、《荷塘月色》、《背影》、《绿》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1219320" y="685800"/>
            <a:ext cx="2743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导学达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0" y="762120"/>
            <a:ext cx="9009000" cy="1052280"/>
            <a:chOff x="0" y="762120"/>
            <a:chExt cx="9009000" cy="1052280"/>
          </a:xfrm>
        </p:grpSpPr>
        <p:grpSp>
          <p:nvGrpSpPr>
            <p:cNvPr id="420" name=""/>
            <p:cNvGrpSpPr/>
            <p:nvPr/>
          </p:nvGrpSpPr>
          <p:grpSpPr>
            <a:xfrm>
              <a:off x="290520" y="869760"/>
              <a:ext cx="711360" cy="474120"/>
              <a:chOff x="290520" y="869760"/>
              <a:chExt cx="711360" cy="474120"/>
            </a:xfrm>
          </p:grpSpPr>
          <p:sp>
            <p:nvSpPr>
              <p:cNvPr id="421" name=""/>
              <p:cNvSpPr/>
              <p:nvPr/>
            </p:nvSpPr>
            <p:spPr>
              <a:xfrm>
                <a:off x="290520" y="869760"/>
                <a:ext cx="437400" cy="4741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73560" y="869760"/>
                <a:ext cx="328320" cy="47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414360" y="1292040"/>
              <a:ext cx="737640" cy="474120"/>
              <a:chOff x="414360" y="1292040"/>
              <a:chExt cx="737640" cy="474120"/>
            </a:xfrm>
          </p:grpSpPr>
          <p:sp>
            <p:nvSpPr>
              <p:cNvPr id="424" name=""/>
              <p:cNvSpPr/>
              <p:nvPr/>
            </p:nvSpPr>
            <p:spPr>
              <a:xfrm>
                <a:off x="414360" y="1292040"/>
                <a:ext cx="421560" cy="47412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83360" y="1292040"/>
                <a:ext cx="368640" cy="47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0" y="12189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35040" y="762120"/>
              <a:ext cx="31680" cy="1052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316080" y="15836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457200" y="2133720"/>
            <a:ext cx="8001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请简要概括课文的中心意思。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7391520" y="5334120"/>
            <a:ext cx="1120680" cy="94932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611280" y="3068640"/>
            <a:ext cx="72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Tahoma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课文通过对父亲背影的描写，于叙事中表现了父亲疼爱儿子，儿子怜爱父亲，父子情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6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0" y="0"/>
            <a:ext cx="2016000" cy="81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讨论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126828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课文第五段中，作者一再说自己“聪明过分”“太聪明”，为什么这样说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044720" y="2492280"/>
            <a:ext cx="59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反语，对当时不理解父爱的自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96720" y="3213000"/>
            <a:ext cx="752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有人说，本文失之伤感。“一个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岁的大男孩是不是还要父亲这么照顾，而面临离分别，是不是会这么容易流泪，我很怀疑。”你的看法呢？可以与大家讨论一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16000" y="1267920"/>
            <a:ext cx="7772400" cy="20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a3d7a"/>
                </a:solidFill>
                <a:latin typeface="Times New Roman"/>
              </a:rPr>
              <a:t>《背影》写的虽只是“芝麻黄豆大的事”，却称得上是朱自清先生“精神产品的独创”因其品味之高，感人之深，备受推崇。</a:t>
            </a:r>
            <a:endParaRPr b="1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6276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7740720" y="6400800"/>
            <a:ext cx="457200" cy="457200"/>
          </a:xfrm>
          <a:custGeom>
            <a:avLst/>
            <a:gdLst>
              <a:gd name="textAreaLeft" fmla="*/ 28440 w 457200"/>
              <a:gd name="textAreaRight" fmla="*/ 428760 w 45720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10800" y="3756"/>
                </a:moveTo>
                <a:arcTo wR="7044" hR="7044" stAng="16200000" swAng="-5400000"/>
                <a:arcTo wR="7044" hR="7044" stAng="10800000" swAng="-5400000"/>
                <a:arcTo wR="7044" hR="7044" stAng="5400000" swAng="-5400000"/>
                <a:arcTo wR="7044" hR="7044" stAng="0" swAng="-5400000"/>
                <a:close/>
              </a:path>
              <a:path fill="lighten" w="21600" h="21600">
                <a:moveTo>
                  <a:pt x="10800" y="4133"/>
                </a:moveTo>
                <a:arcTo wR="1803" hR="1803" stAng="16200000" swAng="-5400000"/>
                <a:arcTo wR="1803" hR="1803" stAng="10800000" swAng="-5400000"/>
                <a:arcTo wR="1803" hR="1803" stAng="5400000" swAng="-5400000"/>
                <a:arcTo wR="1803" hR="1803" stAng="0" swAng="-5400000"/>
                <a:close/>
              </a:path>
              <a:path fill="lighten" w="21600" h="21600">
                <a:moveTo>
                  <a:pt x="8210" y="8210"/>
                </a:moveTo>
                <a:lnTo>
                  <a:pt x="12095" y="8210"/>
                </a:lnTo>
                <a:lnTo>
                  <a:pt x="12095" y="15245"/>
                </a:lnTo>
                <a:lnTo>
                  <a:pt x="13390" y="15245"/>
                </a:lnTo>
                <a:lnTo>
                  <a:pt x="13390" y="16173"/>
                </a:lnTo>
                <a:lnTo>
                  <a:pt x="8210" y="16173"/>
                </a:lnTo>
                <a:lnTo>
                  <a:pt x="8210" y="15245"/>
                </a:lnTo>
                <a:lnTo>
                  <a:pt x="9505" y="15245"/>
                </a:lnTo>
                <a:lnTo>
                  <a:pt x="9505" y="9120"/>
                </a:lnTo>
                <a:lnTo>
                  <a:pt x="8210" y="9120"/>
                </a:lnTo>
                <a:close/>
              </a:path>
            </a:pathLst>
          </a:custGeom>
          <a:solidFill>
            <a:srgbClr val="fac164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>
            <a:hlinkClick r:id="" action="ppaction://hlinkshowjump?jump=previousslide"/>
          </p:cNvPr>
          <p:cNvSpPr/>
          <p:nvPr/>
        </p:nvSpPr>
        <p:spPr>
          <a:xfrm>
            <a:off x="8172360" y="6400800"/>
            <a:ext cx="457200" cy="457200"/>
          </a:xfrm>
          <a:custGeom>
            <a:avLst/>
            <a:gdLst>
              <a:gd name="textAreaLeft" fmla="*/ 28440 w 457200"/>
              <a:gd name="textAreaRight" fmla="*/ 428760 w 45720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10800"/>
                </a:moveTo>
                <a:lnTo>
                  <a:pt x="17844" y="3756"/>
                </a:lnTo>
                <a:lnTo>
                  <a:pt x="17844" y="17844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8440 w 533520"/>
              <a:gd name="textAreaRight" fmla="*/ 505080 w 53352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53" y="1350"/>
                </a:lnTo>
                <a:lnTo>
                  <a:pt x="1350" y="135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53" y="20250"/>
                </a:lnTo>
                <a:lnTo>
                  <a:pt x="23853" y="135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3853" y="2025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5203" h="21600">
                <a:moveTo>
                  <a:pt x="5558" y="3756"/>
                </a:moveTo>
                <a:lnTo>
                  <a:pt x="19645" y="10800"/>
                </a:lnTo>
                <a:lnTo>
                  <a:pt x="5558" y="17844"/>
                </a:lnTo>
                <a:close/>
              </a:path>
            </a:pathLst>
          </a:custGeom>
          <a:solidFill>
            <a:srgbClr val="fac16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900000" y="0"/>
            <a:ext cx="7010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dbf7d"/>
                </a:solidFill>
                <a:latin typeface="黑体"/>
                <a:ea typeface="黑体"/>
              </a:rPr>
              <a:t>父亲是一座山，伟大而坚强。严酷的现实扭曲了情感，沉重的负担压弯了脊背，他从无怨言，默默地用点点血汗，以透支的生命为儿女们开出一条成功之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532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隶书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</a:rPr>
              <a:t>世间的情千万种，只有爱最崇高；世间的爱千万种，惟有父母之爱最无私。时间的长河可以带走一切，但带不走父母的爱。它已深入我们的骨髓，溶入我们的血液。这爱留在我们的心中，时刻温暖我们的生命历程。</a:t>
            </a:r>
            <a:endParaRPr b="1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图片1nm" descr=""/>
          <p:cNvPicPr/>
          <p:nvPr/>
        </p:nvPicPr>
        <p:blipFill>
          <a:blip r:embed="rId1"/>
          <a:stretch/>
        </p:blipFill>
        <p:spPr>
          <a:xfrm>
            <a:off x="0" y="0"/>
            <a:ext cx="9036000" cy="681372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1476360" y="836640"/>
            <a:ext cx="6913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布置作业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请学习本文的写法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以一侧面来写人物的方法，如以“爸爸的手”、“妈妈的笑” ……为话题，写一篇练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27160" y="231840"/>
            <a:ext cx="8910360" cy="66261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828800" y="380880"/>
            <a:ext cx="3747960" cy="13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ff"/>
                </a:solidFill>
                <a:latin typeface="Verdana"/>
                <a:ea typeface="华文新魏"/>
              </a:rPr>
              <a:t>写作背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00000" y="1628640"/>
            <a:ext cx="68580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《背影》写于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925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年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月，当时作者在清华大学任教。本文是作者追忆八年前的往事。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917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年冬，作者祖母去世，父亲朱鸿钧原任徐州烟酒公卖局局长，被解职。文中的“祸不单行”正是指这两件事。作者当时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岁，在北大哲学系读书，得知祖母去世，从北京赶到徐州与父亲一道回扬州奔丧。丧事完毕，父亲到南京找工作，作者回北京念书，父子在浦口车站惜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843280" y="587700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xz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8244000" y="6308640"/>
            <a:ext cx="900000" cy="549360"/>
          </a:xfrm>
          <a:prstGeom prst="rightArrow">
            <a:avLst>
              <a:gd name="adj1" fmla="val 50000"/>
              <a:gd name="adj2" fmla="val 409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有声读物-背影" descr=""/>
          <p:cNvPicPr/>
          <p:nvPr/>
        </p:nvPicPr>
        <p:blipFill>
          <a:blip r:embed="rId2"/>
          <a:stretch/>
        </p:blipFill>
        <p:spPr>
          <a:xfrm>
            <a:off x="468360" y="5950080"/>
            <a:ext cx="1150920" cy="6476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2134440" y="-23760"/>
            <a:ext cx="569052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背影》是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记实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散文，写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92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。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者曾说：“我写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背影》，就因为文中所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父亲的来信那句话。当时读了父亲的信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真是泪如泉涌。我父亲待我的许多好处，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别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背影》里所叙述的那一回，想起来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眼前一般无二。我这篇文只是写实，……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图片1nm" descr=""/>
          <p:cNvPicPr/>
          <p:nvPr/>
        </p:nvPicPr>
        <p:blipFill>
          <a:blip r:embed="rId1"/>
          <a:stretch/>
        </p:blipFill>
        <p:spPr>
          <a:xfrm>
            <a:off x="0" y="1440"/>
            <a:ext cx="9036000" cy="681372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1331640" y="162864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交卸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奔丧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 狼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簌簌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典质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赋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颓唐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琐屑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蹒跚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踌躇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触目伤怀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情郁于中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3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祸不单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68360" y="1125360"/>
            <a:ext cx="647892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xiè            sāng             jí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sù                            f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tuí           suǒxiè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pánshā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819520" y="6019920"/>
            <a:ext cx="6324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332000" y="4653000"/>
            <a:ext cx="6767280" cy="5191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22240" y="419040"/>
            <a:ext cx="49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、读下列生字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022200" y="260280"/>
            <a:ext cx="171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9999"/>
                </a:solidFill>
                <a:latin typeface="Tahoma"/>
              </a:rPr>
              <a:t>思      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332000" y="981000"/>
            <a:ext cx="5904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、《背影》这篇散文因其成功地描述了“父爱”这一主题而被人们广为传诵。读完这篇散文之后，你觉得作者是通过选取什么角度来表达“父爱”这一主题的？ 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332000" y="5013360"/>
            <a:ext cx="53276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ahoma"/>
              </a:rPr>
              <a:t>作者是通过选取“背影”这个角度来表达“父爱”这一主题的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457200" y="1752480"/>
            <a:ext cx="1219320" cy="3810240"/>
          </a:xfrm>
          <a:prstGeom prst="upDownArrow">
            <a:avLst>
              <a:gd name="adj1" fmla="val 50000"/>
              <a:gd name="adj2" fmla="val 62498"/>
            </a:avLst>
          </a:prstGeom>
          <a:gradFill rotWithShape="0">
            <a:gsLst>
              <a:gs pos="0">
                <a:srgbClr val="ccecff"/>
              </a:gs>
              <a:gs pos="100000">
                <a:srgbClr val="5e6c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" y="1981080"/>
            <a:ext cx="81532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1828800"/>
            <a:ext cx="7315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676520" y="175248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开篇设疑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思念父亲）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　　　　 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悲凉气氛 别时家境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2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         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铺垫背影 细心关照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4-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　　　　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刻画背影 </a:t>
            </a:r>
            <a:r>
              <a:rPr b="1" lang="zh-CN" sz="2800" spc="-1" strike="noStrike">
                <a:solidFill>
                  <a:srgbClr val="b74e07"/>
                </a:solidFill>
                <a:latin typeface="黑体"/>
                <a:ea typeface="黑体"/>
              </a:rPr>
              <a:t>望父买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　　　　 </a:t>
            </a:r>
            <a:r>
              <a:rPr b="1" lang="zh-CN" sz="3600" spc="-1" strike="noStrike">
                <a:solidFill>
                  <a:srgbClr val="b74e07"/>
                </a:solidFill>
                <a:latin typeface="Arial"/>
              </a:rPr>
              <a:t>父子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惜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别后思念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再现背影       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7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135000" y="457200"/>
            <a:ext cx="9009000" cy="1052640"/>
            <a:chOff x="135000" y="457200"/>
            <a:chExt cx="9009000" cy="1052640"/>
          </a:xfrm>
        </p:grpSpPr>
        <p:grpSp>
          <p:nvGrpSpPr>
            <p:cNvPr id="244" name=""/>
            <p:cNvGrpSpPr/>
            <p:nvPr/>
          </p:nvGrpSpPr>
          <p:grpSpPr>
            <a:xfrm>
              <a:off x="425520" y="565200"/>
              <a:ext cx="711360" cy="474480"/>
              <a:chOff x="425520" y="565200"/>
              <a:chExt cx="711360" cy="474480"/>
            </a:xfrm>
          </p:grpSpPr>
          <p:sp>
            <p:nvSpPr>
              <p:cNvPr id="245" name=""/>
              <p:cNvSpPr/>
              <p:nvPr/>
            </p:nvSpPr>
            <p:spPr>
              <a:xfrm>
                <a:off x="425520" y="56520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08560" y="56520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549360" y="987480"/>
              <a:ext cx="737640" cy="474480"/>
              <a:chOff x="549360" y="987480"/>
              <a:chExt cx="737640" cy="474480"/>
            </a:xfrm>
          </p:grpSpPr>
          <p:sp>
            <p:nvSpPr>
              <p:cNvPr id="248" name=""/>
              <p:cNvSpPr/>
              <p:nvPr/>
            </p:nvSpPr>
            <p:spPr>
              <a:xfrm>
                <a:off x="549360" y="98748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918360" y="98748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135000" y="9144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70040" y="45720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451080" y="127836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1219320" y="45720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隶书"/>
              </a:rPr>
              <a:t>段落层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 rot="5400000">
            <a:off x="189720" y="3390840"/>
            <a:ext cx="1752840" cy="304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父子情深</a:t>
            </a:r>
            <a:endParaRPr b="1" lang="en-US" sz="20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828800" y="3429000"/>
            <a:ext cx="13716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回忆往事</a:t>
            </a:r>
            <a:endParaRPr b="1" lang="en-US" sz="1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010280" y="3962520"/>
            <a:ext cx="13356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latin typeface="宋体"/>
              </a:rPr>
              <a:t>6</a:t>
            </a:r>
            <a:endParaRPr b="0" lang="en-US" sz="2000" spc="-1" strike="noStrike">
              <a:ln w="9360">
                <a:solidFill>
                  <a:srgbClr val="3333cc"/>
                </a:solidFill>
                <a:miter/>
              </a:ln>
              <a:solidFill>
                <a:srgbClr val="3333cc"/>
              </a:solidFill>
              <a:latin typeface="宋体"/>
              <a:ea typeface="宋体"/>
            </a:endParaRPr>
          </a:p>
        </p:txBody>
      </p:sp>
    </p:spTree>
  </p:cSld>
  <p:transition spd="slow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611280" y="1628640"/>
            <a:ext cx="8153280" cy="43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通读课文感知主要内容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思考下列各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请找出本文的文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文眼”就是“揭全文主旨”的关键句子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读出了文眼，就读出了中心。文眼常常出现在开头或结尾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35000" y="457200"/>
            <a:ext cx="9009000" cy="1052640"/>
            <a:chOff x="135000" y="457200"/>
            <a:chExt cx="9009000" cy="1052640"/>
          </a:xfrm>
        </p:grpSpPr>
        <p:grpSp>
          <p:nvGrpSpPr>
            <p:cNvPr id="259" name=""/>
            <p:cNvGrpSpPr/>
            <p:nvPr/>
          </p:nvGrpSpPr>
          <p:grpSpPr>
            <a:xfrm>
              <a:off x="425520" y="565200"/>
              <a:ext cx="711360" cy="474480"/>
              <a:chOff x="425520" y="565200"/>
              <a:chExt cx="711360" cy="474480"/>
            </a:xfrm>
          </p:grpSpPr>
          <p:sp>
            <p:nvSpPr>
              <p:cNvPr id="260" name=""/>
              <p:cNvSpPr/>
              <p:nvPr/>
            </p:nvSpPr>
            <p:spPr>
              <a:xfrm>
                <a:off x="425520" y="565200"/>
                <a:ext cx="437400" cy="4744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08560" y="56520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549360" y="987480"/>
              <a:ext cx="737640" cy="474480"/>
              <a:chOff x="549360" y="987480"/>
              <a:chExt cx="737640" cy="474480"/>
            </a:xfrm>
          </p:grpSpPr>
          <p:sp>
            <p:nvSpPr>
              <p:cNvPr id="263" name=""/>
              <p:cNvSpPr/>
              <p:nvPr/>
            </p:nvSpPr>
            <p:spPr>
              <a:xfrm>
                <a:off x="549360" y="987480"/>
                <a:ext cx="421560" cy="47448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918360" y="98748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135000" y="9144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70040" y="45720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451080" y="127836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1476360" y="47628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整体感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6019920" y="0"/>
            <a:ext cx="3124080" cy="1700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684360" y="1700280"/>
            <a:ext cx="82278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请找出本文的文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55640" y="1844640"/>
            <a:ext cx="70866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135000" y="457200"/>
            <a:ext cx="9009000" cy="1052640"/>
            <a:chOff x="135000" y="457200"/>
            <a:chExt cx="9009000" cy="1052640"/>
          </a:xfrm>
        </p:grpSpPr>
        <p:grpSp>
          <p:nvGrpSpPr>
            <p:cNvPr id="273" name=""/>
            <p:cNvGrpSpPr/>
            <p:nvPr/>
          </p:nvGrpSpPr>
          <p:grpSpPr>
            <a:xfrm>
              <a:off x="425520" y="565200"/>
              <a:ext cx="711360" cy="474480"/>
              <a:chOff x="425520" y="565200"/>
              <a:chExt cx="711360" cy="474480"/>
            </a:xfrm>
          </p:grpSpPr>
          <p:sp>
            <p:nvSpPr>
              <p:cNvPr id="274" name=""/>
              <p:cNvSpPr/>
              <p:nvPr/>
            </p:nvSpPr>
            <p:spPr>
              <a:xfrm>
                <a:off x="425520" y="565200"/>
                <a:ext cx="437400" cy="4744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808560" y="56520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549360" y="987480"/>
              <a:ext cx="737640" cy="474480"/>
              <a:chOff x="549360" y="987480"/>
              <a:chExt cx="737640" cy="474480"/>
            </a:xfrm>
          </p:grpSpPr>
          <p:sp>
            <p:nvSpPr>
              <p:cNvPr id="277" name=""/>
              <p:cNvSpPr/>
              <p:nvPr/>
            </p:nvSpPr>
            <p:spPr>
              <a:xfrm>
                <a:off x="549360" y="987480"/>
                <a:ext cx="421560" cy="47448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918360" y="98748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>
              <a:off x="135000" y="9144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70040" y="45720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451080" y="127836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219320" y="45720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整体感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042920" y="234936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我最不能忘记的是他的背影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84360" y="3213000"/>
            <a:ext cx="678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28720" y="3502080"/>
            <a:ext cx="66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文中一共写了父亲几次背影？请同学们找出句子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9T12:38:46Z</dcterms:created>
  <dc:creator>user</dc:creator>
  <dc:description/>
  <dc:language>en-US</dc:language>
  <cp:lastModifiedBy>User</cp:lastModifiedBy>
  <cp:lastPrinted>1900-01-04T05:08:28Z</cp:lastPrinted>
  <dcterms:modified xsi:type="dcterms:W3CDTF">2010-10-13T00:37:45Z</dcterms:modified>
  <cp:revision>8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