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6.jpeg" ContentType="image/jpeg"/>
  <Override PartName="/ppt/media/image12.gif" ContentType="image/gif"/>
  <Override PartName="/ppt/media/image11.gif" ContentType="image/gif"/>
  <Override PartName="/ppt/media/image14.png" ContentType="image/png"/>
  <Override PartName="/ppt/media/image20.jpeg" ContentType="image/jpeg"/>
  <Override PartName="/ppt/media/image15.jpeg" ContentType="image/jpeg"/>
  <Override PartName="/ppt/media/image9.gif" ContentType="image/gif"/>
  <Override PartName="/ppt/media/image19.jpeg" ContentType="image/jpeg"/>
  <Override PartName="/ppt/media/image18.gif" ContentType="image/gi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312-3CF7-4CE7-AB5F-E515F7E1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BB9-231C-4AC6-94B3-258F155E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200-16C5-4D58-896D-E8901218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885-46B0-45BE-ACAA-64A333B8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7136-75F4-46FC-909B-99BFE021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328C-EA23-4D43-8D50-F6C6630E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B6C-0F1A-44A4-BDBA-4B38FB37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5C81-D56F-43D1-BA15-F730E68B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BFF0-EC64-4C46-BD97-007F0405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BAD-B68B-4E86-BB02-FF65C6E3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73AF-9137-4BCE-B2CF-F4DB3DF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392-973A-475A-AD5B-44BB34C5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CAF4-8D52-4708-BD74-4C5E6E0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7C44-72EB-4362-A0D3-7C720BBA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A867-8A22-4E36-82A9-0A491781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8801-E9EE-48A8-929B-18985C5A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F7A8-D0B8-4944-BC04-7168D429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CDF7-507C-4863-AD24-C01F0DBD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806A-7E78-47E1-B60B-7BFFFBCC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E4A5-7748-4F14-A126-5BA3124F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1C34-B4CA-4DDD-B22F-D9A798CC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E792-81D3-4EDB-9459-BB3694C1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D6B-F7EA-4ACD-B111-B736E19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3B6D-AEB9-4273-9185-E174BE5A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F8B1-7CAE-40C9-931F-DDEBCADF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CE9F-6A10-4368-85AB-4EC5BFA8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34F9-91C9-4442-B9D3-37B9394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67DD-22B3-4C56-A263-DE8BB8AB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EBF6-A60F-499D-9EAB-95A76EEB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B9EF5-A4E9-4998-B037-7BD1A408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A82-FA4B-4107-BC27-DF3AC683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DE3C2-EA91-4164-80DC-11D1EFE3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995-DE33-4629-B406-3B9D569A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A6855-F5B6-45E7-B758-203F2472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3E6B3-CAF0-400D-97F8-C528B74A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AD31-3AA7-4D6F-A211-65F16C86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FCCB-66BB-4801-B001-BD285A94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88BC-1C62-4519-BE84-A6E6A45C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35FEC-688B-4A18-B93D-EF9D4EE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5612-A7C5-4075-ACF1-13CB559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F8314-116C-4760-B094-923DE181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3ECE-7912-4A68-8F98-DCBCA42B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B9191-993B-4243-8F9E-16CC542B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634-501B-4699-AA1F-C73DBEF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4D203-0847-47C2-864A-71C7F6F8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30B-44B1-47A1-84AC-93BE6868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9DA-BBC4-45DA-B5D4-BAF2E6D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822-02BF-4B5F-88FC-8FE769A0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70A8-8A4D-47F7-B955-00C5F5C15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90B1-0C68-41B0-8B08-D7A3694F36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3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87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5980-1B60-4A71-BF6E-7EFF091BEB6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6A8F-5468-4021-B60F-A0D8FD525885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03280" y="40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我与父亲不相见已二年余了，我最不能忘记的是他的背景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7636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他用两手攀着上面，两脚再向上缩；他肥胖的身子向左微倾，显出努力的样子，这时我看见他的背影，我的泪很快地流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3500280"/>
            <a:ext cx="802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等他的背影混入来来往往的人里，再找不着了，我便进来坐下，我的眼泪又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486900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读到此处，在晶莹的泪光中，又看见那肥胖的、青布棉袍黑布马褂的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83592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四次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72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9780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072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6720" y="494172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19320" y="685800"/>
            <a:ext cx="51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合作探究   交流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09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10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13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55640" y="2133720"/>
            <a:ext cx="7920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再读课文 找出课文中着重描写了哪一次背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47640" y="1700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着重描写了父亲买橘子爬月台的时候的背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772640" y="44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隶书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2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32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32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843280" y="1773360"/>
            <a:ext cx="59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我看见他戴着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穿着黑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深青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地走到铁道边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慢慢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身下去，尚不大难。可是他穿过铁道 ，要爬上那边月台 ，就不容易了 。他用两手  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着上面 ，两脚再向上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；他肥胖的身子向左微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显出努力的样子，这时我看见他的背影 ，我的泪很快地流下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054160" cy="4753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443640" y="219384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黑布小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马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棉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4360" y="220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蹒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000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0" y="35053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2764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16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765000"/>
            <a:ext cx="9009000" cy="1052640"/>
            <a:chOff x="0" y="765000"/>
            <a:chExt cx="9009000" cy="1052640"/>
          </a:xfrm>
        </p:grpSpPr>
        <p:grpSp>
          <p:nvGrpSpPr>
            <p:cNvPr id="348" name=""/>
            <p:cNvGrpSpPr/>
            <p:nvPr/>
          </p:nvGrpSpPr>
          <p:grpSpPr>
            <a:xfrm>
              <a:off x="290520" y="873000"/>
              <a:ext cx="711360" cy="474480"/>
              <a:chOff x="290520" y="873000"/>
              <a:chExt cx="711360" cy="4744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0520" y="8730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3560" y="873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14360" y="1295280"/>
              <a:ext cx="737640" cy="474480"/>
              <a:chOff x="414360" y="1295280"/>
              <a:chExt cx="737640" cy="474480"/>
            </a:xfrm>
          </p:grpSpPr>
          <p:sp>
            <p:nvSpPr>
              <p:cNvPr id="352" name=""/>
              <p:cNvSpPr/>
              <p:nvPr/>
            </p:nvSpPr>
            <p:spPr>
              <a:xfrm>
                <a:off x="414360" y="12952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3360" y="12952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1222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040" y="7650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16080" y="1586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703160" y="714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隶书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35280" y="205956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读父亲过铁道的部分，哪些地方令你感动？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2851560"/>
            <a:ext cx="396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ａ、父亲的穿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ｂ、走路的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ｃ、爬月台时的动作</a:t>
            </a:r>
            <a:r>
              <a:rPr b="1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03640" y="292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黑、深青</a:t>
            </a: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71760" y="3859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蹒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50960" y="479664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探、攀、缩、倾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3432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家境不好，心情忧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886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年龄大，腿脚不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行动不便，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066680"/>
            <a:ext cx="88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一自然段写父亲主要通过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肖像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）描写和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动作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）描写来写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514600"/>
            <a:ext cx="113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◆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是扑扑身上的泥土，心里很轻松似的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父亲为什么会给儿子这样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03000" y="4191120"/>
            <a:ext cx="517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父亲尽到了自己的责任，所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心里很轻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0600" y="603720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73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74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77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1628640"/>
            <a:ext cx="8458200" cy="1152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亲送儿子上车的过程说的四句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06668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76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5229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，到那边来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5805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39640" y="3309840"/>
            <a:ext cx="625680" cy="335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33520" y="4221000"/>
            <a:ext cx="625320" cy="335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468360" y="5302080"/>
            <a:ext cx="625320" cy="333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533520" y="595008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236000" y="2276640"/>
            <a:ext cx="1218960" cy="1447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8683" y="209"/>
                </a:moveTo>
                <a:arcTo wR="-10800" hR="-10800" stAng="-6078223" swAng="-11585606"/>
                <a:lnTo>
                  <a:pt x="6339" y="964"/>
                </a:lnTo>
                <a:arcTo wR="10800" hR="10800" stAng="-6863828" swAng="11585606"/>
                <a:lnTo>
                  <a:pt x="13446" y="24038"/>
                </a:lnTo>
                <a:lnTo>
                  <a:pt x="10269" y="21920"/>
                </a:lnTo>
                <a:lnTo>
                  <a:pt x="12388" y="18743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从文中找出，并体会其中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95640" y="1484280"/>
            <a:ext cx="374472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怜爱儿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919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事已如此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不必难过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好在天无绝人之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12720" y="981000"/>
            <a:ext cx="625680" cy="335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797440" y="1557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亲的安慰体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76720" y="321300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心不下的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4581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得十分周到，怕他旅程辛苦，口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1800" y="5661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临别时的谆谆嘱咐，惦念儿子旅途的平安之心跃然纸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找到父亲为儿子做的几件事。</a:t>
            </a:r>
            <a:endParaRPr b="1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97164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安慰儿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送儿子上火车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看行李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过铁道买橘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写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33720" y="1676520"/>
            <a:ext cx="16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慈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6237360"/>
            <a:ext cx="63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此我受到了很大的感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1341360"/>
            <a:ext cx="8458200" cy="1295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我流泪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5805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59500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9640" y="486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依恋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4941720"/>
            <a:ext cx="2303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子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04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724200" cy="488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24360" y="185760"/>
            <a:ext cx="48956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朱自清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898—194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佩弦，现代著名诗人，散文家，学者，  民主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一生勤奋，共有诗歌、散文、评论、学术研究等著作，约二百多万字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诗文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踪迹》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欧旅杂记》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散文代表作有《春》、《荷塘月色》、《背影》、《绿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420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421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424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7200" y="2133720"/>
            <a:ext cx="8001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简要概括课文的中心意思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11280" y="3068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课文通过对父亲背影的描写，于叙事中表现了父亲疼爱儿子，儿子怜爱父亲，父子情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0"/>
            <a:ext cx="20160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126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课文第五段中，作者一再说自己“聪明过分”“太聪明”，为什么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4720" y="2492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语，对当时不理解父爱的自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720" y="3213000"/>
            <a:ext cx="75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有人说，本文失之伤感。“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岁的大男孩是不是还要父亲这么照顾，而面临离分别，是不是会这么容易流泪，我很怀疑。”你的看法呢？可以与大家讨论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《背影》写的虽只是“芝麻黄豆大的事”，却称得上是朱自清先生“精神产品的独创”因其品味之高，感人之深，备受推崇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627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bf7d"/>
                </a:solidFill>
                <a:latin typeface="黑体"/>
                <a:ea typeface="黑体"/>
              </a:rPr>
              <a:t>父亲是一座山，伟大而坚强。严酷的现实扭曲了情感，沉重的负担压弯了脊背，他从无怨言，默默地用点点血汗，以透支的生命为儿女们开出一条成功之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世间的情千万种，只有爱最崇高；世间的爱千万种，惟有父母之爱最无私。时间的长河可以带走一切，但带不走父母的爱。它已深入我们的骨髓，溶入我们的血液。这爱留在我们的心中，时刻温暖我们的生命历程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1nm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476360" y="836640"/>
            <a:ext cx="69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学习本文的写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一侧面来写人物的方法，如以“爸爸的手”、“妈妈的笑” ……为话题，写一篇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628640"/>
            <a:ext cx="685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背影》写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，当时作者在清华大学任教。本文是作者追忆八年前的往事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岁，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有声读物-背影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134440" y="-23760"/>
            <a:ext cx="5690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记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散文，写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曾说：“我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，就因为文中所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父亲的来信那句话。当时读了父亲的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是泪如泉涌。我父亲待我的许多好处，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里所叙述的那一回，想起来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前一般无二。我这篇文只是写实，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交卸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奔丧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狼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簌簌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典质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赋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颓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琐屑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蹒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踌躇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目伤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郁于中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祸不单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1125360"/>
            <a:ext cx="64789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iè            sāng             j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ù                            f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uí           suǒxiè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n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60199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6767280" cy="51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240" y="419040"/>
            <a:ext cx="49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读下列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2200" y="260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Tahoma"/>
              </a:rPr>
              <a:t>思      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981000"/>
            <a:ext cx="59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《背影》这篇散文因其成功地描述了“父爱”这一主题而被人们广为传诵。读完这篇散文之后，你觉得作者是通过选取什么角度来表达“父爱”这一主题的？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5013360"/>
            <a:ext cx="532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作者是通过选取“背影”这个角度来表达“父爱”这一主题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1752480"/>
            <a:ext cx="1219320" cy="3810240"/>
          </a:xfrm>
          <a:prstGeom prst="upDownArrow">
            <a:avLst>
              <a:gd name="adj1" fmla="val 50000"/>
              <a:gd name="adj2" fmla="val 62498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8288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悲凉气氛 别时家境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铺垫背影 细心关照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 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　 </a:t>
            </a:r>
            <a:r>
              <a:rPr b="1" lang="zh-CN" sz="3600" spc="-1" strike="noStrike">
                <a:solidFill>
                  <a:srgbClr val="b74e07"/>
                </a:solidFill>
                <a:latin typeface="Arial"/>
              </a:rPr>
              <a:t>父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惜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7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4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4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 rot="5400000">
            <a:off x="189720" y="3390840"/>
            <a:ext cx="17528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828800" y="342900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10280" y="396252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宋体"/>
              </a:rPr>
              <a:t>6</a:t>
            </a:r>
            <a:endParaRPr b="0" lang="en-US" sz="2000" spc="-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宋体"/>
              <a:ea typeface="宋体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11280" y="1628640"/>
            <a:ext cx="81532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读课文感知主要内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下列各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眼”就是“揭全文主旨”的关键句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读出了文眼，就读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476360" y="476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4360" y="1700280"/>
            <a:ext cx="82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1844640"/>
            <a:ext cx="708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73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74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349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我最不能忘记的是他的背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213000"/>
            <a:ext cx="678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8720" y="3502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一共写了父亲几次背影？请同学们找出句子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38:46Z</dcterms:created>
  <dc:creator>user</dc:creator>
  <dc:description/>
  <dc:language>en-US</dc:language>
  <cp:lastModifiedBy>User</cp:lastModifiedBy>
  <cp:lastPrinted>1900-01-04T05:08:28Z</cp:lastPrinted>
  <dcterms:modified xsi:type="dcterms:W3CDTF">2010-10-13T00:37:45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