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72E-683E-41B5-A4E9-6A5636A7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475-A034-4D6A-B847-D6749492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29E-FAF8-4EBB-AC70-98825539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905-C0C3-4F74-AB66-4EF099E3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FCCD-7B82-4A6F-9529-CF0AD1FF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69B5-6210-4D89-8B57-F3F443D7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FD98-E213-4336-A421-6504B31D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C6DB-5763-4CF7-A0AF-66944C61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1B85-79E3-4AAF-8DE3-B3090ED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C249-883B-4EE9-BD8C-23713902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7C61-2CB6-4F8A-9089-A410C1CA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ED9-4CE9-4326-A936-B6937E53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C318-A66B-4DD3-B059-DD50288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136E-062F-49E6-90D0-00775122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243E-7769-4EE6-90BD-65C9C330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81ED-A03C-4E61-A33E-D248C275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A456-F916-4F7A-A84D-B40EA4B0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767-70F0-4C83-82E6-2F7AF25C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356-C823-458F-BA8E-1B1F40CD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708-31B3-4154-B979-E0695CAC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0AE-C933-46E1-B8AD-27D5010F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9E8-ECCC-464F-B3D4-F8BC4E5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2B5-2A8B-4F3D-BEE0-254BD73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9C4-D2D7-4A68-BD2A-38795FAA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5634-19A5-44D1-928A-701F084498D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5B3E-CDF5-4CE5-AF4A-0030142A69B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753480" cy="68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39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积累重点字词，理解课文内容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熟读、背诵精美的篇段，培养学生对语言文字的感悟、理解能力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通过学习，帮助学生树立热爱生活、热爱生命的观念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划出文中的</a:t>
            </a:r>
            <a:r>
              <a:rPr b="0" lang="zh-CN" sz="4400" spc="-1" strike="noStrike" u="sng">
                <a:solidFill>
                  <a:srgbClr val="00b200"/>
                </a:solidFill>
                <a:uFillTx/>
                <a:latin typeface="Comic Sans MS"/>
                <a:ea typeface="华文行楷"/>
                <a:hlinkClick r:id="rId2" action="ppaction://hlinksldjump"/>
              </a:rPr>
              <a:t>生字生词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本文都把生命比做什么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分别经历了哪几个生命历程或哪几种生命状态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935280" y="1573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99604"/>
                </a:solidFill>
                <a:latin typeface="Comic Sans MS"/>
                <a:ea typeface="华文行楷"/>
              </a:rPr>
              <a:t>听读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60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翳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巉岩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chá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羞怯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i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心魂惊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ài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休憩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骄奢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ē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枭鸟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āo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荫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芳馨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ī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朔风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uò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丛莽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ǎng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628640"/>
            <a:ext cx="7488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66"/>
                </a:solidFill>
                <a:latin typeface="Times New Roman"/>
                <a:ea typeface="幼圆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行楷"/>
              </a:rPr>
              <a:t>选出文中你认为用得非常好的句子或段落，有感情的大声朗读出来。并试着背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456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华文行楷"/>
              </a:rPr>
              <a:t>跳读品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804000" y="5229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22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Music"/>
          <p:cNvSpPr/>
          <p:nvPr/>
        </p:nvSpPr>
        <p:spPr>
          <a:xfrm>
            <a:off x="7596360" y="981000"/>
            <a:ext cx="906120" cy="7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85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8724d"/>
                </a:solidFill>
                <a:latin typeface="Comic Sans MS"/>
                <a:ea typeface="华文行楷"/>
              </a:rPr>
              <a:t>分组探究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以小组为单位分别探究“一江春水”、“一棵小树”部分；   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各个小组向全班同学汇报本组探究成果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提出问题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每个小组就各自探究的内容接受其他小组的提问，并作出解答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5c335"/>
                </a:solidFill>
                <a:latin typeface="Tahoma"/>
                <a:ea typeface="华文行楷"/>
              </a:rPr>
              <a:t>深化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00" y="838080"/>
            <a:ext cx="78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最能表达课文主题的思想的是哪一句或哪几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200" y="2757600"/>
            <a:ext cx="84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从课文中领悟到生命的本质是什么 生命的规律又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14400"/>
            <a:ext cx="30456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8120" y="1557360"/>
            <a:ext cx="6224400" cy="947160"/>
          </a:xfrm>
          <a:prstGeom prst="rect">
            <a:avLst/>
          </a:prstGeom>
          <a:noFill/>
          <a:ln w="9360">
            <a:solidFill>
              <a:srgbClr val="35c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中不是永远快乐，也不是永远痛苦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快乐和痛苦是相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成的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快乐中我们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痛苦中我们也要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76320" y="27432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19000" y="3755880"/>
            <a:ext cx="52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本质—蓬勃成长，奋勇前进，任何力量也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阻碍它压制它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08480" y="4973760"/>
            <a:ext cx="220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规律—始而渺小、微弱，继而强健、壮大，终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归于消亡，其间幸福与苦难、顺利与曲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伴相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349960" cy="411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flipH="1" rot="10800000">
            <a:off x="1447920" y="1295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943840" cy="99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133720" y="60948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有所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5909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作者对生命的感性认识与理性思考一定对你有所触动，请你结合自己十几年的生活经历以“生命像——”开头谈谈自己对生命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438840" y="2362320"/>
            <a:ext cx="182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心灵广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4:06:32Z</dcterms:created>
  <dc:creator>Zhou Chao</dc:creator>
  <dc:description/>
  <dc:language>en-US</dc:language>
  <cp:lastModifiedBy>MS User</cp:lastModifiedBy>
  <dcterms:modified xsi:type="dcterms:W3CDTF">2010-01-12T13:26:18Z</dcterms:modified>
  <cp:revision>80</cp:revision>
  <dc:subject/>
  <dc:title>幻灯片 1</dc:title>
</cp:coreProperties>
</file>