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56C-7996-46C5-8494-ACC4D1EB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B66-9CE8-4F27-A4F3-EAA4F9D5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5F2-7145-4883-9318-087EB8FC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3BE4-1183-409B-BE87-5073CA4D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9B62-606A-47AB-BFE9-FB183E39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65E7-003C-4001-910E-C6E66917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12E2-E4F4-4355-A2F1-85C81E45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64D2-0383-4AC8-9902-67FC5822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21EB-080B-492B-AEF7-582B8C28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E05D-2330-4274-AC4D-5418E9BA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802A-233F-42E0-B696-08EBB5A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6C7-9ACE-4F97-ADC8-296618E2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2599-F7C5-420F-AC81-2A334D9C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742D-9C8B-4EC8-8644-38A0786B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C138-5C8B-4F44-90FC-B2F11B10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90FF-B6F7-42E3-8D8C-3B0F6C14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8F52-75ED-4968-A620-B444FB08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A73-714D-40BB-BCAF-E0A43A38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E8CA-A9E6-40FC-A0DF-61B8D7F4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F88-EF94-43AC-B56D-D1A1A69A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C57-DAC1-4745-8A06-3F42A2B1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79E-C9EE-4097-ACF6-72D39510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0D0-4D7B-42DC-B3F6-1EAB2C46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774-16FE-48F7-8728-FBE51A7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AD4-5156-48B2-8F0F-F8D35A39A10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3B6E-56FC-4FD4-8B49-B67B6C24A68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9628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60199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520920" y="190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２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920" y="261144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一颗从小飘来的种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却在我的心中扎下了深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048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41440" y="3429000"/>
            <a:ext cx="2204640" cy="1373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来“我”不懈努力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理想的树立也需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日积月累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72760" y="1928880"/>
            <a:ext cx="210096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童年的认识毕竟肤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5560" y="2593800"/>
            <a:ext cx="10342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喻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2362320"/>
            <a:ext cx="152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895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048120"/>
            <a:ext cx="615960" cy="126720"/>
          </a:xfrm>
          <a:custGeom>
            <a:avLst/>
            <a:gdLst/>
            <a:ahLst/>
            <a:rect l="l" t="t" r="r" b="b"/>
            <a:pathLst>
              <a:path w="388" h="80">
                <a:moveTo>
                  <a:pt x="0" y="24"/>
                </a:moveTo>
                <a:cubicBezTo>
                  <a:pt x="18" y="80"/>
                  <a:pt x="29" y="77"/>
                  <a:pt x="82" y="59"/>
                </a:cubicBezTo>
                <a:cubicBezTo>
                  <a:pt x="88" y="41"/>
                  <a:pt x="92" y="0"/>
                  <a:pt x="129" y="12"/>
                </a:cubicBezTo>
                <a:cubicBezTo>
                  <a:pt x="156" y="21"/>
                  <a:pt x="199" y="59"/>
                  <a:pt x="199" y="59"/>
                </a:cubicBezTo>
                <a:cubicBezTo>
                  <a:pt x="206" y="54"/>
                  <a:pt x="255" y="19"/>
                  <a:pt x="270" y="24"/>
                </a:cubicBezTo>
                <a:cubicBezTo>
                  <a:pt x="297" y="33"/>
                  <a:pt x="340" y="71"/>
                  <a:pt x="340" y="71"/>
                </a:cubicBezTo>
                <a:cubicBezTo>
                  <a:pt x="348" y="47"/>
                  <a:pt x="356" y="1"/>
                  <a:pt x="388" y="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3787920"/>
            <a:ext cx="671400" cy="206280"/>
          </a:xfrm>
          <a:custGeom>
            <a:avLst/>
            <a:gdLst/>
            <a:ahLst/>
            <a:rect l="l" t="t" r="r" b="b"/>
            <a:pathLst>
              <a:path w="423" h="130">
                <a:moveTo>
                  <a:pt x="0" y="36"/>
                </a:moveTo>
                <a:cubicBezTo>
                  <a:pt x="28" y="118"/>
                  <a:pt x="1" y="114"/>
                  <a:pt x="59" y="94"/>
                </a:cubicBezTo>
                <a:cubicBezTo>
                  <a:pt x="61" y="87"/>
                  <a:pt x="77" y="19"/>
                  <a:pt x="106" y="36"/>
                </a:cubicBezTo>
                <a:cubicBezTo>
                  <a:pt x="130" y="50"/>
                  <a:pt x="153" y="106"/>
                  <a:pt x="153" y="106"/>
                </a:cubicBezTo>
                <a:cubicBezTo>
                  <a:pt x="246" y="74"/>
                  <a:pt x="137" y="122"/>
                  <a:pt x="200" y="59"/>
                </a:cubicBezTo>
                <a:cubicBezTo>
                  <a:pt x="209" y="50"/>
                  <a:pt x="223" y="51"/>
                  <a:pt x="235" y="47"/>
                </a:cubicBezTo>
                <a:cubicBezTo>
                  <a:pt x="263" y="130"/>
                  <a:pt x="235" y="126"/>
                  <a:pt x="294" y="106"/>
                </a:cubicBezTo>
                <a:cubicBezTo>
                  <a:pt x="329" y="0"/>
                  <a:pt x="295" y="33"/>
                  <a:pt x="353" y="71"/>
                </a:cubicBezTo>
                <a:cubicBezTo>
                  <a:pt x="363" y="78"/>
                  <a:pt x="376" y="79"/>
                  <a:pt x="388" y="83"/>
                </a:cubicBezTo>
                <a:cubicBezTo>
                  <a:pt x="400" y="75"/>
                  <a:pt x="423" y="59"/>
                  <a:pt x="423" y="5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３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87520" y="2502000"/>
            <a:ext cx="79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的，我曾一次又一次地失望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当我爬上那一座座诱惑着我的山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但我又一次次鼓起信心向前走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23720" y="4038480"/>
            <a:ext cx="23601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 “我”的努力，不灰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83680" y="2438280"/>
            <a:ext cx="16437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失望次数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2200" y="3200400"/>
            <a:ext cx="3301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遇到的困难非常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体验与反思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3" name=""/>
          <p:cNvSpPr/>
          <p:nvPr/>
        </p:nvSpPr>
        <p:spPr>
          <a:xfrm>
            <a:off x="1681560" y="190512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诗人成长的探 索一定早己打打动了成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的你，你的生活学习中，一定有无数座山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着你去征服或已被你征服，结合自己的生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说说这首诗给你的启示，把我们的人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与个人体验与同学们分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99480" y="457200"/>
            <a:ext cx="5976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１、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照下面两个例子，描写一种景物表达自己的感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 ①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河边的柳树，俯下身看着自己的倒影，还不忘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一扭腰肢。她一定高兴极了。是啊，春天来了，谁能不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兴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②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太阳发怒了，他把所有的光芒都掷到了地上，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光线像一把把利剑直刺向我，仿佛要挖出我那一颗自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自利的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、完成课后练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31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隶书"/>
              </a:rPr>
              <a:t>课堂小结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诗人在这首诗中所要告诉人们的诗自己的人生感悟与坚定信念，即奔向理想的人生征途是漫长的。但是，只要百折不挠地坚持奋斗，理想境界终将实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知道，要翻过山，见到大海，就必须百折不挠，坚持奋斗。在今后的人生之路上，让我们永远牢记，心中要有个“海”，为了这个“海”，从现在开始，就要努力翻过一座座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295280" y="1066680"/>
            <a:ext cx="692496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1.</a:t>
            </a:r>
            <a:r>
              <a:rPr b="0" lang="zh-CN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新魏"/>
              </a:rPr>
              <a:t>在山的那边</a:t>
            </a:r>
            <a:endParaRPr b="0" lang="en-US" sz="96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29000" y="3200400"/>
            <a:ext cx="1752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王家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4800" y="457200"/>
            <a:ext cx="160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痴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秘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铁青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凝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成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惑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喧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腾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瞬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1680" y="533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发呆地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5956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隐藏，不外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12880" y="17524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青黑色，多形容人恐惧、盛怒或患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时发青的脸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9400" y="2971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凝结而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98480" y="3581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手段，使人认识模糊而做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事；吸引，招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4440" y="480060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喧闹，沸腾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4600" y="5410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一眨眼之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324480" y="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黑体"/>
              </a:rPr>
              <a:t>整体感知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m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609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ch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ní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358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hu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xuā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486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shù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129528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当我爬上那一座座诱惑着我的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但我又一次次鼓起信心向前走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因为我听到海依然在远方为我喧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那雪白的海潮啊，夜夜奔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次次漫湿了我枯干的心灵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吗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人们啊，请相信—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不停地翻过无数座山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次次地战胜失望之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你终会攀上这样一座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而在这座山的那边，就是海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一个全新的世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瞬间照亮你的眼睛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配乐朗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90680" y="-15606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762120"/>
            <a:ext cx="4038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小时候，我常伏在窗口痴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是什么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给我说过：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哦，山那边是海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于是，怀着一种隐秘的想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有一天我终于爬上了那个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可是，我却几乎是哭着回来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依然是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的山啊，铁青着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给我的幻想打了一个零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，那个海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用信念凝成的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今天啊，我竟没想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颗从小飘来的种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却在我的心中扎下了深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，我曾一次又一次地失望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04920"/>
            <a:ext cx="39625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山的那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王家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7147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"/>
          <p:cNvSpPr/>
          <p:nvPr/>
        </p:nvSpPr>
        <p:spPr>
          <a:xfrm>
            <a:off x="4274280" y="1881360"/>
            <a:ext cx="1400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请从不同角度概括诗歌两部分的内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事情看：第一节写“我”渴望海      第二节写“我”追寻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时间看：第一节写我童年时期  第二节写我长大以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029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心理看：第一节写我的向往和困惑   第二节写我的感悟与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172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095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方式看：第一节写我与妈妈的对话     第二节写我与读者的对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/>
          <p:nvPr/>
        </p:nvSpPr>
        <p:spPr>
          <a:xfrm>
            <a:off x="1959480" y="1881360"/>
            <a:ext cx="6026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你认为本文仅仅是在写“山”与“海”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诗文表达了作者怎样的情感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"/>
          <p:cNvSpPr/>
          <p:nvPr/>
        </p:nvSpPr>
        <p:spPr>
          <a:xfrm>
            <a:off x="1866960" y="1881360"/>
            <a:ext cx="5752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中的“山”与“海”蕴含着什么意思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并请从文中找出能点明中心的句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探究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1924200" y="1881360"/>
            <a:ext cx="5209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歌的语言是非常凝练而又有丰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内涵的，请找出你喜欢的并认为含义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刻的诗句细细品味，你不理解的词语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句子也划下来一起讨论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6" name=""/>
          <p:cNvSpPr/>
          <p:nvPr/>
        </p:nvSpPr>
        <p:spPr>
          <a:xfrm>
            <a:off x="1120680" y="182880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范例１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山那边的山啊，铁青着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给我的幻想打了一个零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75440" y="2338560"/>
            <a:ext cx="200952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将山拟人化，表面写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的颜色，实际写自己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情难过，形象生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99960" y="3678120"/>
            <a:ext cx="9122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幻想破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land</cp:lastModifiedBy>
  <dcterms:modified xsi:type="dcterms:W3CDTF">2010-09-05T12:35:0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