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gif" ContentType="image/gif"/>
  <Override PartName="/ppt/media/chimes.wav" ContentType="audio/x-wav"/>
  <Override PartName="/ppt/media/image16.jpeg" ContentType="image/jpeg"/>
  <Override PartName="/ppt/media/image12.gif" ContentType="image/gif"/>
  <Override PartName="/ppt/media/image11.gif" ContentType="image/gif"/>
  <Override PartName="/ppt/media/image14.png" ContentType="image/png"/>
  <Override PartName="/ppt/media/image20.jpeg" ContentType="image/jpeg"/>
  <Override PartName="/ppt/media/image15.jpeg" ContentType="image/jpeg"/>
  <Override PartName="/ppt/media/image9.gif" ContentType="image/gif"/>
  <Override PartName="/ppt/media/image19.jpeg" ContentType="image/jpeg"/>
  <Override PartName="/ppt/media/image18.gif" ContentType="image/gif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E73-813B-468C-9E1E-BB222604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243-78E7-430D-9739-39399EB9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8B5-DFDB-4FD8-BC05-A763253A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425-EAD6-4003-AD77-C4E2084A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396E-7A21-419A-8769-EE644305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EAD5-03F9-4ECE-AC42-FDBBED53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98EE-68B7-40C0-8854-EE832830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CBEF-17FC-4F09-B6C0-1CF7145E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26DA-1866-44A7-B845-E99F165F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6837-1542-4D8C-B07F-626F2AF3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2841-DBD2-43CD-980C-4D4831A7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926-2516-41D4-84B5-A8D5C35C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83C1-448F-4232-965B-6C078769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3DF0-5786-47CB-BAB8-E08FFCE7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BADF-D75A-4BB4-A384-700B8E3B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5998-A1D8-449E-8156-6557CDA5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D1E6-18D5-459D-9C9D-EBD4BF64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D8D99-71B4-48F4-8F67-22420E88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41974-EA2A-4917-B587-8404C12A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520ED-5A20-4EF4-A73F-1076BD6F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B5D36-B0E1-4E54-80F7-2D0D10E3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52E9E-D868-4275-9FB0-BFC1A4FC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F8D-805D-433F-B8BE-E6B91C42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6CCB3-8BFE-4397-A321-669A158D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639E6-515F-4912-B685-4B69CAB8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FBF7B-C73D-4F5A-ACAA-62B6C1AE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F217-B849-41CF-A6E1-A30D66FC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D76B9-CD5D-44E3-9286-D7F49A0F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A2313-8691-4903-8C12-FCF03123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BAB38-91A0-40B7-82B0-187C163D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5DE-E32D-48FC-9C3A-2E651FD8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AC270-B0A7-4935-976C-008A4335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FC0-1BB2-45EE-BE94-E6C0D19B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73B46-DE5A-41D8-85F0-25EB3FC0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E6F06-AAFA-450A-8300-2353AB15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0B8EF-DD20-4676-8828-A6795689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EA65A-0168-4F6C-B873-3D2D1446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E95DB-DAE2-45F5-85FA-27081257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FA708-8140-4EE2-96CA-91CC9CBD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0C69D-848E-456E-BB9F-929339BD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602B3-CC51-4A17-8A88-D8382F64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0DF55-01B7-405E-A894-B0248C11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3FAF9-17B6-45D8-BBB8-B97690D2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45D-A70C-45F6-A578-B1ABF13F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028C6-FB09-4070-85AA-72DAEB53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464-FA4C-4CD8-A029-986BB768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520-A35C-4BCC-B767-801ECA5C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EB5-A637-405F-8289-A9738581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DE3E-8F11-4157-B4C3-C27EDFACA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9320" indent="-1227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491400" indent="-982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687960" indent="-982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884520" indent="-982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E53D-DF71-4CB2-BC58-32DAB314714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83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84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87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CF80-B8B2-464F-82DD-ED1539456CB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0869-D2EE-4C15-86A5-62D41A47A378}" type="slidenum">
              <a:rPr b="0" lang="en-US" sz="14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43280" y="5877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x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244000" y="6308640"/>
            <a:ext cx="900000" cy="549360"/>
          </a:xfrm>
          <a:prstGeom prst="rightArrow">
            <a:avLst>
              <a:gd name="adj1" fmla="val 50000"/>
              <a:gd name="adj2" fmla="val 409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1nm" descr=""/>
          <p:cNvPicPr/>
          <p:nvPr/>
        </p:nvPicPr>
        <p:blipFill>
          <a:blip r:embed="rId1"/>
          <a:stretch/>
        </p:blipFill>
        <p:spPr>
          <a:xfrm>
            <a:off x="0" y="144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03280" y="404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我与父亲不相见已二年余了，我最不能忘记的是他的背景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7636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他用两手攀着上面，两脚再向上缩；他肥胖的身子向左微倾，显出努力的样子，这时我看见他的背影，我的泪很快地流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16000" y="3500280"/>
            <a:ext cx="802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等他的背影混入来来往往的人里，再找不着了，我便进来坐下，我的眼泪又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2000" y="486900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我读到此处，在晶莹的泪光中，又看见那肥胖的、青布棉袍黑布马褂的背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 flipH="1" rot="10800000">
            <a:off x="324000" y="83592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80880" y="15238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文中一共写了父亲四次背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6720" y="2349360"/>
            <a:ext cx="1067040" cy="2895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97800" y="227664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0720" y="227664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64000" y="2349360"/>
            <a:ext cx="1067040" cy="2895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思念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668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父子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674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别后怀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905120" y="5791320"/>
            <a:ext cx="1295280" cy="2635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42670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7816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96720" y="494172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219320" y="685800"/>
            <a:ext cx="5153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合作探究   交流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09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10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13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55640" y="2133720"/>
            <a:ext cx="7920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再读课文 找出课文中着重描写了哪一次背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24000" y="148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547640" y="170028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文章着重描写了父亲买橘子爬月台的时候的背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772640" y="446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Arial"/>
                <a:ea typeface="隶书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324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325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c3e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c3e68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328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fac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ac1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0ae6a"/>
                </a:gs>
                <a:gs pos="100000">
                  <a:srgbClr val="99ff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cec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cec8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843280" y="1773360"/>
            <a:ext cx="590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我看见他戴着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穿着黑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布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深青布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地走到铁道边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慢慢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身下去，尚不大难。可是他穿过铁道 ，要爬上那边月台 ，就不容易了 。他用两手   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 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着上面 ，两脚再向上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；他肥胖的身子向左微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显出努力的样子，这时我看见他的背影 ，我的泪很快地流下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2054160" cy="47530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443640" y="219384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76720" y="1700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黑布小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2133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马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94036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棉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4360" y="2205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蹒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80000" y="26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4000" y="35053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27640" y="38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16360" y="429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74072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0" y="765000"/>
            <a:ext cx="9009000" cy="1052640"/>
            <a:chOff x="0" y="765000"/>
            <a:chExt cx="9009000" cy="1052640"/>
          </a:xfrm>
        </p:grpSpPr>
        <p:grpSp>
          <p:nvGrpSpPr>
            <p:cNvPr id="348" name=""/>
            <p:cNvGrpSpPr/>
            <p:nvPr/>
          </p:nvGrpSpPr>
          <p:grpSpPr>
            <a:xfrm>
              <a:off x="290520" y="873000"/>
              <a:ext cx="711360" cy="474480"/>
              <a:chOff x="290520" y="873000"/>
              <a:chExt cx="711360" cy="474480"/>
            </a:xfrm>
          </p:grpSpPr>
          <p:sp>
            <p:nvSpPr>
              <p:cNvPr id="349" name=""/>
              <p:cNvSpPr/>
              <p:nvPr/>
            </p:nvSpPr>
            <p:spPr>
              <a:xfrm>
                <a:off x="290520" y="873000"/>
                <a:ext cx="437400" cy="474480"/>
              </a:xfrm>
              <a:prstGeom prst="rect">
                <a:avLst/>
              </a:prstGeom>
              <a:solidFill>
                <a:srgbClr val="c3e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73560" y="8730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c3e68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414360" y="1295280"/>
              <a:ext cx="737640" cy="474480"/>
              <a:chOff x="414360" y="1295280"/>
              <a:chExt cx="737640" cy="474480"/>
            </a:xfrm>
          </p:grpSpPr>
          <p:sp>
            <p:nvSpPr>
              <p:cNvPr id="352" name=""/>
              <p:cNvSpPr/>
              <p:nvPr/>
            </p:nvSpPr>
            <p:spPr>
              <a:xfrm>
                <a:off x="414360" y="1295280"/>
                <a:ext cx="421560" cy="474480"/>
              </a:xfrm>
              <a:prstGeom prst="rect">
                <a:avLst/>
              </a:prstGeom>
              <a:solidFill>
                <a:srgbClr val="fac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83360" y="12952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ac1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0" y="12222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0ae6a"/>
                </a:gs>
                <a:gs pos="100000">
                  <a:srgbClr val="99ff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5040" y="765000"/>
              <a:ext cx="31680" cy="1052640"/>
            </a:xfrm>
            <a:prstGeom prst="rect">
              <a:avLst/>
            </a:prstGeom>
            <a:solidFill>
              <a:srgbClr val="cec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16080" y="1586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cec8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703160" y="7142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隶书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35280" y="2059560"/>
            <a:ext cx="48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读父亲过铁道的部分，哪些地方令你感动？</a:t>
            </a: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42920" y="2851560"/>
            <a:ext cx="396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ａ、父亲的穿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ｂ、走路的姿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ｃ、爬月台时的动作</a:t>
            </a:r>
            <a:r>
              <a:rPr b="1" lang="en-US" sz="32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03640" y="29242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宋体"/>
              </a:rPr>
              <a:t>黑、深青</a:t>
            </a:r>
            <a:r>
              <a:rPr b="0" lang="en-US" sz="32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71760" y="385992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蹒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50960" y="4796640"/>
            <a:ext cx="7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探、攀、缩、倾</a:t>
            </a: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34320" y="2666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家境不好，心情忧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3886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年龄大，腿脚不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57800" y="5867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行动不便，艰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2" name="chimes.wav"/>
      </p:stSnd>
    </p:sndAc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1066680"/>
            <a:ext cx="88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这一自然段写父亲主要通过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肖像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  ）描写和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动作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）描写来写父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514600"/>
            <a:ext cx="1130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◆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于是扑扑身上的泥土，心里很轻松似的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父亲为什么会给儿子这样的感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03000" y="4191120"/>
            <a:ext cx="517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父亲尽到了自己的责任，所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心里很轻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0600" y="6037200"/>
            <a:ext cx="382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73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74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77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04920" y="1628640"/>
            <a:ext cx="8458200" cy="1152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亲送儿子上车的过程说的四句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066680" y="3141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要紧，他们去不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40766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买几个橘子去，你就在此地，不要走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71640" y="52293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走了，到那边来信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66680" y="58053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去吧，里边没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539640" y="3309840"/>
            <a:ext cx="625680" cy="3351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33520" y="4221000"/>
            <a:ext cx="625320" cy="3351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468360" y="5302080"/>
            <a:ext cx="625320" cy="3337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533520" y="5950080"/>
            <a:ext cx="625320" cy="3348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7236000" y="2276640"/>
            <a:ext cx="1218960" cy="14475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8683" y="209"/>
                </a:moveTo>
                <a:arcTo wR="-10800" hR="-10800" stAng="-6078223" swAng="-11585606"/>
                <a:lnTo>
                  <a:pt x="6339" y="964"/>
                </a:lnTo>
                <a:arcTo wR="10800" hR="10800" stAng="-6863828" swAng="11585606"/>
                <a:lnTo>
                  <a:pt x="13446" y="24038"/>
                </a:lnTo>
                <a:lnTo>
                  <a:pt x="10269" y="21920"/>
                </a:lnTo>
                <a:lnTo>
                  <a:pt x="12388" y="18743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164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请从文中找出，并体会其中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95640" y="1484280"/>
            <a:ext cx="3744720" cy="11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怜爱儿子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95" name=""/>
          <p:cNvSpPr/>
          <p:nvPr/>
        </p:nvSpPr>
        <p:spPr>
          <a:xfrm>
            <a:off x="1116000" y="9190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事已如此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不必难过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好在天无绝人之路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612720" y="981000"/>
            <a:ext cx="625680" cy="335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5797440" y="1557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父亲的安慰体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076720" y="3213000"/>
            <a:ext cx="35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放心不下的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2720" y="458136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想得十分周到，怕他旅程辛苦，口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41800" y="5661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临别时的谆谆嘱咐，惦念儿子旅途的平安之心跃然纸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4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找到父亲为儿子做的几件事。</a:t>
            </a:r>
            <a:endParaRPr b="1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97164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安慰儿子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送儿子上火车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看行李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过铁道买橘子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写信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33720" y="1676520"/>
            <a:ext cx="1643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慈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87280" y="6237360"/>
            <a:ext cx="63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此我受到了很大的感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0" y="1341360"/>
            <a:ext cx="8458200" cy="129564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写了“我”几次流泪？我流泪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29718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悲哀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感动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9640" y="5805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伤心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30481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见父亲，睹家境，想祖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40687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望父买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48000" y="595008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现背影，泪光莹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39640" y="4869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依恋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492360" y="4941720"/>
            <a:ext cx="2303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子离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40464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724200" cy="4886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924360" y="185760"/>
            <a:ext cx="48956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朱自清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898—194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佩弦，现代著名诗人，散文家，学者，  民主战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一生勤奋，共有诗歌、散文、评论、学术研究等著作，约二百多万字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有诗文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踪迹》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欧旅杂记》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散文代表作有《春》、《荷塘月色》、《背影》、《绿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420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421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424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7200" y="2133720"/>
            <a:ext cx="8001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请简要概括课文的中心意思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11280" y="306864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课文通过对父亲背影的描写，于叙事中表现了父亲疼爱儿子，儿子怜爱父亲，父子情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0" y="0"/>
            <a:ext cx="201600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讨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1268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课文第五段中，作者一再说自己“聪明过分”“太聪明”，为什么这样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44720" y="249228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语，对当时不理解父爱的自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6720" y="3213000"/>
            <a:ext cx="75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有人说，本文失之伤感。“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岁的大男孩是不是还要父亲这么照顾，而面临离分别，是不是会这么容易流泪，我很怀疑。”你的看法呢？可以与大家讨论一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16000" y="1267920"/>
            <a:ext cx="7772400" cy="20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《背影》写的虽只是“芝麻黄豆大的事”，却称得上是朱自清先生“精神产品的独创”因其品味之高，感人之深，备受推崇。</a:t>
            </a:r>
            <a:endParaRPr b="1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627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774072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00000" y="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dbf7d"/>
                </a:solidFill>
                <a:latin typeface="黑体"/>
                <a:ea typeface="黑体"/>
              </a:rPr>
              <a:t>父亲是一座山，伟大而坚强。严酷的现实扭曲了情感，沉重的负担压弯了脊背，他从无怨言，默默地用点点血汗，以透支的生命为儿女们开出一条成功之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</a:rPr>
              <a:t>世间的情千万种，只有爱最崇高；世间的爱千万种，惟有父母之爱最无私。时间的长河可以带走一切，但带不走父母的爱。它已深入我们的骨髓，溶入我们的血液。这爱留在我们的心中，时刻温暖我们的生命历程。</a:t>
            </a:r>
            <a:endParaRPr b="1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图片1nm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476360" y="836640"/>
            <a:ext cx="6913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布置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请学习本文的写法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一侧面来写人物的方法，如以“爸爸的手”、“妈妈的笑” ……为话题，写一篇练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7160" y="231840"/>
            <a:ext cx="8910360" cy="6626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828800" y="380880"/>
            <a:ext cx="374796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Verdana"/>
                <a:ea typeface="华文新魏"/>
              </a:rPr>
              <a:t>写作背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628640"/>
            <a:ext cx="6858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《背影》写于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月，当时作者在清华大学任教。本文是作者追忆八年前的往事。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1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冬，作者祖母去世，父亲朱鸿钧原任徐州烟酒公卖局局长，被解职。文中的“祸不单行”正是指这两件事。作者当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岁，在北大哲学系读书，得知祖母去世，从北京赶到徐州与父亲一道回扬州奔丧。丧事完毕，父亲到南京找工作，作者回北京念书，父子在浦口车站惜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43280" y="5877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x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244000" y="6308640"/>
            <a:ext cx="900000" cy="549360"/>
          </a:xfrm>
          <a:prstGeom prst="rightArrow">
            <a:avLst>
              <a:gd name="adj1" fmla="val 50000"/>
              <a:gd name="adj2" fmla="val 409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有声读物-背影" descr=""/>
          <p:cNvPicPr/>
          <p:nvPr/>
        </p:nvPicPr>
        <p:blipFill>
          <a:blip r:embed="rId2"/>
          <a:stretch/>
        </p:blipFill>
        <p:spPr>
          <a:xfrm>
            <a:off x="468360" y="5950080"/>
            <a:ext cx="1150920" cy="647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134440" y="-23760"/>
            <a:ext cx="56905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记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散文，写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。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者曾说：“我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，就因为文中所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父亲的来信那句话。当时读了父亲的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是泪如泉涌。我父亲待我的许多好处，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里所叙述的那一回，想起来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眼前一般无二。我这篇文只是写实，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1nm" descr=""/>
          <p:cNvPicPr/>
          <p:nvPr/>
        </p:nvPicPr>
        <p:blipFill>
          <a:blip r:embed="rId1"/>
          <a:stretch/>
        </p:blipFill>
        <p:spPr>
          <a:xfrm>
            <a:off x="0" y="144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33164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交卸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奔丧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 狼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簌簌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典质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赋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颓唐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琐屑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蹒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踌躇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触目伤怀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情郁于中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祸不单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1125360"/>
            <a:ext cx="64789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iè            sāng             jí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ù                            f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uí           suǒxiè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ánsh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60199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4653000"/>
            <a:ext cx="6767280" cy="519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2240" y="419040"/>
            <a:ext cx="49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读下列生字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22200" y="26028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99"/>
                </a:solidFill>
                <a:latin typeface="Tahoma"/>
              </a:rPr>
              <a:t>思      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981000"/>
            <a:ext cx="59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《背影》这篇散文因其成功地描述了“父爱”这一主题而被人们广为传诵。读完这篇散文之后，你觉得作者是通过选取什么角度来表达“父爱”这一主题的？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5013360"/>
            <a:ext cx="5327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作者是通过选取“背影”这个角度来表达“父爱”这一主题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" y="1752480"/>
            <a:ext cx="1219320" cy="3810240"/>
          </a:xfrm>
          <a:prstGeom prst="upDownArrow">
            <a:avLst>
              <a:gd name="adj1" fmla="val 50000"/>
              <a:gd name="adj2" fmla="val 62498"/>
            </a:avLst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82880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篇设疑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思念父亲）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悲凉气氛 别时家境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2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铺垫背影 细心关照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4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刻画背影 </a:t>
            </a:r>
            <a:r>
              <a:rPr b="1" lang="zh-CN" sz="2800" spc="-1" strike="noStrike">
                <a:solidFill>
                  <a:srgbClr val="b74e07"/>
                </a:solidFill>
                <a:latin typeface="黑体"/>
                <a:ea typeface="黑体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　　 </a:t>
            </a:r>
            <a:r>
              <a:rPr b="1" lang="zh-CN" sz="3600" spc="-1" strike="noStrike">
                <a:solidFill>
                  <a:srgbClr val="b74e07"/>
                </a:solidFill>
                <a:latin typeface="Arial"/>
              </a:rPr>
              <a:t>父子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惜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别后思念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再现背影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7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44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45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48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段落层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 rot="5400000">
            <a:off x="189720" y="3390840"/>
            <a:ext cx="175284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父子情深</a:t>
            </a:r>
            <a:endParaRPr b="1" lang="en-US" sz="20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828800" y="3429000"/>
            <a:ext cx="1371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回忆往事</a:t>
            </a:r>
            <a:endParaRPr b="1" lang="en-US" sz="1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010280" y="3962520"/>
            <a:ext cx="1335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宋体"/>
              </a:rPr>
              <a:t>6</a:t>
            </a:r>
            <a:endParaRPr b="0" lang="en-US" sz="2000" spc="-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宋体"/>
              <a:ea typeface="宋体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11280" y="1628640"/>
            <a:ext cx="81532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读课文感知主要内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下列各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找出本文的文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文眼”就是“揭全文主旨”的关键句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读出了文眼，就读出了中心。文眼常常出现在开头或结尾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59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60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63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476360" y="47628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4360" y="1700280"/>
            <a:ext cx="82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找出本文的文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5640" y="1844640"/>
            <a:ext cx="708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73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74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77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42920" y="2349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我最不能忘记的是他的背影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3213000"/>
            <a:ext cx="678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8720" y="3502080"/>
            <a:ext cx="66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文中一共写了父亲几次背影？请同学们找出句子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2:38:46Z</dcterms:created>
  <dc:creator>user</dc:creator>
  <dc:description/>
  <dc:language>en-US</dc:language>
  <cp:lastModifiedBy>User</cp:lastModifiedBy>
  <cp:lastPrinted>1900-01-04T05:08:28Z</cp:lastPrinted>
  <dcterms:modified xsi:type="dcterms:W3CDTF">2010-10-13T00:37:45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