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gif" ContentType="image/gif"/>
  <Override PartName="/ppt/media/chimes.wav" ContentType="audio/x-wav"/>
  <Override PartName="/ppt/media/image16.jpeg" ContentType="image/jpeg"/>
  <Override PartName="/ppt/media/image12.gif" ContentType="image/gif"/>
  <Override PartName="/ppt/media/image11.gif" ContentType="image/gif"/>
  <Override PartName="/ppt/media/image14.png" ContentType="image/png"/>
  <Override PartName="/ppt/media/image20.jpeg" ContentType="image/jpeg"/>
  <Override PartName="/ppt/media/image15.jpeg" ContentType="image/jpeg"/>
  <Override PartName="/ppt/media/image9.gif" ContentType="image/gif"/>
  <Override PartName="/ppt/media/image19.jpeg" ContentType="image/jpeg"/>
  <Override PartName="/ppt/media/image18.gif" ContentType="image/gif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D7FB-E790-44D5-AE9E-D6685A79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9665-7006-450D-96CF-0A4025CE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36A7-A3AE-4A55-8ADC-2E38AA98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9161-FC9F-447D-8803-C28AE9FD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8887-BB21-4290-B407-0DE67C50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849A-C313-4C29-8279-64A34B2D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8D9E-2119-4529-9D17-35EA3CB8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11E6-E7F6-414B-8175-6AA32790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8237-326B-4678-B4BB-3EC9D215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8EBD-476D-4C5C-B718-195ED733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9CE0-75FC-4A44-B3C1-9E1B31B6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4A92-149D-4F9E-8957-56946D72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7E68-877B-442D-8736-9E7BB195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51C9-720E-4FC1-8055-C1EFCE6C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4626-282E-492B-8AA8-8AE877D4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9C50-FEC3-477B-A97B-21CC3D0F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E4C7-B710-443B-82EA-CE0C566F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0B0C6-3C5C-4FBB-8870-60BD5C67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E99A4-69B6-451F-BD38-1F6E30A1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CCFA3-1547-4E2F-8ED4-7C0C7E69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7493C-1F2D-49B7-9416-516A28FF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4CBE0-0249-4BA3-9C1D-373F9D8B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B24B-E8F7-42A2-BF46-C826F3A3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09282-DA65-41F7-B2D3-4E4E6D5F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F735B-662D-4947-B4F9-49E7A103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70E3D-E9BF-48AE-A393-3F69728A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8332D-DF92-4B82-AA98-ED5D472A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F01B2-9F8E-4B95-A98E-8627285E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AAE51-A395-409D-80E6-2822B85D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DF8D2-4640-4DFE-92A1-0DD5C46B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ACE5-30FE-4530-BEF0-DB062586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AA532-FC64-45B9-B0F2-C897F992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62B9-D29E-41E5-B583-6CB1A4BC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EEF81-C899-4F55-8BE3-45B09EC4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697AC-CAE6-4062-8043-8FBFC26A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371C0-0F1E-41D5-A73F-CE713EF6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85A13-00BA-41A0-AA52-5313141A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B29AD-E379-477B-B30B-049FF68B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0C9BC-9A5F-45F9-BA61-FDCC3651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FD793-A127-4CB9-8E6B-37439E23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9BCBC-3953-442C-8C5C-C67752CC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0747F-6FFB-4E1E-8187-300D3C79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45C6F-F42E-4B9F-8722-B299EC17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52F7-09A7-4B7C-B51B-AAB9126F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FD0F0-98E3-4C44-8D17-2FD94BE5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5046-0D49-4237-B22B-E992F76A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6159-7429-4800-AD16-4BAB58B8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4669-CB48-4A2A-A9E6-19DAD84D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19CF-46CD-4A32-8C11-343F0DAC4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82600" y="1905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19320" indent="-1227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491400" indent="-982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687960" indent="-982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884520" indent="-982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884520" indent="-982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884520" indent="-982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2196-4F97-4594-9F06-97C088BA39D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83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84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87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12AF-52F4-4564-8903-F2F27E873F7A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B977-A673-41A2-B09A-D0F10EB47728}" type="slidenum">
              <a:rPr b="0" lang="en-US" sz="1400" spc="-1" strike="noStrike">
                <a:solidFill>
                  <a:srgbClr val="2a3d7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43280" y="5877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x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8244000" y="6308640"/>
            <a:ext cx="900000" cy="549360"/>
          </a:xfrm>
          <a:prstGeom prst="rightArrow">
            <a:avLst>
              <a:gd name="adj1" fmla="val 50000"/>
              <a:gd name="adj2" fmla="val 409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图片1nm" descr=""/>
          <p:cNvPicPr/>
          <p:nvPr/>
        </p:nvPicPr>
        <p:blipFill>
          <a:blip r:embed="rId1"/>
          <a:stretch/>
        </p:blipFill>
        <p:spPr>
          <a:xfrm>
            <a:off x="0" y="1440"/>
            <a:ext cx="9036000" cy="68137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03280" y="404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我与父亲不相见已二年余了，我最不能忘记的是他的背景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76360" y="1484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他用两手攀着上面，两脚再向上缩；他肥胖的身子向左微倾，显出努力的样子，这时我看见他的背影，我的泪很快地流下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16000" y="3500280"/>
            <a:ext cx="8028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等他的背影混入来来往往的人里，再找不着了，我便进来坐下，我的眼泪又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32000" y="4869000"/>
            <a:ext cx="78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我读到此处，在晶莹的泪光中，又看见那肥胖的、青布棉袍黑布马褂的背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09480" y="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讨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 flipH="1" rot="10800000">
            <a:off x="324000" y="83592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380880" y="152388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文中一共写了父亲四次背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6720" y="2349360"/>
            <a:ext cx="1067040" cy="28958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fccff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597800" y="2276640"/>
            <a:ext cx="106668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fccff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60720" y="2276640"/>
            <a:ext cx="106668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fccff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64000" y="2349360"/>
            <a:ext cx="1067040" cy="28958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fccff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思念父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66880" y="5653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望父买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父子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67480" y="5653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别后怀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1905120" y="5791320"/>
            <a:ext cx="1295280" cy="2635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4267080" y="5791320"/>
            <a:ext cx="1295640" cy="263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6781680" y="5791320"/>
            <a:ext cx="1295640" cy="263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96720" y="494172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别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219320" y="685800"/>
            <a:ext cx="5153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合作探究   交流讨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309" name=""/>
            <p:cNvGrpSpPr/>
            <p:nvPr/>
          </p:nvGrpSpPr>
          <p:grpSpPr>
            <a:xfrm>
              <a:off x="290520" y="869760"/>
              <a:ext cx="711360" cy="474120"/>
              <a:chOff x="290520" y="869760"/>
              <a:chExt cx="711360" cy="474120"/>
            </a:xfrm>
          </p:grpSpPr>
          <p:sp>
            <p:nvSpPr>
              <p:cNvPr id="310" name=""/>
              <p:cNvSpPr/>
              <p:nvPr/>
            </p:nvSpPr>
            <p:spPr>
              <a:xfrm>
                <a:off x="290520" y="869760"/>
                <a:ext cx="437400" cy="4741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73560" y="869760"/>
                <a:ext cx="32832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414360" y="1292040"/>
              <a:ext cx="737640" cy="474120"/>
              <a:chOff x="414360" y="1292040"/>
              <a:chExt cx="737640" cy="474120"/>
            </a:xfrm>
          </p:grpSpPr>
          <p:sp>
            <p:nvSpPr>
              <p:cNvPr id="313" name=""/>
              <p:cNvSpPr/>
              <p:nvPr/>
            </p:nvSpPr>
            <p:spPr>
              <a:xfrm>
                <a:off x="414360" y="1292040"/>
                <a:ext cx="421560" cy="474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83360" y="1292040"/>
                <a:ext cx="3686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16080" y="15836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55640" y="2133720"/>
            <a:ext cx="7920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再读课文 找出课文中着重描写了哪一次背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7391520" y="5334120"/>
            <a:ext cx="1120680" cy="9493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24000" y="148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547640" y="170028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文章着重描写了父亲买橘子爬月台的时候的背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772640" y="446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Arial"/>
                <a:ea typeface="隶书"/>
              </a:rPr>
              <a:t>朗读与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324" name=""/>
            <p:cNvGrpSpPr/>
            <p:nvPr/>
          </p:nvGrpSpPr>
          <p:grpSpPr>
            <a:xfrm>
              <a:off x="425520" y="565200"/>
              <a:ext cx="711360" cy="474480"/>
              <a:chOff x="425520" y="565200"/>
              <a:chExt cx="711360" cy="474480"/>
            </a:xfrm>
          </p:grpSpPr>
          <p:sp>
            <p:nvSpPr>
              <p:cNvPr id="325" name=""/>
              <p:cNvSpPr/>
              <p:nvPr/>
            </p:nvSpPr>
            <p:spPr>
              <a:xfrm>
                <a:off x="425520" y="565200"/>
                <a:ext cx="437400" cy="474480"/>
              </a:xfrm>
              <a:prstGeom prst="rect">
                <a:avLst/>
              </a:prstGeom>
              <a:solidFill>
                <a:srgbClr val="c3e6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08560" y="5652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c3e68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549360" y="987480"/>
              <a:ext cx="737640" cy="474480"/>
              <a:chOff x="549360" y="987480"/>
              <a:chExt cx="737640" cy="474480"/>
            </a:xfrm>
          </p:grpSpPr>
          <p:sp>
            <p:nvSpPr>
              <p:cNvPr id="328" name=""/>
              <p:cNvSpPr/>
              <p:nvPr/>
            </p:nvSpPr>
            <p:spPr>
              <a:xfrm>
                <a:off x="549360" y="987480"/>
                <a:ext cx="421560" cy="474480"/>
              </a:xfrm>
              <a:prstGeom prst="rect">
                <a:avLst/>
              </a:prstGeom>
              <a:solidFill>
                <a:srgbClr val="fac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918360" y="9874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ac16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b0ae6a"/>
                </a:gs>
                <a:gs pos="100000">
                  <a:srgbClr val="99ff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cec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451080" y="12783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cec8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2843280" y="1773360"/>
            <a:ext cx="590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我看见他戴着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，穿着黑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布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，深青布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，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地走到铁道边</a:t>
            </a:r>
            <a:r>
              <a:rPr b="1" lang="en-US" sz="2800" spc="-1" strike="noStrike">
                <a:solidFill>
                  <a:srgbClr val="5b5249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慢慢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身下去，尚不大难。可是他穿过铁道 ，要爬上那边月台 ，就不容易了 。他用两手      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    </a:t>
            </a:r>
            <a:r>
              <a:rPr b="1" lang="en-US" sz="2800" spc="-1" strike="noStrike">
                <a:solidFill>
                  <a:srgbClr val="5b5249"/>
                </a:solidFill>
                <a:latin typeface="宋体"/>
              </a:rPr>
              <a:t>   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5b5249"/>
                </a:solidFill>
                <a:latin typeface="宋体"/>
              </a:rPr>
              <a:t>    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         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着上面 ，两脚再向上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；他肥胖的身子向左微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</a:t>
            </a:r>
            <a:r>
              <a:rPr b="1" lang="en-US" sz="2800" spc="-1" strike="noStrike">
                <a:solidFill>
                  <a:srgbClr val="5b5249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显出努力的样子，这时我看见他的背影 ，我的泪很快地流下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2054160" cy="47530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6443640" y="219384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76720" y="1700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黑布小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76720" y="21337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马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940360" y="2205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棉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64360" y="2205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蹒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80000" y="2637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4000" y="350532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27640" y="38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716360" y="4292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740720" y="640080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1600" h="21600">
                <a:moveTo>
                  <a:pt x="10800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1600" h="21600">
                <a:moveTo>
                  <a:pt x="8210" y="8210"/>
                </a:moveTo>
                <a:lnTo>
                  <a:pt x="12095" y="8210"/>
                </a:lnTo>
                <a:lnTo>
                  <a:pt x="12095" y="15245"/>
                </a:lnTo>
                <a:lnTo>
                  <a:pt x="13390" y="15245"/>
                </a:lnTo>
                <a:lnTo>
                  <a:pt x="13390" y="16173"/>
                </a:lnTo>
                <a:lnTo>
                  <a:pt x="8210" y="16173"/>
                </a:lnTo>
                <a:lnTo>
                  <a:pt x="8210" y="15245"/>
                </a:lnTo>
                <a:lnTo>
                  <a:pt x="9505" y="15245"/>
                </a:lnTo>
                <a:lnTo>
                  <a:pt x="9505" y="9120"/>
                </a:lnTo>
                <a:lnTo>
                  <a:pt x="8210" y="9120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" action="ppaction://hlinkshowjump?jump=previousslide"/>
          </p:cNvPr>
          <p:cNvSpPr/>
          <p:nvPr/>
        </p:nvSpPr>
        <p:spPr>
          <a:xfrm>
            <a:off x="8172360" y="640080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8440 w 533520"/>
              <a:gd name="textAreaRight" fmla="*/ 505080 w 5335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53" y="1350"/>
                </a:lnTo>
                <a:lnTo>
                  <a:pt x="1350" y="135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53" y="20250"/>
                </a:lnTo>
                <a:lnTo>
                  <a:pt x="23853" y="135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853" y="2025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203" h="21600">
                <a:moveTo>
                  <a:pt x="5558" y="3756"/>
                </a:moveTo>
                <a:lnTo>
                  <a:pt x="19645" y="10800"/>
                </a:lnTo>
                <a:lnTo>
                  <a:pt x="5558" y="17844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0" y="765000"/>
            <a:ext cx="9009000" cy="1052640"/>
            <a:chOff x="0" y="765000"/>
            <a:chExt cx="9009000" cy="1052640"/>
          </a:xfrm>
        </p:grpSpPr>
        <p:grpSp>
          <p:nvGrpSpPr>
            <p:cNvPr id="348" name=""/>
            <p:cNvGrpSpPr/>
            <p:nvPr/>
          </p:nvGrpSpPr>
          <p:grpSpPr>
            <a:xfrm>
              <a:off x="290520" y="873000"/>
              <a:ext cx="711360" cy="474480"/>
              <a:chOff x="290520" y="873000"/>
              <a:chExt cx="711360" cy="474480"/>
            </a:xfrm>
          </p:grpSpPr>
          <p:sp>
            <p:nvSpPr>
              <p:cNvPr id="349" name=""/>
              <p:cNvSpPr/>
              <p:nvPr/>
            </p:nvSpPr>
            <p:spPr>
              <a:xfrm>
                <a:off x="290520" y="873000"/>
                <a:ext cx="437400" cy="474480"/>
              </a:xfrm>
              <a:prstGeom prst="rect">
                <a:avLst/>
              </a:prstGeom>
              <a:solidFill>
                <a:srgbClr val="c3e6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73560" y="8730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c3e68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414360" y="1295280"/>
              <a:ext cx="737640" cy="474480"/>
              <a:chOff x="414360" y="1295280"/>
              <a:chExt cx="737640" cy="474480"/>
            </a:xfrm>
          </p:grpSpPr>
          <p:sp>
            <p:nvSpPr>
              <p:cNvPr id="352" name=""/>
              <p:cNvSpPr/>
              <p:nvPr/>
            </p:nvSpPr>
            <p:spPr>
              <a:xfrm>
                <a:off x="414360" y="1295280"/>
                <a:ext cx="421560" cy="474480"/>
              </a:xfrm>
              <a:prstGeom prst="rect">
                <a:avLst/>
              </a:prstGeom>
              <a:solidFill>
                <a:srgbClr val="fac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83360" y="12952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ac16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0" y="12222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b0ae6a"/>
                </a:gs>
                <a:gs pos="100000">
                  <a:srgbClr val="99ff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5040" y="765000"/>
              <a:ext cx="31680" cy="1052640"/>
            </a:xfrm>
            <a:prstGeom prst="rect">
              <a:avLst/>
            </a:prstGeom>
            <a:solidFill>
              <a:srgbClr val="cec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316080" y="15861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cec8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1703160" y="7142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Arial"/>
                <a:ea typeface="隶书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735280" y="2059560"/>
            <a:ext cx="487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Arial"/>
              </a:rPr>
              <a:t>读父亲过铁道的部分，哪些地方令你感动？</a:t>
            </a:r>
            <a:r>
              <a:rPr b="1" lang="en-US" sz="18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42920" y="2851560"/>
            <a:ext cx="396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宋体"/>
              </a:rPr>
              <a:t>ａ、父亲的穿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宋体"/>
              </a:rPr>
              <a:t>ｂ、走路的姿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宋体"/>
              </a:rPr>
              <a:t>ｃ、爬月台时的动作</a:t>
            </a:r>
            <a:r>
              <a:rPr b="1" lang="en-US" sz="3200" spc="-1" strike="noStrike">
                <a:solidFill>
                  <a:srgbClr val="5b5249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003640" y="292428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宋体"/>
              </a:rPr>
              <a:t>黑、深青</a:t>
            </a:r>
            <a:r>
              <a:rPr b="0" lang="en-US" sz="3200" spc="-1" strike="noStrike">
                <a:solidFill>
                  <a:srgbClr val="5b5249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71760" y="385992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蹒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50960" y="4796640"/>
            <a:ext cx="79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探、攀、缩、倾</a:t>
            </a:r>
            <a:r>
              <a:rPr b="1" lang="en-US" sz="18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" action="ppaction://hlinkshowjump?jump=previousslide"/>
          </p:cNvPr>
          <p:cNvSpPr/>
          <p:nvPr/>
        </p:nvSpPr>
        <p:spPr>
          <a:xfrm>
            <a:off x="8172360" y="640080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8440 w 533520"/>
              <a:gd name="textAreaRight" fmla="*/ 505080 w 5335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53" y="1350"/>
                </a:lnTo>
                <a:lnTo>
                  <a:pt x="1350" y="135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53" y="20250"/>
                </a:lnTo>
                <a:lnTo>
                  <a:pt x="23853" y="135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853" y="2025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203" h="21600">
                <a:moveTo>
                  <a:pt x="5558" y="3756"/>
                </a:moveTo>
                <a:lnTo>
                  <a:pt x="19645" y="10800"/>
                </a:lnTo>
                <a:lnTo>
                  <a:pt x="5558" y="17844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34320" y="2666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家境不好，心情忧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3886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年龄大，腿脚不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57800" y="5867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行动不便，艰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  <p:sndAc>
      <p:stSnd>
        <p:snd r:embed="rId2" name="chimes.wav"/>
      </p:stSnd>
    </p:sndAc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57200" y="1066680"/>
            <a:ext cx="886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 ◆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这一自然段写父亲主要通过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肖像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   ）描写和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动作 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）描写来写父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2514600"/>
            <a:ext cx="1130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◆“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于是扑扑身上的泥土，心里很轻松似的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父亲为什么会给儿子这样的感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503000" y="4191120"/>
            <a:ext cx="517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父亲尽到了自己的责任，所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心里很轻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90600" y="6037200"/>
            <a:ext cx="382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语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373" name=""/>
            <p:cNvGrpSpPr/>
            <p:nvPr/>
          </p:nvGrpSpPr>
          <p:grpSpPr>
            <a:xfrm>
              <a:off x="290520" y="869760"/>
              <a:ext cx="711360" cy="474120"/>
              <a:chOff x="290520" y="869760"/>
              <a:chExt cx="711360" cy="474120"/>
            </a:xfrm>
          </p:grpSpPr>
          <p:sp>
            <p:nvSpPr>
              <p:cNvPr id="374" name=""/>
              <p:cNvSpPr/>
              <p:nvPr/>
            </p:nvSpPr>
            <p:spPr>
              <a:xfrm>
                <a:off x="290520" y="869760"/>
                <a:ext cx="437400" cy="4741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73560" y="869760"/>
                <a:ext cx="32832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414360" y="1292040"/>
              <a:ext cx="737640" cy="474120"/>
              <a:chOff x="414360" y="1292040"/>
              <a:chExt cx="737640" cy="474120"/>
            </a:xfrm>
          </p:grpSpPr>
          <p:sp>
            <p:nvSpPr>
              <p:cNvPr id="377" name=""/>
              <p:cNvSpPr/>
              <p:nvPr/>
            </p:nvSpPr>
            <p:spPr>
              <a:xfrm>
                <a:off x="414360" y="1292040"/>
                <a:ext cx="421560" cy="474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83360" y="1292040"/>
                <a:ext cx="3686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316080" y="15836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304920" y="1628640"/>
            <a:ext cx="8458200" cy="1152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父亲送儿子上车的过程说的四句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7696080" y="5867280"/>
            <a:ext cx="1143000" cy="6858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1066680" y="3141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要紧，他们去不好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407664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买几个橘子去，你就在此地，不要走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71640" y="52293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走了，到那边来信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066680" y="58053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去吧，里边没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539640" y="3309840"/>
            <a:ext cx="625680" cy="3351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33520" y="4221000"/>
            <a:ext cx="625320" cy="3351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468360" y="5302080"/>
            <a:ext cx="625320" cy="3337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533520" y="5950080"/>
            <a:ext cx="625320" cy="3348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7236000" y="2276640"/>
            <a:ext cx="1218960" cy="144756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8683" y="209"/>
                </a:moveTo>
                <a:arcTo wR="-10800" hR="-10800" stAng="-6078223" swAng="-11585606"/>
                <a:lnTo>
                  <a:pt x="6339" y="964"/>
                </a:lnTo>
                <a:arcTo wR="10800" hR="10800" stAng="-6863828" swAng="11585606"/>
                <a:lnTo>
                  <a:pt x="13446" y="24038"/>
                </a:lnTo>
                <a:lnTo>
                  <a:pt x="10269" y="21920"/>
                </a:lnTo>
                <a:lnTo>
                  <a:pt x="12388" y="18743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7164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请从文中找出，并体会其中的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195640" y="1484280"/>
            <a:ext cx="3744720" cy="110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怜爱儿子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95" name=""/>
          <p:cNvSpPr/>
          <p:nvPr/>
        </p:nvSpPr>
        <p:spPr>
          <a:xfrm>
            <a:off x="1116000" y="9190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事已如此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不必难过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好在天无绝人之路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7"/>
          <a:stretch/>
        </p:blipFill>
        <p:spPr>
          <a:xfrm>
            <a:off x="612720" y="981000"/>
            <a:ext cx="625680" cy="3351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5797440" y="1557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父亲的安慰体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076720" y="3213000"/>
            <a:ext cx="354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放心不下的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292720" y="458136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想得十分周到，怕他旅程辛苦，口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141800" y="566100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临别时的谆谆嘱咐，惦念儿子旅途的平安之心跃然纸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4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4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找到父亲为儿子做的几件事。</a:t>
            </a:r>
            <a:endParaRPr b="1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97164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安慰儿子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送儿子上火车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看行李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过铁道买橘子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写信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33720" y="1676520"/>
            <a:ext cx="1643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隶书"/>
              </a:rPr>
              <a:t>慈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87280" y="6237360"/>
            <a:ext cx="63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为此我受到了很大的感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2" name="chimes.wav"/>
      </p:stSnd>
    </p:sndAc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讨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 flipH="1" rot="10800000">
            <a:off x="304920" y="114228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0" y="1341360"/>
            <a:ext cx="8458200" cy="129564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课文写了“我”几次流泪？我流泪的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29718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悲哀之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40384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感动之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9640" y="5805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伤心之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352680" y="304812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见父亲，睹家境，想祖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406872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望父买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48000" y="595008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现背影，泪光莹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539640" y="48690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依恋之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492360" y="4941720"/>
            <a:ext cx="2303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父子离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40464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724200" cy="48862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924360" y="185760"/>
            <a:ext cx="489564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朱自清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898—194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字佩弦，现代著名诗人，散文家，学者，  民主战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他一生勤奋，共有诗歌、散文、评论、学术研究等著作，约二百多万字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有诗文集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踪迹》、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欧旅杂记》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散文代表作有《春》、《荷塘月色》、《背影》、《绿》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导学达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420" name=""/>
            <p:cNvGrpSpPr/>
            <p:nvPr/>
          </p:nvGrpSpPr>
          <p:grpSpPr>
            <a:xfrm>
              <a:off x="290520" y="869760"/>
              <a:ext cx="711360" cy="474120"/>
              <a:chOff x="290520" y="869760"/>
              <a:chExt cx="711360" cy="474120"/>
            </a:xfrm>
          </p:grpSpPr>
          <p:sp>
            <p:nvSpPr>
              <p:cNvPr id="421" name=""/>
              <p:cNvSpPr/>
              <p:nvPr/>
            </p:nvSpPr>
            <p:spPr>
              <a:xfrm>
                <a:off x="290520" y="869760"/>
                <a:ext cx="437400" cy="4741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73560" y="869760"/>
                <a:ext cx="32832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414360" y="1292040"/>
              <a:ext cx="737640" cy="474120"/>
              <a:chOff x="414360" y="1292040"/>
              <a:chExt cx="737640" cy="474120"/>
            </a:xfrm>
          </p:grpSpPr>
          <p:sp>
            <p:nvSpPr>
              <p:cNvPr id="424" name=""/>
              <p:cNvSpPr/>
              <p:nvPr/>
            </p:nvSpPr>
            <p:spPr>
              <a:xfrm>
                <a:off x="414360" y="1292040"/>
                <a:ext cx="421560" cy="474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83360" y="1292040"/>
                <a:ext cx="3686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316080" y="15836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7200" y="2133720"/>
            <a:ext cx="8001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请简要概括课文的中心意思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7391520" y="5334120"/>
            <a:ext cx="1120680" cy="9493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611280" y="306864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课文通过对父亲背影的描写，于叙事中表现了父亲疼爱儿子，儿子怜爱父亲，父子情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0" y="0"/>
            <a:ext cx="201600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讨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12682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课文第五段中，作者一再说自己“聪明过分”“太聪明”，为什么这样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044720" y="249228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反语，对当时不理解父爱的自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96720" y="3213000"/>
            <a:ext cx="752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有人说，本文失之伤感。“一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岁的大男孩是不是还要父亲这么照顾，而面临离分别，是不是会这么容易流泪，我很怀疑。”你的看法呢？可以与大家讨论一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16000" y="1267920"/>
            <a:ext cx="7772400" cy="20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《背影》写的虽只是“芝麻黄豆大的事”，却称得上是朱自清先生“精神产品的独创”因其品味之高，感人之深，备受推崇。</a:t>
            </a:r>
            <a:endParaRPr b="1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6276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7740720" y="640080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1600" h="21600">
                <a:moveTo>
                  <a:pt x="10800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1600" h="21600">
                <a:moveTo>
                  <a:pt x="8210" y="8210"/>
                </a:moveTo>
                <a:lnTo>
                  <a:pt x="12095" y="8210"/>
                </a:lnTo>
                <a:lnTo>
                  <a:pt x="12095" y="15245"/>
                </a:lnTo>
                <a:lnTo>
                  <a:pt x="13390" y="15245"/>
                </a:lnTo>
                <a:lnTo>
                  <a:pt x="13390" y="16173"/>
                </a:lnTo>
                <a:lnTo>
                  <a:pt x="8210" y="16173"/>
                </a:lnTo>
                <a:lnTo>
                  <a:pt x="8210" y="15245"/>
                </a:lnTo>
                <a:lnTo>
                  <a:pt x="9505" y="15245"/>
                </a:lnTo>
                <a:lnTo>
                  <a:pt x="9505" y="9120"/>
                </a:lnTo>
                <a:lnTo>
                  <a:pt x="8210" y="9120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" action="ppaction://hlinkshowjump?jump=previousslide"/>
          </p:cNvPr>
          <p:cNvSpPr/>
          <p:nvPr/>
        </p:nvSpPr>
        <p:spPr>
          <a:xfrm>
            <a:off x="8172360" y="640080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8440 w 533520"/>
              <a:gd name="textAreaRight" fmla="*/ 505080 w 5335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53" y="1350"/>
                </a:lnTo>
                <a:lnTo>
                  <a:pt x="1350" y="135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53" y="20250"/>
                </a:lnTo>
                <a:lnTo>
                  <a:pt x="23853" y="135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853" y="2025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203" h="21600">
                <a:moveTo>
                  <a:pt x="5558" y="3756"/>
                </a:moveTo>
                <a:lnTo>
                  <a:pt x="19645" y="10800"/>
                </a:lnTo>
                <a:lnTo>
                  <a:pt x="5558" y="17844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00000" y="0"/>
            <a:ext cx="7010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dbf7d"/>
                </a:solidFill>
                <a:latin typeface="黑体"/>
                <a:ea typeface="黑体"/>
              </a:rPr>
              <a:t>父亲是一座山，伟大而坚强。严酷的现实扭曲了情感，沉重的负担压弯了脊背，他从无怨言，默默地用点点血汗，以透支的生命为儿女们开出一条成功之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</a:rPr>
              <a:t>世间的情千万种，只有爱最崇高；世间的爱千万种，惟有父母之爱最无私。时间的长河可以带走一切，但带不走父母的爱。它已深入我们的骨髓，溶入我们的血液。这爱留在我们的心中，时刻温暖我们的生命历程。</a:t>
            </a:r>
            <a:endParaRPr b="1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图片1nm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13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1476360" y="836640"/>
            <a:ext cx="6913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布置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请学习本文的写法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以一侧面来写人物的方法，如以“爸爸的手”、“妈妈的笑” ……为话题，写一篇练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7160" y="231840"/>
            <a:ext cx="8910360" cy="66261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828800" y="380880"/>
            <a:ext cx="374796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Verdana"/>
                <a:ea typeface="华文新魏"/>
              </a:rPr>
              <a:t>写作背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00000" y="1628640"/>
            <a:ext cx="6858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《背影》写于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2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月，当时作者在清华大学任教。本文是作者追忆八年前的往事。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17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冬，作者祖母去世，父亲朱鸿钧原任徐州烟酒公卖局局长，被解职。文中的“祸不单行”正是指这两件事。作者当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岁，在北大哲学系读书，得知祖母去世，从北京赶到徐州与父亲一道回扬州奔丧。丧事完毕，父亲到南京找工作，作者回北京念书，父子在浦口车站惜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843280" y="5877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x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8244000" y="6308640"/>
            <a:ext cx="900000" cy="549360"/>
          </a:xfrm>
          <a:prstGeom prst="rightArrow">
            <a:avLst>
              <a:gd name="adj1" fmla="val 50000"/>
              <a:gd name="adj2" fmla="val 409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有声读物-背影" descr=""/>
          <p:cNvPicPr/>
          <p:nvPr/>
        </p:nvPicPr>
        <p:blipFill>
          <a:blip r:embed="rId2"/>
          <a:stretch/>
        </p:blipFill>
        <p:spPr>
          <a:xfrm>
            <a:off x="468360" y="5950080"/>
            <a:ext cx="1150920" cy="647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134440" y="-23760"/>
            <a:ext cx="56905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背影》是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记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散文，写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92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。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者曾说：“我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背影》，就因为文中所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父亲的来信那句话。当时读了父亲的信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真是泪如泉涌。我父亲待我的许多好处，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别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背影》里所叙述的那一回，想起来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眼前一般无二。我这篇文只是写实，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1nm" descr=""/>
          <p:cNvPicPr/>
          <p:nvPr/>
        </p:nvPicPr>
        <p:blipFill>
          <a:blip r:embed="rId1"/>
          <a:stretch/>
        </p:blipFill>
        <p:spPr>
          <a:xfrm>
            <a:off x="0" y="1440"/>
            <a:ext cx="9036000" cy="6813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331640" y="1628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交卸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奔丧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 狼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簌簌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典质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赋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颓唐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琐屑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蹒跚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踌躇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触目伤怀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情郁于中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祸不单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8360" y="1125360"/>
            <a:ext cx="64789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iè            sāng             jí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sù                            f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uí           suǒxiè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pánsh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60199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32000" y="4653000"/>
            <a:ext cx="6767280" cy="519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2240" y="419040"/>
            <a:ext cx="49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、读下列生字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022200" y="26028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99"/>
                </a:solidFill>
                <a:latin typeface="Tahoma"/>
              </a:rPr>
              <a:t>思      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32000" y="981000"/>
            <a:ext cx="590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《背影》这篇散文因其成功地描述了“父爱”这一主题而被人们广为传诵。读完这篇散文之后，你觉得作者是通过选取什么角度来表达“父爱”这一主题的？ 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32000" y="5013360"/>
            <a:ext cx="5327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ahoma"/>
              </a:rPr>
              <a:t>作者是通过选取“背影”这个角度来表达“父爱”这一主题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" y="1752480"/>
            <a:ext cx="1219320" cy="3810240"/>
          </a:xfrm>
          <a:prstGeom prst="upDownArrow">
            <a:avLst>
              <a:gd name="adj1" fmla="val 50000"/>
              <a:gd name="adj2" fmla="val 62498"/>
            </a:avLst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1981080"/>
            <a:ext cx="81532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82880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开篇设疑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思念父亲）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　　　　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悲凉气氛 别时家境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2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铺垫背影 细心关照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4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　　　　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刻画背影 </a:t>
            </a:r>
            <a:r>
              <a:rPr b="1" lang="zh-CN" sz="2800" spc="-1" strike="noStrike">
                <a:solidFill>
                  <a:srgbClr val="b74e07"/>
                </a:solidFill>
                <a:latin typeface="黑体"/>
                <a:ea typeface="黑体"/>
              </a:rPr>
              <a:t>望父买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　　　　 </a:t>
            </a:r>
            <a:r>
              <a:rPr b="1" lang="zh-CN" sz="3600" spc="-1" strike="noStrike">
                <a:solidFill>
                  <a:srgbClr val="b74e07"/>
                </a:solidFill>
                <a:latin typeface="Arial"/>
              </a:rPr>
              <a:t>父子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惜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别后思念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再现背影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7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244" name=""/>
            <p:cNvGrpSpPr/>
            <p:nvPr/>
          </p:nvGrpSpPr>
          <p:grpSpPr>
            <a:xfrm>
              <a:off x="425520" y="565200"/>
              <a:ext cx="711360" cy="474480"/>
              <a:chOff x="425520" y="565200"/>
              <a:chExt cx="711360" cy="474480"/>
            </a:xfrm>
          </p:grpSpPr>
          <p:sp>
            <p:nvSpPr>
              <p:cNvPr id="245" name=""/>
              <p:cNvSpPr/>
              <p:nvPr/>
            </p:nvSpPr>
            <p:spPr>
              <a:xfrm>
                <a:off x="425520" y="56520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08560" y="5652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549360" y="987480"/>
              <a:ext cx="737640" cy="474480"/>
              <a:chOff x="549360" y="987480"/>
              <a:chExt cx="737640" cy="474480"/>
            </a:xfrm>
          </p:grpSpPr>
          <p:sp>
            <p:nvSpPr>
              <p:cNvPr id="248" name=""/>
              <p:cNvSpPr/>
              <p:nvPr/>
            </p:nvSpPr>
            <p:spPr>
              <a:xfrm>
                <a:off x="549360" y="98748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918360" y="9874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51080" y="12783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1219320" y="4572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隶书"/>
              </a:rPr>
              <a:t>段落层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 rot="5400000">
            <a:off x="189720" y="3390840"/>
            <a:ext cx="1752840" cy="30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父子情深</a:t>
            </a:r>
            <a:endParaRPr b="1" lang="en-US" sz="20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828800" y="3429000"/>
            <a:ext cx="1371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回忆往事</a:t>
            </a:r>
            <a:endParaRPr b="1" lang="en-US" sz="1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010280" y="3962520"/>
            <a:ext cx="1335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宋体"/>
              </a:rPr>
              <a:t>6</a:t>
            </a:r>
            <a:endParaRPr b="0" lang="en-US" sz="2000" spc="-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宋体"/>
              <a:ea typeface="宋体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11280" y="1628640"/>
            <a:ext cx="815328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通读课文感知主要内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思考下列各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请找出本文的文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文眼”就是“揭全文主旨”的关键句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读出了文眼，就读出了中心。文眼常常出现在开头或结尾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259" name=""/>
            <p:cNvGrpSpPr/>
            <p:nvPr/>
          </p:nvGrpSpPr>
          <p:grpSpPr>
            <a:xfrm>
              <a:off x="425520" y="565200"/>
              <a:ext cx="711360" cy="474480"/>
              <a:chOff x="425520" y="565200"/>
              <a:chExt cx="711360" cy="474480"/>
            </a:xfrm>
          </p:grpSpPr>
          <p:sp>
            <p:nvSpPr>
              <p:cNvPr id="260" name=""/>
              <p:cNvSpPr/>
              <p:nvPr/>
            </p:nvSpPr>
            <p:spPr>
              <a:xfrm>
                <a:off x="425520" y="565200"/>
                <a:ext cx="437400" cy="4744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08560" y="5652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49360" y="987480"/>
              <a:ext cx="737640" cy="474480"/>
              <a:chOff x="549360" y="987480"/>
              <a:chExt cx="737640" cy="474480"/>
            </a:xfrm>
          </p:grpSpPr>
          <p:sp>
            <p:nvSpPr>
              <p:cNvPr id="263" name=""/>
              <p:cNvSpPr/>
              <p:nvPr/>
            </p:nvSpPr>
            <p:spPr>
              <a:xfrm>
                <a:off x="549360" y="987480"/>
                <a:ext cx="421560" cy="4744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918360" y="9874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51080" y="12783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476360" y="47628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整体感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1700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4360" y="1700280"/>
            <a:ext cx="82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请找出本文的文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55640" y="1844640"/>
            <a:ext cx="7086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273" name=""/>
            <p:cNvGrpSpPr/>
            <p:nvPr/>
          </p:nvGrpSpPr>
          <p:grpSpPr>
            <a:xfrm>
              <a:off x="425520" y="565200"/>
              <a:ext cx="711360" cy="474480"/>
              <a:chOff x="425520" y="565200"/>
              <a:chExt cx="711360" cy="474480"/>
            </a:xfrm>
          </p:grpSpPr>
          <p:sp>
            <p:nvSpPr>
              <p:cNvPr id="274" name=""/>
              <p:cNvSpPr/>
              <p:nvPr/>
            </p:nvSpPr>
            <p:spPr>
              <a:xfrm>
                <a:off x="425520" y="565200"/>
                <a:ext cx="437400" cy="4744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08560" y="5652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549360" y="987480"/>
              <a:ext cx="737640" cy="474480"/>
              <a:chOff x="549360" y="987480"/>
              <a:chExt cx="737640" cy="474480"/>
            </a:xfrm>
          </p:grpSpPr>
          <p:sp>
            <p:nvSpPr>
              <p:cNvPr id="277" name=""/>
              <p:cNvSpPr/>
              <p:nvPr/>
            </p:nvSpPr>
            <p:spPr>
              <a:xfrm>
                <a:off x="549360" y="987480"/>
                <a:ext cx="421560" cy="4744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918360" y="9874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451080" y="12783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219320" y="4572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整体感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42920" y="234936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我最不能忘记的是他的背影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4360" y="3213000"/>
            <a:ext cx="678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28720" y="3502080"/>
            <a:ext cx="66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文中一共写了父亲几次背影？请同学们找出句子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2:38:46Z</dcterms:created>
  <dc:creator>user</dc:creator>
  <dc:description/>
  <dc:language>en-US</dc:language>
  <cp:lastModifiedBy>User</cp:lastModifiedBy>
  <cp:lastPrinted>1900-01-04T05:08:28Z</cp:lastPrinted>
  <dcterms:modified xsi:type="dcterms:W3CDTF">2010-10-13T00:37:45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