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435-137A-45AA-89F7-36281890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F5F-D905-4626-9A77-0FF8382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374-4F33-4600-8D73-9B767A55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C1B-FE91-4369-BAFD-59C15B37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C40-6FD9-45F7-BC42-23688820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6F8-10BD-492D-B3FF-E01FB73C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D5B-CA66-4164-80FD-22C8D32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C1E-413C-49EB-B216-4B379F94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BBC-9B65-4ED9-ABE9-5B16453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EDD-2DFD-4FA7-9E42-B87AAEF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D51-1ABB-4927-AF92-D01652A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7FB-9408-429B-9D15-AF8D333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7E65-E17B-4B0A-9935-85F6D45B3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sh5-2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1295280"/>
            <a:ext cx="693432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陋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刘禹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13874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联系现实，发表见解：有学生学了刘禹锡的《陋室铭》后仿写了一篇《学生铭》，你觉得它反映的是何种学习态度？你对这样的学生是如何看待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80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拓展探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360" y="3048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不在高，及格就行。学不在深，作弊简则灵。斯是教室，惟吾闲情。小说传得快，杂志翻得勤。琢磨打篮球，寻思游戏厅。可以打瞌睡，观窗景。无书声之乱耳 ，无复习之劳心。自习说闲话，讲课听不进。心里说：“混张文凭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下一页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下一页" descr=""/>
          <p:cNvPicPr/>
          <p:nvPr/>
        </p:nvPicPr>
        <p:blipFill>
          <a:blip r:embed="rId3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hwqy0901-c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返回" descr=""/>
          <p:cNvPicPr/>
          <p:nvPr/>
        </p:nvPicPr>
        <p:blipFill>
          <a:blip r:embed="rId3"/>
          <a:stretch/>
        </p:blipFill>
        <p:spPr>
          <a:xfrm>
            <a:off x="8381880" y="6359400"/>
            <a:ext cx="762120" cy="4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3280" cy="7314480"/>
            <a:chOff x="0" y="0"/>
            <a:chExt cx="9143280" cy="7314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280" cy="73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90040" y="497520"/>
              <a:ext cx="802980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3200" y="460440"/>
              <a:ext cx="66175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返回" descr=""/>
          <p:cNvPicPr/>
          <p:nvPr/>
        </p:nvPicPr>
        <p:blipFill>
          <a:blip r:embed="rId4"/>
          <a:stretch/>
        </p:blipFill>
        <p:spPr>
          <a:xfrm>
            <a:off x="8381880" y="6359400"/>
            <a:ext cx="762120" cy="49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0" b="19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6d9587"/>
            </a:solidFill>
            <a:miter/>
          </a:ln>
        </p:spPr>
      </p:pic>
      <p:pic>
        <p:nvPicPr>
          <p:cNvPr id="93" name="返回" descr=""/>
          <p:cNvPicPr/>
          <p:nvPr/>
        </p:nvPicPr>
        <p:blipFill>
          <a:blip r:embed="rId3"/>
          <a:stretch/>
        </p:blipFill>
        <p:spPr>
          <a:xfrm>
            <a:off x="8381880" y="6359400"/>
            <a:ext cx="762120" cy="498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18730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结   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sh5-2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09680" y="1295280"/>
            <a:ext cx="693432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陋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刘禹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762120"/>
            <a:ext cx="3048120" cy="4952880"/>
            <a:chOff x="380880" y="762120"/>
            <a:chExt cx="3048120" cy="49528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83920" y="1204920"/>
              <a:ext cx="2631960" cy="4064760"/>
            </a:xfrm>
            <a:prstGeom prst="rect">
              <a:avLst/>
            </a:prstGeom>
            <a:ln w="76320">
              <a:solidFill>
                <a:srgbClr val="996600"/>
              </a:solidFill>
              <a:miter/>
            </a:ln>
          </p:spPr>
        </p:pic>
        <p:pic>
          <p:nvPicPr>
            <p:cNvPr id="48" name="画框04" descr=""/>
            <p:cNvPicPr/>
            <p:nvPr/>
          </p:nvPicPr>
          <p:blipFill>
            <a:blip r:embed="rId3"/>
            <a:stretch/>
          </p:blipFill>
          <p:spPr>
            <a:xfrm>
              <a:off x="380880" y="762120"/>
              <a:ext cx="3048120" cy="495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2" descr=""/>
          <p:cNvPicPr/>
          <p:nvPr/>
        </p:nvPicPr>
        <p:blipFill>
          <a:blip r:embed="rId4"/>
          <a:stretch/>
        </p:blipFill>
        <p:spPr>
          <a:xfrm>
            <a:off x="685800" y="1066680"/>
            <a:ext cx="243828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62520" y="1143000"/>
            <a:ext cx="464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刘禹锡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文学家、哲学家。字梦得，洛阳人，其诗通俗清新，善用比兴寄托手法。有《竹枝词》《杨柳枝词》和《插田歌》等组诗，富有民歌特色，为唐诗中别开生面之作。其诗文收集在《刘梦得文集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1371600"/>
            <a:ext cx="63248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体裁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铭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铭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就是记载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古代将提醒自己的文字刻在器物上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永记不忘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后来便逐渐发展成为一种文体</a:t>
            </a: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下一页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00240" y="1219320"/>
            <a:ext cx="733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采用多种方式朗读课文，要求把握节奏，读准字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根据注释翻译课文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程颐说：“学者先要会疑。”你认为这篇文章有什么值得研究的问题，请提出来让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88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整体感知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疏通句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整体感知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疏通句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1219320"/>
            <a:ext cx="733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采用多种方式朗读课文，要求把握节奏，读准字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根据注释翻译课文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程颐说：“学者先要会疑。”你认为这篇文章有什么值得研究的问题，请提出来让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609480"/>
            <a:ext cx="76201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陋室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刘禹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山不在高，有仙则名。水不在深，有龙则灵。斯是陋室，惟吾德馨。苔痕上阶绿，草色入帘青。谈笑有鸿儒，往来无白丁。可以调素琴，阅金经。无丝竹之乱耳，无案牍之劳形。南阳诸葛庐，西蜀子云亭。孔子云：“何陋之有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066680" y="342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下一页" descr=""/>
          <p:cNvPicPr/>
          <p:nvPr/>
        </p:nvPicPr>
        <p:blipFill>
          <a:blip r:embed="rId3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129528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你知道统领全文的词语是什么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本文是从哪几个方面来写陋室的？抒发了作者怎样的情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合作探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下一页" descr=""/>
          <p:cNvPicPr/>
          <p:nvPr/>
        </p:nvPicPr>
        <p:blipFill>
          <a:blip r:embed="rId3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38560" y="190512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德 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295280"/>
            <a:ext cx="1676520" cy="2514600"/>
          </a:xfrm>
          <a:prstGeom prst="rightArrowCallout">
            <a:avLst>
              <a:gd name="adj1" fmla="val 37501"/>
              <a:gd name="adj2" fmla="val 37497"/>
              <a:gd name="adj3" fmla="val 16667"/>
              <a:gd name="adj4" fmla="val 6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61720" y="137160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居室环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048120"/>
            <a:ext cx="3047760" cy="1371600"/>
          </a:xfrm>
          <a:prstGeom prst="upArrowCallout">
            <a:avLst>
              <a:gd name="adj1" fmla="val 55556"/>
              <a:gd name="adj2" fmla="val 55551"/>
              <a:gd name="adj3" fmla="val 16667"/>
              <a:gd name="adj4" fmla="val 6666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4290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交往人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1295280"/>
            <a:ext cx="1676160" cy="2514600"/>
          </a:xfrm>
          <a:prstGeom prst="leftArrowCallout">
            <a:avLst>
              <a:gd name="adj1" fmla="val 37509"/>
              <a:gd name="adj2" fmla="val 37505"/>
              <a:gd name="adj3" fmla="val 16667"/>
              <a:gd name="adj4" fmla="val 66673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10040" y="137160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日常生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04920"/>
            <a:ext cx="38862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陋室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下一页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689040" cy="45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4876920"/>
            <a:ext cx="7620120" cy="642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文章表达了作者安贫乐道的情趣和不慕名利的节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2:06:31Z</dcterms:created>
  <dc:creator>聂小英</dc:creator>
  <dc:description/>
  <dc:language>en-US</dc:language>
  <cp:lastModifiedBy>番茄花园</cp:lastModifiedBy>
  <dcterms:modified xsi:type="dcterms:W3CDTF">2009-04-13T14:35:54Z</dcterms:modified>
  <cp:revision>17</cp:revision>
  <dc:subject/>
  <dc:title>PowerPoint 演示文稿</dc:title>
</cp:coreProperties>
</file>