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1.jpeg" ContentType="image/jpeg"/>
  <Override PartName="/ppt/media/image7.gif" ContentType="image/gif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E7C-477A-4999-B9F7-6B74A686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D60-6B2C-41F3-9220-E3AAB2DD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9BC-B225-49F7-B253-B2557CB6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803-BD01-4447-A40D-56F8EFDA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D1E-C0E6-49D6-B520-800772AF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BA8-01D9-4F50-B38C-14ABCA18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1D9-ACEF-401F-BFF7-A4B3C73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EF96-36C3-45DC-B79A-A65F8C5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7FC-E987-4F20-ADD6-1D7FA1AD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AF56-3F7C-42E1-A737-33FF5417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F925-1560-42B9-AA35-9757920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416-1987-47A7-88E1-31E94B1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2F8-FB64-403F-9847-32BD68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BAF-9001-4D43-8C71-72E33275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AB1-7F3C-48E9-9AAD-9C6D389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5B7-4FE6-4C4D-AA5E-EB6BE634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FA87-7759-4D40-992F-B1C711B8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8D0-8A2E-47A8-B5ED-EBE41A02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2C9-E20A-40EA-BBA7-D8BAAA81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000-AD02-4F1C-ADC6-FE3704D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4CF-48D1-4853-9198-8E6A02D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2A5-436F-4890-8517-1E506F5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3B2-2DAF-4955-8B1F-4E6F0DB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03D-9621-410E-A03C-E2CA5A9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C54-8B85-486C-8258-59B974C9A349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320-5C59-4EBF-97E7-E7B0E13603B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p.pcpop.com/p070524/0003333087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82520" y="266688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主演：汤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汉克斯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5400" y="782640"/>
            <a:ext cx="170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行楷"/>
              </a:rPr>
              <a:t>奔跑的童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《阿甘正传》电影赏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3810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专注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你只有忘了以前的事，才能不断继续前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558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信任、友善、忠诚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隶书"/>
              </a:rPr>
              <a:t>从阿甘的经历里你得到什么启发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6858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战后的美国人是迷茫的一代，战争的残酷使得人们对人性失去信心，优裕的生活使得人们失去了生活的目标。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阿甘的背先天挺不直，被套上腿箍，又摆脱了腿箍，正象征着“垮掉的一代”和这一代人的回归——精神上、价值观上的回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《阿甘正传》讲述的是</a:t>
            </a:r>
            <a:r>
              <a:rPr b="1" lang="zh-CN" sz="2800" spc="-1" strike="noStrike">
                <a:solidFill>
                  <a:srgbClr val="cc0066"/>
                </a:solidFill>
                <a:latin typeface="隶书"/>
                <a:ea typeface="隶书"/>
              </a:rPr>
              <a:t>战后一代美国人重塑价值观的心灵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52280"/>
            <a:ext cx="7543800" cy="1447920"/>
          </a:xfrm>
          <a:custGeom>
            <a:avLst/>
            <a:gdLst>
              <a:gd name="textAreaLeft" fmla="*/ 0 w 7543800"/>
              <a:gd name="textAreaRight" fmla="*/ 7544160 w 754380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3ee10"/>
                </a:solidFill>
                <a:latin typeface="Arial"/>
                <a:ea typeface="华文行楷"/>
              </a:rPr>
              <a:t>《阿甘正传》的象征意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影片中的阿甘对人只懂付出不求回报，从不介意别人拒绝，他只是豁达、坦荡地面对生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把自己仅有的智慧、信念、勇气集中在一点，他什么都不顾，只知道凭着直觉在路上不停地跑，他跑过了儿时同学的歧视、跑过了大学的足球场、跑过了炮火纷飞的越战泥潭、跑过了乒乓外交的战场、跑遍了全美国，并且最终跑到了他的终点。 这是一个永远“在路上”的过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小结：影视欣赏的基本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了解作品的背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通过某些特定的情节去分析人物的典型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得出自己对作品独特的理解或感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3160" y="1371600"/>
            <a:ext cx="789840" cy="487692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新細明體"/>
              </a:rPr>
              <a:t>电　影　情　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98108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冲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05740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是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41972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曲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495680"/>
            <a:ext cx="167652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33"/>
                </a:solidFill>
                <a:latin typeface="Arial"/>
                <a:ea typeface="新細明體"/>
              </a:rPr>
              <a:t>悬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66960" y="1219320"/>
            <a:ext cx="789840" cy="502920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新細明體"/>
              </a:rPr>
              <a:t>人　生　缩　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371600"/>
            <a:ext cx="6553080" cy="48769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809880"/>
            <a:ext cx="6553080" cy="0"/>
          </a:xfrm>
          <a:prstGeom prst="line">
            <a:avLst/>
          </a:prstGeom>
          <a:ln w="7632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00600" cy="914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Arial"/>
              </a:rPr>
              <a:t>电影与人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什么是影视艺术欣赏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81080"/>
            <a:ext cx="7458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影视艺术欣赏是对影视艺术片的审美把握和审美评价，是人们在观赏影视艺术品时所产生的一种高层次的审美心理活动，是视听者对作品的感受、顿悟、理解，并获得审美享受、做出审美评判的过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543800" cy="36576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２０世纪９０年代，美国社会的反智情绪高涨，好莱坞于是推出了一批贬低现代文明、崇尚低智商和回归原始的影片，美国媒体称之为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“反智电影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《阿甘正传》美国“反智电影”的代表作，展现历史与个人的约定，是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以小人物的经历透视美国政治社会史的史诗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33520"/>
            <a:ext cx="6858000" cy="1403280"/>
          </a:xfrm>
          <a:custGeom>
            <a:avLst/>
            <a:gdLst>
              <a:gd name="textAreaLeft" fmla="*/ 0 w 6858000"/>
              <a:gd name="textAreaRight" fmla="*/ 6858360 w 6858000"/>
              <a:gd name="textAreaTop" fmla="*/ 181800 h 1403280"/>
              <a:gd name="textAreaBottom" fmla="*/ 122148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38280" y="762120"/>
            <a:ext cx="4953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影片社会背景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343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影片以一片羽毛贯穿了时空，用阿甘在车站向路人叙述的方式，表面上展示了阿甘充满传奇色彩的一生，实际上展示了美国战后的历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透过剧中主角阿甘的经历，让我们看到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1950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年到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年的美国历史，期间历经艾森豪威尔威尔、肯尼迪、约翰逊、尼克松、福特、卡特、里根等多位美国总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隶书"/>
                <a:ea typeface="隶书"/>
              </a:rPr>
              <a:t>电影内容不仅有美国政治、社会、文化变迁，也和世界局势息息相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52280"/>
            <a:ext cx="7620120" cy="1600200"/>
          </a:xfrm>
          <a:custGeom>
            <a:avLst/>
            <a:gdLst>
              <a:gd name="textAreaLeft" fmla="*/ 0 w 7620120"/>
              <a:gd name="textAreaRight" fmla="*/ 7620480 w 7620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7400" y="45720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剧情介绍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2844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9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的第六十七届奥斯卡金像奖最佳影片的角逐中，影片《阿甘正传》一举获得了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最佳影片、最佳男主角、最佳导演、最佳改编剧本、最佳剪辑和最佳视觉效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项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奖。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3720" y="4572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获 奖 情 况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44197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219320" y="990720"/>
            <a:ext cx="200016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438280"/>
            <a:ext cx="8382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989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51460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认为智商只有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75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的阿甘成功的原因在哪里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9480" y="4844880"/>
            <a:ext cx="8153640" cy="9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华文隶书"/>
              </a:rPr>
              <a:t>执着—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华文隶书"/>
              </a:rPr>
              <a:t>认真地做，傻傻地执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5334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3962160" cy="45720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诚信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promise is a promi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81024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63软件园</cp:lastModifiedBy>
  <dcterms:modified xsi:type="dcterms:W3CDTF">2010-04-23T07:48:57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