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11.jpeg" ContentType="image/jpeg"/>
  <Override PartName="/ppt/media/image7.gif" ContentType="image/gif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3F5-FA7E-4992-830B-4C32B587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D51-C0A7-4809-BD69-E334FBB7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6B3-7797-41F1-A404-D32B8CEC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E01-FD49-4910-BEBC-C707309E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35F9-9BBD-42B5-BF1D-1E766CCA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F5D1-C7DF-4785-950C-CB2BCBF2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3D4A-E04A-41FC-989A-754DE4D2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6F6A-09F5-4266-BC64-5EB12058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910B-158D-4612-8B7B-073993EA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EAA6-A495-4EE6-A9E5-5F7CE9BC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1DDD-EED4-45B1-9C48-0ED1CBF0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87A-94B1-42F9-8428-8B7D4838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D506-3462-4766-BDCC-F885EC0D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77FE-70E7-49AA-8E61-D503545B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D973-6106-4EBE-89F9-BAF04C20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8FE7-29D4-40D1-AE79-B8152391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BDFD-8D98-4A8D-9908-ACEA08E5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96B-1C9D-4A6D-9A44-58031474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B0F-110D-4B60-9C92-308B9763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3D6-0FCD-40F1-9A38-6735C17E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B4C-0B12-433B-8D15-147E9F63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0E4-20ED-4DEC-A86F-95CC9BF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D84-E617-49E2-A754-2740DB7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56C-78F9-42BD-8669-C2B629DF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AC41-909E-46E3-8DE1-863DE41CF482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CC85-B490-450A-872C-176CDF83540B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p.pcpop.com/p070524/0003333087.html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82520" y="2666880"/>
            <a:ext cx="22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主演：汤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汉克斯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5400" y="782640"/>
            <a:ext cx="1704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行楷"/>
              </a:rPr>
              <a:t>奔跑的童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《阿甘正传》电影赏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3810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专注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你只有忘了以前的事，才能不断继续前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124080" y="3048120"/>
            <a:ext cx="5581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信任、友善、忠诚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6858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隶书"/>
              </a:rPr>
              <a:t>从阿甘的经历里你得到什么启发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371600" y="2590920"/>
            <a:ext cx="6858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战后的美国人是迷茫的一代，战争的残酷使得人们对人性失去信心，优裕的生活使得人们失去了生活的目标。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阿甘的背先天挺不直，被套上腿箍，又摆脱了腿箍，正象征着“垮掉的一代”和这一代人的回归——精神上、价值观上的回归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《阿甘正传》讲述的是</a:t>
            </a:r>
            <a:r>
              <a:rPr b="1" lang="zh-CN" sz="2800" spc="-1" strike="noStrike">
                <a:solidFill>
                  <a:srgbClr val="cc0066"/>
                </a:solidFill>
                <a:latin typeface="隶书"/>
                <a:ea typeface="隶书"/>
              </a:rPr>
              <a:t>战后一代美国人重塑价值观的心灵史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52280"/>
            <a:ext cx="7543800" cy="1447920"/>
          </a:xfrm>
          <a:custGeom>
            <a:avLst/>
            <a:gdLst>
              <a:gd name="textAreaLeft" fmla="*/ 0 w 7543800"/>
              <a:gd name="textAreaRight" fmla="*/ 7544160 w 754380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3ee10"/>
                </a:solidFill>
                <a:latin typeface="Arial"/>
                <a:ea typeface="华文行楷"/>
              </a:rPr>
              <a:t>《阿甘正传》的象征意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影片中的阿甘对人只懂付出不求回报，从不介意别人拒绝，他只是豁达、坦荡地面对生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他把自己仅有的智慧、信念、勇气集中在一点，他什么都不顾，只知道凭着直觉在路上不停地跑，他跑过了儿时同学的歧视、跑过了大学的足球场、跑过了炮火纷飞的越战泥潭、跑过了乒乓外交的战场、跑遍了全美国，并且最终跑到了他的终点。 这是一个永远“在路上”的过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小结：影视欣赏的基本步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了解作品的背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通过某些特定的情节去分析人物的典型性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得出自己对作品独特的理解或感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23160" y="1371600"/>
            <a:ext cx="789840" cy="487692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新細明體"/>
              </a:rPr>
              <a:t>电　影　情　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981080"/>
            <a:ext cx="1752480" cy="1143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33"/>
                </a:solidFill>
                <a:latin typeface="Arial"/>
                <a:ea typeface="新細明體"/>
              </a:rPr>
              <a:t>冲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2057400"/>
            <a:ext cx="1752480" cy="1143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33"/>
                </a:solidFill>
                <a:latin typeface="Arial"/>
                <a:ea typeface="新細明體"/>
              </a:rPr>
              <a:t>是非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41972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33"/>
                </a:solidFill>
                <a:latin typeface="Arial"/>
                <a:ea typeface="新細明體"/>
              </a:rPr>
              <a:t>曲折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4495680"/>
            <a:ext cx="1676520" cy="1143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33"/>
                </a:solidFill>
                <a:latin typeface="Arial"/>
                <a:ea typeface="新細明體"/>
              </a:rPr>
              <a:t>悬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66960" y="1219320"/>
            <a:ext cx="789840" cy="5029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新細明體"/>
              </a:rPr>
              <a:t>人　生　缩　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371600"/>
            <a:ext cx="6553080" cy="48769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809880"/>
            <a:ext cx="6553080" cy="0"/>
          </a:xfrm>
          <a:prstGeom prst="line">
            <a:avLst/>
          </a:prstGeom>
          <a:ln w="7632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00600" cy="914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Arial"/>
              </a:rPr>
              <a:t>电影与人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什么是影视艺术欣赏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981080"/>
            <a:ext cx="7458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影视艺术欣赏是对影视艺术片的审美把握和审美评价，是人们在观赏影视艺术品时所产生的一种高层次的审美心理活动，是视听者对作品的感受、顿悟、理解，并获得审美享受、做出审美评判的过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7543800" cy="36576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２０世纪９０年代，美国社会的反智情绪高涨，好莱坞于是推出了一批贬低现代文明、崇尚低智商和回归原始的影片，美国媒体称之为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“反智电影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《阿甘正传》美国“反智电影”的代表作，展现历史与个人的约定，是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以小人物的经历透视美国政治社会史的史诗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33520"/>
            <a:ext cx="6858000" cy="1403280"/>
          </a:xfrm>
          <a:custGeom>
            <a:avLst/>
            <a:gdLst>
              <a:gd name="textAreaLeft" fmla="*/ 0 w 6858000"/>
              <a:gd name="textAreaRight" fmla="*/ 6858360 w 6858000"/>
              <a:gd name="textAreaTop" fmla="*/ 181800 h 1403280"/>
              <a:gd name="textAreaBottom" fmla="*/ 122148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38280" y="762120"/>
            <a:ext cx="4953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影片社会背景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343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影片以一片羽毛贯穿了时空，用阿甘在车站向路人叙述的方式，表面上展示了阿甘充满传奇色彩的一生，实际上展示了美国战后的历史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透过剧中主角阿甘的经历，让我们看到</a:t>
            </a: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1950</a:t>
            </a: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年到</a:t>
            </a: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年的美国历史，期间历经艾森豪威尔威尔、肯尼迪、约翰逊、尼克松、福特、卡特、里根等多位美国总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电影内容不仅有美国政治、社会、文化变迁，也和世界局势息息相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52280"/>
            <a:ext cx="7620120" cy="1600200"/>
          </a:xfrm>
          <a:custGeom>
            <a:avLst/>
            <a:gdLst>
              <a:gd name="textAreaLeft" fmla="*/ 0 w 7620120"/>
              <a:gd name="textAreaRight" fmla="*/ 7620480 w 762012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57400" y="457200"/>
            <a:ext cx="4952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剧情介绍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2844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9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的第六十七届奥斯卡金像奖最佳影片的角逐中，影片《阿甘正传》一举获得了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最佳影片、最佳男主角、最佳导演、最佳改编剧本、最佳剪辑和最佳视觉效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项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奖。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33720" y="45720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获 奖 情 况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4419720"/>
            <a:ext cx="8534160" cy="2438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219320" y="990720"/>
            <a:ext cx="200016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438280"/>
            <a:ext cx="8382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98960" y="497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51460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你认为智商只有</a:t>
            </a:r>
            <a:r>
              <a:rPr b="1" lang="zh-CN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75</a:t>
            </a:r>
            <a:r>
              <a:rPr b="1" lang="zh-CN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的阿甘成功的原因在哪里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9480" y="4844880"/>
            <a:ext cx="8153640" cy="9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华文隶书"/>
              </a:rPr>
              <a:t>执着——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华文隶书"/>
              </a:rPr>
              <a:t>认真地做，傻傻地执行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5334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3962160" cy="45720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诚信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 promise is a promi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810240" cy="472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63软件园</cp:lastModifiedBy>
  <dcterms:modified xsi:type="dcterms:W3CDTF">2010-04-23T07:48:57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